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0D9-03E5-4453-9A3C-24502C3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8A2-6169-4FE9-A446-78007BE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CCC-3D78-4032-9730-E2976EF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C0C-17D1-4B8E-A4A2-ACBC3D8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D13-EB08-4891-890C-9E7F23B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8EE-FA88-420F-BD1C-054C59AD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2E1-7845-4838-9596-1E3424F9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2D0-D4CE-422E-BE31-8EB4A117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0D8-D179-4876-B7DD-63276088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618-78A7-4027-9064-7694588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900-55BD-4BB4-8AD5-FB8EC12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72B-43DF-4570-9D76-EA07BE6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E082BA67-6E49-4A91-A200-2462398356A0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4381560" cy="43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23920" y="5105160"/>
            <a:ext cx="5745240" cy="1523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frogs and to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Cooper Black"/>
              </a:rPr>
              <a:t>Name That Fro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696080" y="3808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5638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752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48720" y="1828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210680" y="43434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54296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T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Tree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 Tree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Pee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 Leopard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95680" y="495288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7010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04920"/>
            <a:ext cx="5790960" cy="2143080"/>
            <a:chOff x="304920" y="304920"/>
            <a:chExt cx="5790960" cy="2143080"/>
          </a:xfrm>
        </p:grpSpPr>
        <p:grpSp>
          <p:nvGrpSpPr>
            <p:cNvPr id="64" name=""/>
            <p:cNvGrpSpPr/>
            <p:nvPr/>
          </p:nvGrpSpPr>
          <p:grpSpPr>
            <a:xfrm>
              <a:off x="304920" y="304920"/>
              <a:ext cx="5790960" cy="2143080"/>
              <a:chOff x="304920" y="304920"/>
              <a:chExt cx="5790960" cy="2143080"/>
            </a:xfrm>
          </p:grpSpPr>
          <p:pic>
            <p:nvPicPr>
              <p:cNvPr id="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304920"/>
                <a:ext cx="2857320" cy="21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3200400" y="3808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- American Toa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 txBox="1"/>
            <p:nvPr/>
          </p:nvSpPr>
          <p:spPr>
            <a:xfrm>
              <a:off x="380880" y="17524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4920" y="2819520"/>
            <a:ext cx="5410080" cy="2143080"/>
            <a:chOff x="304920" y="2819520"/>
            <a:chExt cx="5410080" cy="21430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04920" y="281952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 txBox="1"/>
            <p:nvPr/>
          </p:nvSpPr>
          <p:spPr>
            <a:xfrm>
              <a:off x="2743200" y="28954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30481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- Bull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038480" y="4343400"/>
            <a:ext cx="2971800" cy="3467160"/>
            <a:chOff x="4038480" y="4343400"/>
            <a:chExt cx="2971800" cy="346716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495680" y="4952880"/>
              <a:ext cx="21430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4648320" y="7010280"/>
              <a:ext cx="30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8480" y="4343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- Green Tree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4920" y="5191200"/>
            <a:ext cx="3733560" cy="2590560"/>
            <a:chOff x="304920" y="5191200"/>
            <a:chExt cx="3733560" cy="2590560"/>
          </a:xfrm>
        </p:grpSpPr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304920" y="56386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380880" y="579132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280" y="5191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Gray Tree Fro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257800" y="380880"/>
            <a:ext cx="5295960" cy="2143080"/>
            <a:chOff x="5257800" y="380880"/>
            <a:chExt cx="5295960" cy="214308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7696080" y="38088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 txBox="1"/>
            <p:nvPr/>
          </p:nvSpPr>
          <p:spPr>
            <a:xfrm>
              <a:off x="7848720" y="182880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2193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- Spring Pee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10080" y="3048120"/>
            <a:ext cx="5143680" cy="2143080"/>
            <a:chOff x="5410080" y="3048120"/>
            <a:chExt cx="5143680" cy="2143080"/>
          </a:xfrm>
        </p:grpSpPr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7696080" y="304812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10210680" y="43434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312408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- Norther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opar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10280" y="5257800"/>
            <a:ext cx="3619800" cy="2600280"/>
            <a:chOff x="7010280" y="5257800"/>
            <a:chExt cx="3619800" cy="2600280"/>
          </a:xfrm>
        </p:grpSpPr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7772400" y="57150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7848720" y="579132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02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- Woo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2:07Z</dcterms:modified>
  <cp:revision>86</cp:revision>
  <dc:subject/>
  <dc:title>Who am I?</dc:title>
</cp:coreProperties>
</file>