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945-E48D-418E-9CA9-4E8AEE3D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9FE-F823-4F66-A868-D69D0881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04D-4F4A-469E-AD0D-D6B78C91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6AB-BC44-4F10-B384-B96CB4E4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F3A-E095-40C0-8B7F-231E3F8E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67E-51A2-45C6-9441-E0126B48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F97-7E93-4FFD-B8A1-6320F0D4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E52-9FD7-462E-9708-4094240B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C54-C7AA-464E-A59A-E6443C8F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951-7244-4FB5-A00A-6315689A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399-59D3-40D0-B914-F74F3934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03D-B986-40D8-9B6D-CAE5803D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8A321054-C83D-48E7-8CD2-C9ED9756837D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4381560" cy="4381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723920" y="5105160"/>
            <a:ext cx="5745240" cy="15238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frogs and to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609480"/>
            <a:ext cx="10211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Cooper Black"/>
              </a:rPr>
              <a:t>Name That Frog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79246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772400" y="5715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96080" y="30481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696080" y="3808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4920" y="56386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04920" y="30492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920" y="7912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icagoherp.org/herps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1752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43200" y="2895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5791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848720" y="1828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210680" y="43434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57913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542960"/>
            <a:ext cx="396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n To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 Tree Fro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y Tree Fro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Pee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lfro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ern Leopard Fro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 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495680" y="4952880"/>
            <a:ext cx="2143080" cy="2857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8320" y="70102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920" y="7912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icagoherp.org/herps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4920" y="304920"/>
            <a:ext cx="5790960" cy="2143080"/>
            <a:chOff x="304920" y="304920"/>
            <a:chExt cx="5790960" cy="2143080"/>
          </a:xfrm>
        </p:grpSpPr>
        <p:grpSp>
          <p:nvGrpSpPr>
            <p:cNvPr id="64" name=""/>
            <p:cNvGrpSpPr/>
            <p:nvPr/>
          </p:nvGrpSpPr>
          <p:grpSpPr>
            <a:xfrm>
              <a:off x="304920" y="304920"/>
              <a:ext cx="5790960" cy="2143080"/>
              <a:chOff x="304920" y="304920"/>
              <a:chExt cx="5790960" cy="2143080"/>
            </a:xfrm>
          </p:grpSpPr>
          <p:pic>
            <p:nvPicPr>
              <p:cNvPr id="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920" y="304920"/>
                <a:ext cx="2857320" cy="214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3200400" y="380880"/>
                <a:ext cx="28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- American Toa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 txBox="1"/>
            <p:nvPr/>
          </p:nvSpPr>
          <p:spPr>
            <a:xfrm>
              <a:off x="380880" y="1752480"/>
              <a:ext cx="3049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04920" y="2819520"/>
            <a:ext cx="5410080" cy="2143080"/>
            <a:chOff x="304920" y="2819520"/>
            <a:chExt cx="5410080" cy="214308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304920" y="281952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 txBox="1"/>
            <p:nvPr/>
          </p:nvSpPr>
          <p:spPr>
            <a:xfrm>
              <a:off x="2743200" y="2895480"/>
              <a:ext cx="3049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30481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- Bullfr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038480" y="4343400"/>
            <a:ext cx="2971800" cy="3467160"/>
            <a:chOff x="4038480" y="4343400"/>
            <a:chExt cx="2971800" cy="3467160"/>
          </a:xfrm>
        </p:grpSpPr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4495680" y="4952880"/>
              <a:ext cx="214308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 txBox="1"/>
            <p:nvPr/>
          </p:nvSpPr>
          <p:spPr>
            <a:xfrm>
              <a:off x="4648320" y="7010280"/>
              <a:ext cx="3045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38480" y="43434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- Green Tree Fr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04920" y="5191200"/>
            <a:ext cx="3733560" cy="2590560"/>
            <a:chOff x="304920" y="5191200"/>
            <a:chExt cx="3733560" cy="2590560"/>
          </a:xfrm>
        </p:grpSpPr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304920" y="563868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 txBox="1"/>
            <p:nvPr/>
          </p:nvSpPr>
          <p:spPr>
            <a:xfrm>
              <a:off x="380880" y="579132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95280" y="51912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– Gray Tree Fro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257800" y="380880"/>
            <a:ext cx="5295960" cy="2143080"/>
            <a:chOff x="5257800" y="380880"/>
            <a:chExt cx="5295960" cy="2143080"/>
          </a:xfrm>
        </p:grpSpPr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7696080" y="380880"/>
              <a:ext cx="285768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 txBox="1"/>
            <p:nvPr/>
          </p:nvSpPr>
          <p:spPr>
            <a:xfrm>
              <a:off x="7848720" y="1828800"/>
              <a:ext cx="3045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2193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- Spring Pee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410080" y="3048120"/>
            <a:ext cx="5143680" cy="2143080"/>
            <a:chOff x="5410080" y="3048120"/>
            <a:chExt cx="5143680" cy="2143080"/>
          </a:xfrm>
        </p:grpSpPr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7696080" y="3048120"/>
              <a:ext cx="285768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 txBox="1"/>
            <p:nvPr/>
          </p:nvSpPr>
          <p:spPr>
            <a:xfrm>
              <a:off x="10210680" y="4343400"/>
              <a:ext cx="30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10080" y="3124080"/>
              <a:ext cx="26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- Northern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opard Fr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010280" y="5257800"/>
            <a:ext cx="3619800" cy="2600280"/>
            <a:chOff x="7010280" y="5257800"/>
            <a:chExt cx="3619800" cy="2600280"/>
          </a:xfrm>
        </p:grpSpPr>
        <p:pic>
          <p:nvPicPr>
            <p:cNvPr id="89" name="" descr=""/>
            <p:cNvPicPr/>
            <p:nvPr/>
          </p:nvPicPr>
          <p:blipFill>
            <a:blip r:embed="rId7"/>
            <a:stretch/>
          </p:blipFill>
          <p:spPr>
            <a:xfrm>
              <a:off x="7772400" y="5715000"/>
              <a:ext cx="285768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7848720" y="5791320"/>
              <a:ext cx="3045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10280" y="52578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- Wood Fr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2:07Z</dcterms:modified>
  <cp:revision>86</cp:revision>
  <dc:subject/>
  <dc:title>Who am I?</dc:title>
</cp:coreProperties>
</file>