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92B-A156-496D-9C74-A71D59EC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F9C-4FDF-4D63-A1F1-E9CC97F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7FC-A20B-4A5F-89BE-4587138F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36A-FC9C-43A8-BD2B-362AEF9E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A56-CEDA-4122-AD28-A2585F8B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640-EC21-4EE1-8DF8-0C7D6F4A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919-F28A-4699-9C9B-A0B0AE6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D9E-3F81-40C6-B67C-8FD13A10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A59-10D4-4A06-B7D6-9C4D299B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600-173C-4AB5-9787-EF085F5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23B-6651-432E-B192-C381AE4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E6D-DB19-4D81-B401-0D8903C2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F8CB481F-DE01-4B0B-A896-3D5320D61D33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790960"/>
            <a:ext cx="5745240" cy="14634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identify these fish found in Illino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09480"/>
            <a:ext cx="102110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Fish of Illinoi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105520"/>
            <a:ext cx="4352760" cy="27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0683" r="13333" b="0"/>
          <a:stretch/>
        </p:blipFill>
        <p:spPr>
          <a:xfrm>
            <a:off x="304920" y="5562720"/>
            <a:ext cx="3352680" cy="24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15200" y="2990880"/>
            <a:ext cx="3429000" cy="2400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47960" y="5829480"/>
            <a:ext cx="3429000" cy="179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315200" y="563868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3429000" cy="23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28600" y="2990880"/>
            <a:ext cx="3505320" cy="241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66760" y="228600"/>
            <a:ext cx="3429000" cy="2400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088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00400" y="30862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791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46748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2106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620120" y="5791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914400"/>
            <a:ext cx="3504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llow Pe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dle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g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head Cat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tted B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Crap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6560" y="67438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710160" y="78487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dnr.state.il.us/lands/education/fish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20683" r="13333" b="0"/>
          <a:stretch/>
        </p:blipFill>
        <p:spPr>
          <a:xfrm>
            <a:off x="304920" y="5562720"/>
            <a:ext cx="3352680" cy="244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15200" y="2990880"/>
            <a:ext cx="3429000" cy="24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747960" y="5829480"/>
            <a:ext cx="3429000" cy="179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315200" y="563868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3429000" cy="2371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28600" y="2990880"/>
            <a:ext cx="3505320" cy="2419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66760" y="228600"/>
            <a:ext cx="3429000" cy="240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8088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00400" y="30862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791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46748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2106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0120" y="5791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82600"/>
            <a:ext cx="350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Paddle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Common C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Flathead Cat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Spotted B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– Blueg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– Yellow Pe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Black Crap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76560" y="67438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3710160" y="78487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dnr.state.il.us/lands/education/fish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0:33Z</dcterms:modified>
  <cp:revision>89</cp:revision>
  <dc:subject/>
  <dc:title>Who am I?</dc:title>
</cp:coreProperties>
</file>