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5AB-1F59-4207-ACEE-7848D9C5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C5F-665D-429C-89D3-A5B7FB6C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505-3C58-4463-9C28-6BBCDA50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9A0-BAA4-4043-9D45-E12C6B91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148-741C-4AFC-936A-34EECC83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406-F2AC-41DC-8A87-BE0364E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80D-3FE7-4121-82B2-D49FFE44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089-AC57-45D2-BE81-49243FB9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3AF-1904-461D-8CB7-4287447E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6DE-BE64-40FA-9C19-0AE0BEB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17D-6670-4B2B-B009-128CCBF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2A2-FCA5-4F6B-B0E1-1337296B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8CA4D3B7-29AE-4F0B-AD75-1C3522D255E8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790960"/>
            <a:ext cx="5745240" cy="14634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fish found in Illino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102110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Fish of Illinoi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105520"/>
            <a:ext cx="4352760" cy="27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0683" r="13333" b="0"/>
          <a:stretch/>
        </p:blipFill>
        <p:spPr>
          <a:xfrm>
            <a:off x="304920" y="5562720"/>
            <a:ext cx="3352680" cy="24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15200" y="2990880"/>
            <a:ext cx="34290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47960" y="5829480"/>
            <a:ext cx="3429000" cy="179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315200" y="563868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3429000" cy="23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28600" y="2990880"/>
            <a:ext cx="3505320" cy="241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66760" y="228600"/>
            <a:ext cx="3429000" cy="240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08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00400" y="3086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4674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210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0120" y="5791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914400"/>
            <a:ext cx="3504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dle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g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head Cat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tted B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Crap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6560" y="6743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710160" y="78487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dnr.state.il.us/lands/education/fish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20683" r="13333" b="0"/>
          <a:stretch/>
        </p:blipFill>
        <p:spPr>
          <a:xfrm>
            <a:off x="304920" y="5562720"/>
            <a:ext cx="3352680" cy="24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15200" y="2990880"/>
            <a:ext cx="3429000" cy="24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747960" y="5829480"/>
            <a:ext cx="3429000" cy="179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315200" y="563868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3429000" cy="2371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28600" y="2990880"/>
            <a:ext cx="3505320" cy="241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66760" y="228600"/>
            <a:ext cx="3429000" cy="240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808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3086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674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210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0120" y="5791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82600"/>
            <a:ext cx="350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Paddle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Common C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Flathead Cat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Spotted B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– Blueg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Yellow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Black Crap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76560" y="6743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710160" y="78487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dnr.state.il.us/lands/education/fish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0:33Z</dcterms:modified>
  <cp:revision>89</cp:revision>
  <dc:subject/>
  <dc:title>Who am I?</dc:title>
</cp:coreProperties>
</file>