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09F-2B04-4387-9444-4DE697D9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FBD-3B74-456B-9281-33684E0B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44A-5578-42D7-9972-06DA1A5A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CDB-8732-4BDD-B531-B1710D51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196-BCE1-470E-A32F-9F99492B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326-2F3B-49EA-B556-542F4ADE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42D-C0DA-4553-BD4B-11BE91B2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15E-66E3-4853-A89A-5CBF9708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B004-D7F6-43F6-BBE2-C538820B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E23-7947-4EE8-BAFD-7A18790C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CEC-7CA1-48D1-B61C-4F008C4E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E69-3A0D-4F97-BAC1-FB2EA6D5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1546-4F53-4E69-A89A-2E0A6A76C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158800">
            <a:off x="380520" y="456840"/>
            <a:ext cx="1067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oper Black"/>
              </a:rPr>
              <a:t>N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 rot="21327600">
            <a:off x="4030560" y="685800"/>
            <a:ext cx="1067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H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158800">
            <a:off x="7772400" y="548604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oper Black"/>
              </a:rPr>
              <a:t>Cl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894600">
            <a:off x="380520" y="5486040"/>
            <a:ext cx="685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C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1025400">
            <a:off x="7619760" y="533160"/>
            <a:ext cx="10666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Li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025400">
            <a:off x="3933720" y="4800240"/>
            <a:ext cx="1067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Na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5400">
            <a:off x="7010280" y="4038480"/>
            <a:ext cx="1143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Mg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488200">
            <a:off x="761760" y="4038120"/>
            <a:ext cx="1066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B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974200">
            <a:off x="2590920" y="4038120"/>
            <a:ext cx="685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O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384000">
            <a:off x="5562360" y="4495320"/>
            <a:ext cx="685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F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582000">
            <a:off x="6291000" y="2286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Si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884400">
            <a:off x="2743200" y="22860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ooper Black"/>
              </a:rPr>
              <a:t>Al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 txBox="1"/>
          <p:nvPr/>
        </p:nvSpPr>
        <p:spPr>
          <a:xfrm rot="20974200">
            <a:off x="5715000" y="114300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H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54" name=""/>
          <p:cNvSpPr txBox="1"/>
          <p:nvPr/>
        </p:nvSpPr>
        <p:spPr>
          <a:xfrm rot="1152600">
            <a:off x="1980720" y="114300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P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55" name=""/>
          <p:cNvSpPr txBox="1"/>
          <p:nvPr/>
        </p:nvSpPr>
        <p:spPr>
          <a:xfrm rot="20974200">
            <a:off x="2019240" y="533412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56" name=""/>
          <p:cNvSpPr txBox="1"/>
          <p:nvPr/>
        </p:nvSpPr>
        <p:spPr>
          <a:xfrm rot="1644000">
            <a:off x="6539040" y="5333760"/>
            <a:ext cx="380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Cooper Black"/>
              </a:rPr>
              <a:t>B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Cooper Black"/>
              <a:ea typeface="Cooper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120" y="1994040"/>
            <a:ext cx="7619760" cy="18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Periodic Table Bas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62485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skerville Old Face"/>
              </a:rPr>
              <a:t>T. Trimpe   http://sciencespo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7631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elements had complete outer shells? Give the name and symbol for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 _____   ________________ _____   ________________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do you notice about the location of these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ich elements had only one valence electron?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 the name and symbol for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 _____   ________________ _____   ________________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do you notice about the location of these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8600" y="838080"/>
            <a:ext cx="8610480" cy="472320"/>
            <a:chOff x="228600" y="838080"/>
            <a:chExt cx="8610480" cy="472320"/>
          </a:xfrm>
        </p:grpSpPr>
        <p:grpSp>
          <p:nvGrpSpPr>
            <p:cNvPr id="61" name=""/>
            <p:cNvGrpSpPr/>
            <p:nvPr/>
          </p:nvGrpSpPr>
          <p:grpSpPr>
            <a:xfrm>
              <a:off x="228600" y="838080"/>
              <a:ext cx="2743200" cy="459720"/>
              <a:chOff x="228600" y="838080"/>
              <a:chExt cx="2743200" cy="459720"/>
            </a:xfrm>
          </p:grpSpPr>
          <p:sp>
            <p:nvSpPr>
              <p:cNvPr id="62" name=""/>
              <p:cNvSpPr/>
              <p:nvPr/>
            </p:nvSpPr>
            <p:spPr>
              <a:xfrm>
                <a:off x="228600" y="8380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eliu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6000" y="838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3200400" y="850680"/>
              <a:ext cx="2743200" cy="459720"/>
              <a:chOff x="3200400" y="850680"/>
              <a:chExt cx="274320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3200400" y="8506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257800" y="850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6095880" y="850680"/>
              <a:ext cx="2743200" cy="459720"/>
              <a:chOff x="6095880" y="850680"/>
              <a:chExt cx="2743200" cy="459720"/>
            </a:xfrm>
          </p:grpSpPr>
          <p:sp>
            <p:nvSpPr>
              <p:cNvPr id="68" name=""/>
              <p:cNvSpPr/>
              <p:nvPr/>
            </p:nvSpPr>
            <p:spPr>
              <a:xfrm>
                <a:off x="6095880" y="85068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rg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153280" y="850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"/>
          <p:cNvSpPr/>
          <p:nvPr/>
        </p:nvSpPr>
        <p:spPr>
          <a:xfrm>
            <a:off x="380880" y="23018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elements are in the same column at the far right side of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28600" y="4191120"/>
            <a:ext cx="8610480" cy="459720"/>
            <a:chOff x="228600" y="4191120"/>
            <a:chExt cx="8610480" cy="459720"/>
          </a:xfrm>
        </p:grpSpPr>
        <p:grpSp>
          <p:nvGrpSpPr>
            <p:cNvPr id="72" name=""/>
            <p:cNvGrpSpPr/>
            <p:nvPr/>
          </p:nvGrpSpPr>
          <p:grpSpPr>
            <a:xfrm>
              <a:off x="228600" y="4191120"/>
              <a:ext cx="2743200" cy="459720"/>
              <a:chOff x="228600" y="4191120"/>
              <a:chExt cx="2743200" cy="459720"/>
            </a:xfrm>
          </p:grpSpPr>
          <p:sp>
            <p:nvSpPr>
              <p:cNvPr id="73" name=""/>
              <p:cNvSpPr/>
              <p:nvPr/>
            </p:nvSpPr>
            <p:spPr>
              <a:xfrm>
                <a:off x="228600" y="419112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ydroge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86000" y="4191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3200400" y="4191120"/>
              <a:ext cx="2743200" cy="459720"/>
              <a:chOff x="3200400" y="4191120"/>
              <a:chExt cx="2743200" cy="459720"/>
            </a:xfrm>
          </p:grpSpPr>
          <p:sp>
            <p:nvSpPr>
              <p:cNvPr id="76" name=""/>
              <p:cNvSpPr/>
              <p:nvPr/>
            </p:nvSpPr>
            <p:spPr>
              <a:xfrm>
                <a:off x="3200400" y="419112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ithiu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257800" y="4191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095880" y="4191120"/>
              <a:ext cx="2743200" cy="459720"/>
              <a:chOff x="6095880" y="4191120"/>
              <a:chExt cx="2743200" cy="459720"/>
            </a:xfrm>
          </p:grpSpPr>
          <p:sp>
            <p:nvSpPr>
              <p:cNvPr id="79" name=""/>
              <p:cNvSpPr/>
              <p:nvPr/>
            </p:nvSpPr>
            <p:spPr>
              <a:xfrm>
                <a:off x="6095880" y="4191120"/>
                <a:ext cx="205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odiu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53280" y="4191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>
            <a:off x="380880" y="55022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elements are in the same column at the far left side of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304920"/>
            <a:ext cx="87631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What do you notice about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valence electr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you move from left to right across a row or period in the periodic tab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hat do you notice about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energy levels or shel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you move down a group or column in the periodic tabl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205740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– 1    Mg – 2     Al – 3      Si –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umber of valence electrons increases by one as you move across each colum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5029200"/>
            <a:ext cx="12193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–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-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029200"/>
            <a:ext cx="609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umber of energy levels increases by one as you move down each 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320" y="152280"/>
            <a:ext cx="899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Write the name of each family at the top of the columns on your periodic table using the following inform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kali Metals - 1 valence electron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trogen Family - 5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kaline Earth Metals - 2 valence electr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xygen Family - 6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on Family - 3 valence electr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ides - 7 valence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bon Family - 4 valence electr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ble Gases - Complete outermost 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2920" y="5638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What do you notice about the location of the elements in each fami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095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elements in each family are in the same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55520" y="2854440"/>
            <a:ext cx="7010640" cy="2600280"/>
            <a:chOff x="1055520" y="2854440"/>
            <a:chExt cx="7010640" cy="26002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18057" t="45373" r="18057" b="25926"/>
            <a:stretch/>
          </p:blipFill>
          <p:spPr>
            <a:xfrm>
              <a:off x="1055520" y="3092400"/>
              <a:ext cx="7010640" cy="236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" name=""/>
            <p:cNvGrpSpPr/>
            <p:nvPr/>
          </p:nvGrpSpPr>
          <p:grpSpPr>
            <a:xfrm>
              <a:off x="1130400" y="2854440"/>
              <a:ext cx="6891120" cy="1115640"/>
              <a:chOff x="1130400" y="2854440"/>
              <a:chExt cx="6891120" cy="1115640"/>
            </a:xfrm>
          </p:grpSpPr>
          <p:sp>
            <p:nvSpPr>
              <p:cNvPr id="92" name=""/>
              <p:cNvSpPr/>
              <p:nvPr/>
            </p:nvSpPr>
            <p:spPr>
              <a:xfrm>
                <a:off x="1130400" y="285444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 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73160" y="3236760"/>
                <a:ext cx="9907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ne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rth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16280" y="3343320"/>
                <a:ext cx="99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or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659040" y="3343320"/>
                <a:ext cx="99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rb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02160" y="3343320"/>
                <a:ext cx="990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itro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45280" y="334332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xy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188040" y="344952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alid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031160" y="286560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ble Ga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38098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In what family would you classify hydrogen? Exp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4191120"/>
            <a:ext cx="82296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kali Metals – Hydrogen has onl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e valence electr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o it could be classified wi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kali meta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lides – Hydrogen onl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eds one more valence electr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o fill its outer shell so it could be classified wi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alid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3000" y="380880"/>
            <a:ext cx="7010280" cy="2600280"/>
            <a:chOff x="1143000" y="380880"/>
            <a:chExt cx="7010280" cy="26002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rcRect l="18057" t="45373" r="18057" b="25926"/>
            <a:stretch/>
          </p:blipFill>
          <p:spPr>
            <a:xfrm>
              <a:off x="1143000" y="618840"/>
              <a:ext cx="7010280" cy="236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"/>
            <p:cNvGrpSpPr/>
            <p:nvPr/>
          </p:nvGrpSpPr>
          <p:grpSpPr>
            <a:xfrm>
              <a:off x="1217520" y="380880"/>
              <a:ext cx="6890400" cy="1115640"/>
              <a:chOff x="1217520" y="380880"/>
              <a:chExt cx="6890400" cy="1115640"/>
            </a:xfrm>
          </p:grpSpPr>
          <p:sp>
            <p:nvSpPr>
              <p:cNvPr id="105" name=""/>
              <p:cNvSpPr/>
              <p:nvPr/>
            </p:nvSpPr>
            <p:spPr>
              <a:xfrm>
                <a:off x="1217520" y="38088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 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059920" y="763200"/>
                <a:ext cx="9903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ne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rth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903040" y="8697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or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45800" y="8697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rb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88920" y="86976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itro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432040" y="86976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xy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274800" y="975960"/>
                <a:ext cx="99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alid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17920" y="39204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ble Ga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1568520" y="2895480"/>
            <a:ext cx="6279840" cy="708120"/>
            <a:chOff x="1568520" y="2895480"/>
            <a:chExt cx="6279840" cy="708120"/>
          </a:xfrm>
        </p:grpSpPr>
        <p:sp>
          <p:nvSpPr>
            <p:cNvPr id="114" name=""/>
            <p:cNvSpPr/>
            <p:nvPr/>
          </p:nvSpPr>
          <p:spPr>
            <a:xfrm>
              <a:off x="1600200" y="2927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7356600" y="2895480"/>
              <a:ext cx="380880" cy="152280"/>
              <a:chOff x="7356600" y="2895480"/>
              <a:chExt cx="380880" cy="152280"/>
            </a:xfrm>
          </p:grpSpPr>
          <p:sp>
            <p:nvSpPr>
              <p:cNvPr id="116" name=""/>
              <p:cNvSpPr/>
              <p:nvPr/>
            </p:nvSpPr>
            <p:spPr>
              <a:xfrm>
                <a:off x="735660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8520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358040" y="3451320"/>
              <a:ext cx="380880" cy="152280"/>
              <a:chOff x="7358040" y="3451320"/>
              <a:chExt cx="380880" cy="152280"/>
            </a:xfrm>
          </p:grpSpPr>
          <p:sp>
            <p:nvSpPr>
              <p:cNvPr id="119" name=""/>
              <p:cNvSpPr/>
              <p:nvPr/>
            </p:nvSpPr>
            <p:spPr>
              <a:xfrm>
                <a:off x="7358040" y="3451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86640" y="3451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7238880" y="3052800"/>
              <a:ext cx="152280" cy="380880"/>
              <a:chOff x="7238880" y="3052800"/>
              <a:chExt cx="152280" cy="380880"/>
            </a:xfrm>
          </p:grpSpPr>
          <p:sp>
            <p:nvSpPr>
              <p:cNvPr id="122" name=""/>
              <p:cNvSpPr/>
              <p:nvPr/>
            </p:nvSpPr>
            <p:spPr>
              <a:xfrm rot="16200000">
                <a:off x="7238880" y="32814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7238880" y="3052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696080" y="3054240"/>
              <a:ext cx="152280" cy="380880"/>
              <a:chOff x="7696080" y="3054240"/>
              <a:chExt cx="152280" cy="380880"/>
            </a:xfrm>
          </p:grpSpPr>
          <p:sp>
            <p:nvSpPr>
              <p:cNvPr id="125" name=""/>
              <p:cNvSpPr/>
              <p:nvPr/>
            </p:nvSpPr>
            <p:spPr>
              <a:xfrm rot="16200000">
                <a:off x="7696080" y="3282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6200000">
                <a:off x="7696080" y="3054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65944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230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95920" y="3451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24520" y="3451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6477120" y="3052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6933960" y="32828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6933960" y="3054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340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626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280" y="3451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1672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6073560" y="32828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6073560" y="30542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5136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7996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84920" y="345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473400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519120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59080" y="2895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57640" y="345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391968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6200000">
              <a:off x="437688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87880" y="2895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86080" y="345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6200000">
              <a:off x="3505320" y="3200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95440" y="2917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2612880" y="32220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3436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4992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0248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2120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1336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976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232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68520" y="3124080"/>
              <a:ext cx="22860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 rot="20519400">
            <a:off x="1165320" y="89172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2920" y="304920"/>
            <a:ext cx="876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. In what family would each of these elements be classified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m -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n -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odine -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sium -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43000" y="2187720"/>
            <a:ext cx="7010280" cy="2600280"/>
            <a:chOff x="1143000" y="2187720"/>
            <a:chExt cx="7010280" cy="260028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rcRect l="18057" t="45373" r="18057" b="25926"/>
            <a:stretch/>
          </p:blipFill>
          <p:spPr>
            <a:xfrm>
              <a:off x="1143000" y="2425680"/>
              <a:ext cx="7010280" cy="236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" name=""/>
            <p:cNvGrpSpPr/>
            <p:nvPr/>
          </p:nvGrpSpPr>
          <p:grpSpPr>
            <a:xfrm>
              <a:off x="1217520" y="2187720"/>
              <a:ext cx="6890400" cy="1115640"/>
              <a:chOff x="1217520" y="2187720"/>
              <a:chExt cx="6890400" cy="1115640"/>
            </a:xfrm>
          </p:grpSpPr>
          <p:sp>
            <p:nvSpPr>
              <p:cNvPr id="167" name=""/>
              <p:cNvSpPr/>
              <p:nvPr/>
            </p:nvSpPr>
            <p:spPr>
              <a:xfrm>
                <a:off x="1217520" y="218772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 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59920" y="2570040"/>
                <a:ext cx="9903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kaline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rth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t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903040" y="267660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or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45800" y="267660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rbo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88920" y="2676600"/>
                <a:ext cx="990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itro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32040" y="267660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xygen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ami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74800" y="2782800"/>
                <a:ext cx="99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alid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117920" y="2198880"/>
                <a:ext cx="990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oble Gas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1568520" y="4702320"/>
            <a:ext cx="6279840" cy="707400"/>
            <a:chOff x="1568520" y="4702320"/>
            <a:chExt cx="6279840" cy="707400"/>
          </a:xfrm>
        </p:grpSpPr>
        <p:sp>
          <p:nvSpPr>
            <p:cNvPr id="176" name=""/>
            <p:cNvSpPr/>
            <p:nvPr/>
          </p:nvSpPr>
          <p:spPr>
            <a:xfrm>
              <a:off x="1600200" y="4734000"/>
              <a:ext cx="15228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356600" y="4702320"/>
              <a:ext cx="380880" cy="152280"/>
              <a:chOff x="7356600" y="4702320"/>
              <a:chExt cx="380880" cy="152280"/>
            </a:xfrm>
          </p:grpSpPr>
          <p:sp>
            <p:nvSpPr>
              <p:cNvPr id="178" name=""/>
              <p:cNvSpPr/>
              <p:nvPr/>
            </p:nvSpPr>
            <p:spPr>
              <a:xfrm>
                <a:off x="7356600" y="4702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585200" y="4702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7358040" y="5257800"/>
              <a:ext cx="380880" cy="151920"/>
              <a:chOff x="7358040" y="5257800"/>
              <a:chExt cx="380880" cy="151920"/>
            </a:xfrm>
          </p:grpSpPr>
          <p:sp>
            <p:nvSpPr>
              <p:cNvPr id="181" name=""/>
              <p:cNvSpPr/>
              <p:nvPr/>
            </p:nvSpPr>
            <p:spPr>
              <a:xfrm>
                <a:off x="7358040" y="52578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586640" y="52578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238880" y="4859280"/>
              <a:ext cx="152280" cy="380160"/>
              <a:chOff x="7238880" y="4859280"/>
              <a:chExt cx="152280" cy="380160"/>
            </a:xfrm>
          </p:grpSpPr>
          <p:sp>
            <p:nvSpPr>
              <p:cNvPr id="184" name=""/>
              <p:cNvSpPr/>
              <p:nvPr/>
            </p:nvSpPr>
            <p:spPr>
              <a:xfrm rot="16200000">
                <a:off x="7238880" y="508716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200000">
                <a:off x="7238880" y="485892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696080" y="4860720"/>
              <a:ext cx="152280" cy="380880"/>
              <a:chOff x="7696080" y="4860720"/>
              <a:chExt cx="152280" cy="380880"/>
            </a:xfrm>
          </p:grpSpPr>
          <p:sp>
            <p:nvSpPr>
              <p:cNvPr id="187" name=""/>
              <p:cNvSpPr/>
              <p:nvPr/>
            </p:nvSpPr>
            <p:spPr>
              <a:xfrm rot="16200000">
                <a:off x="7696080" y="50893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200000">
                <a:off x="7696080" y="4860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594480" y="470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3080" y="470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95920" y="5257800"/>
              <a:ext cx="15264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24520" y="5257800"/>
              <a:ext cx="15264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6477120" y="485892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6934320" y="5088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6934320" y="48603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34080" y="470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62680" y="470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67280" y="5257800"/>
              <a:ext cx="15264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5616720" y="500652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6073920" y="5088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6073920" y="48603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51360" y="470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79960" y="470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84920" y="5257800"/>
              <a:ext cx="15228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4734000" y="500652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5191200" y="500652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59080" y="4702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57640" y="5257800"/>
              <a:ext cx="15228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3919680" y="500652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376880" y="500652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87880" y="4702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86080" y="5257800"/>
              <a:ext cx="15228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3505320" y="500652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95440" y="4724280"/>
              <a:ext cx="15264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2613240" y="5028840"/>
              <a:ext cx="15192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34360" y="4930560"/>
              <a:ext cx="228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49920" y="4930560"/>
              <a:ext cx="228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02480" y="4930560"/>
              <a:ext cx="228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0" y="4930560"/>
              <a:ext cx="228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13360" y="4930560"/>
              <a:ext cx="228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09760" y="4930560"/>
              <a:ext cx="228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62320" y="4930560"/>
              <a:ext cx="228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68520" y="4930560"/>
              <a:ext cx="228600" cy="2282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143000" y="7732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kaline Earth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13492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838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bon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15000" y="13557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2920" y="3049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 Predict the number of valence electrons for each element based on its location in the Periodic Table of Elements. You will need to use the table in your text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ium = _____    Lead = _____    Bismuth = _____    Potassium =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7086600" cy="4279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82880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412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3:00:17Z</dcterms:created>
  <dc:creator>Tracy Trimpe</dc:creator>
  <dc:description/>
  <dc:language>en-US</dc:language>
  <cp:lastModifiedBy>Tracy Trimpe</cp:lastModifiedBy>
  <dcterms:modified xsi:type="dcterms:W3CDTF">2008-11-22T20:06:01Z</dcterms:modified>
  <cp:revision>21</cp:revision>
  <dc:subject/>
  <dc:title>Periodic Table Basics</dc:title>
</cp:coreProperties>
</file>