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BA21-EC96-4329-B509-2AB9335A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A08E-0374-4696-988C-B678356E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8FA5-1133-4835-80D0-678DD628F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146-C755-45B2-840A-BE257FA8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3A2-A883-4179-905B-8D84B91B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9C3-30DC-4AC5-8D0D-BE1DE164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14AE-E44B-4448-8650-AEFD5F50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F490-A34E-42C7-BE6B-F0B6C363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BAF6-D402-4632-ACFB-B3D36792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3267-67C7-43BE-828A-74D5141E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4573-7577-4D4C-A9C9-C3840F1E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22B-20E5-4C97-8DF5-B05D92A9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F197-0041-45EF-BAD3-6F5DBB790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158800">
            <a:off x="380520" y="456840"/>
            <a:ext cx="1067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oper Black"/>
              </a:rPr>
              <a:t>N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 rot="21327600">
            <a:off x="4030560" y="685800"/>
            <a:ext cx="1067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oper Black"/>
              </a:rPr>
              <a:t>H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 rot="20158800">
            <a:off x="7772400" y="5486040"/>
            <a:ext cx="914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oper Black"/>
              </a:rPr>
              <a:t>Cl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894600">
            <a:off x="380520" y="5486040"/>
            <a:ext cx="685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C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1025400">
            <a:off x="7619760" y="533160"/>
            <a:ext cx="10666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Li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1025400">
            <a:off x="3933720" y="4800240"/>
            <a:ext cx="1067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oper Black"/>
              </a:rPr>
              <a:t>Na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025400">
            <a:off x="7010280" y="4038480"/>
            <a:ext cx="1143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Mg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20488200">
            <a:off x="761760" y="4038120"/>
            <a:ext cx="1066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B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974200">
            <a:off x="2590920" y="4038120"/>
            <a:ext cx="685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Cooper Black"/>
              </a:rPr>
              <a:t>O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 txBox="1"/>
          <p:nvPr/>
        </p:nvSpPr>
        <p:spPr>
          <a:xfrm rot="384000">
            <a:off x="5562360" y="4495320"/>
            <a:ext cx="685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Cooper Black"/>
              </a:rPr>
              <a:t>F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Cooper Black"/>
              <a:ea typeface="Cooper Black"/>
            </a:endParaRPr>
          </a:p>
        </p:txBody>
      </p:sp>
      <p:sp>
        <p:nvSpPr>
          <p:cNvPr id="51" name=""/>
          <p:cNvSpPr txBox="1"/>
          <p:nvPr/>
        </p:nvSpPr>
        <p:spPr>
          <a:xfrm rot="582000">
            <a:off x="6291000" y="22860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Cooper Black"/>
              </a:rPr>
              <a:t>Si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Cooper Black"/>
              <a:ea typeface="Cooper Black"/>
            </a:endParaRPr>
          </a:p>
        </p:txBody>
      </p:sp>
      <p:sp>
        <p:nvSpPr>
          <p:cNvPr id="52" name=""/>
          <p:cNvSpPr txBox="1"/>
          <p:nvPr/>
        </p:nvSpPr>
        <p:spPr>
          <a:xfrm rot="884400">
            <a:off x="2743200" y="22860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Cooper Black"/>
              </a:rPr>
              <a:t>Al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Cooper Black"/>
              <a:ea typeface="Cooper Black"/>
            </a:endParaRPr>
          </a:p>
        </p:txBody>
      </p:sp>
      <p:sp>
        <p:nvSpPr>
          <p:cNvPr id="53" name=""/>
          <p:cNvSpPr txBox="1"/>
          <p:nvPr/>
        </p:nvSpPr>
        <p:spPr>
          <a:xfrm rot="20974200">
            <a:off x="5715000" y="1143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Cooper Black"/>
              </a:rPr>
              <a:t>H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Cooper Black"/>
              <a:ea typeface="Cooper Black"/>
            </a:endParaRPr>
          </a:p>
        </p:txBody>
      </p:sp>
      <p:sp>
        <p:nvSpPr>
          <p:cNvPr id="54" name=""/>
          <p:cNvSpPr txBox="1"/>
          <p:nvPr/>
        </p:nvSpPr>
        <p:spPr>
          <a:xfrm rot="1152600">
            <a:off x="1980720" y="1143000"/>
            <a:ext cx="381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Cooper Black"/>
              </a:rPr>
              <a:t>P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Cooper Black"/>
              <a:ea typeface="Cooper Black"/>
            </a:endParaRPr>
          </a:p>
        </p:txBody>
      </p:sp>
      <p:sp>
        <p:nvSpPr>
          <p:cNvPr id="55" name=""/>
          <p:cNvSpPr txBox="1"/>
          <p:nvPr/>
        </p:nvSpPr>
        <p:spPr>
          <a:xfrm rot="20974200">
            <a:off x="2019240" y="5334120"/>
            <a:ext cx="381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Cooper Black"/>
              </a:rPr>
              <a:t>N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Cooper Black"/>
              <a:ea typeface="Cooper Black"/>
            </a:endParaRPr>
          </a:p>
        </p:txBody>
      </p:sp>
      <p:sp>
        <p:nvSpPr>
          <p:cNvPr id="56" name=""/>
          <p:cNvSpPr txBox="1"/>
          <p:nvPr/>
        </p:nvSpPr>
        <p:spPr>
          <a:xfrm rot="1644000">
            <a:off x="6539040" y="533376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Cooper Black"/>
              </a:rPr>
              <a:t>B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Cooper Black"/>
              <a:ea typeface="Cooper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120" y="1994040"/>
            <a:ext cx="7619760" cy="18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Periodic Table Bas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6248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askerville Old Face"/>
              </a:rPr>
              <a:t>T. Trimpe   http://sciencespo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7631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elements had complete outer shells? Give the name and symbol for e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_______ _____   ________________ _____   ________________ 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do you notice about the location of these el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hich elements had only one valence electron?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ve the name and symbol for 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_______ _____   ________________ _____   ________________ 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do you notice about the location of these el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28600" y="838080"/>
            <a:ext cx="8610480" cy="472320"/>
            <a:chOff x="228600" y="838080"/>
            <a:chExt cx="8610480" cy="472320"/>
          </a:xfrm>
        </p:grpSpPr>
        <p:grpSp>
          <p:nvGrpSpPr>
            <p:cNvPr id="61" name=""/>
            <p:cNvGrpSpPr/>
            <p:nvPr/>
          </p:nvGrpSpPr>
          <p:grpSpPr>
            <a:xfrm>
              <a:off x="228600" y="838080"/>
              <a:ext cx="2743200" cy="459720"/>
              <a:chOff x="228600" y="838080"/>
              <a:chExt cx="2743200" cy="459720"/>
            </a:xfrm>
          </p:grpSpPr>
          <p:sp>
            <p:nvSpPr>
              <p:cNvPr id="62" name=""/>
              <p:cNvSpPr/>
              <p:nvPr/>
            </p:nvSpPr>
            <p:spPr>
              <a:xfrm>
                <a:off x="228600" y="83808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eliu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6000" y="8380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3200400" y="850680"/>
              <a:ext cx="2743200" cy="459720"/>
              <a:chOff x="3200400" y="850680"/>
              <a:chExt cx="2743200" cy="459720"/>
            </a:xfrm>
          </p:grpSpPr>
          <p:sp>
            <p:nvSpPr>
              <p:cNvPr id="65" name=""/>
              <p:cNvSpPr/>
              <p:nvPr/>
            </p:nvSpPr>
            <p:spPr>
              <a:xfrm>
                <a:off x="3200400" y="85068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257800" y="850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6095880" y="850680"/>
              <a:ext cx="2743200" cy="459720"/>
              <a:chOff x="6095880" y="850680"/>
              <a:chExt cx="2743200" cy="459720"/>
            </a:xfrm>
          </p:grpSpPr>
          <p:sp>
            <p:nvSpPr>
              <p:cNvPr id="68" name=""/>
              <p:cNvSpPr/>
              <p:nvPr/>
            </p:nvSpPr>
            <p:spPr>
              <a:xfrm>
                <a:off x="6095880" y="85068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rg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153280" y="850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"/>
          <p:cNvSpPr/>
          <p:nvPr/>
        </p:nvSpPr>
        <p:spPr>
          <a:xfrm>
            <a:off x="380880" y="23018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elements are in the same column at the far right side of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28600" y="4191120"/>
            <a:ext cx="8610480" cy="459720"/>
            <a:chOff x="228600" y="4191120"/>
            <a:chExt cx="8610480" cy="459720"/>
          </a:xfrm>
        </p:grpSpPr>
        <p:grpSp>
          <p:nvGrpSpPr>
            <p:cNvPr id="72" name=""/>
            <p:cNvGrpSpPr/>
            <p:nvPr/>
          </p:nvGrpSpPr>
          <p:grpSpPr>
            <a:xfrm>
              <a:off x="228600" y="4191120"/>
              <a:ext cx="2743200" cy="459720"/>
              <a:chOff x="228600" y="4191120"/>
              <a:chExt cx="2743200" cy="459720"/>
            </a:xfrm>
          </p:grpSpPr>
          <p:sp>
            <p:nvSpPr>
              <p:cNvPr id="73" name=""/>
              <p:cNvSpPr/>
              <p:nvPr/>
            </p:nvSpPr>
            <p:spPr>
              <a:xfrm>
                <a:off x="228600" y="419112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ydroge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286000" y="4191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3200400" y="4191120"/>
              <a:ext cx="2743200" cy="459720"/>
              <a:chOff x="3200400" y="4191120"/>
              <a:chExt cx="2743200" cy="459720"/>
            </a:xfrm>
          </p:grpSpPr>
          <p:sp>
            <p:nvSpPr>
              <p:cNvPr id="76" name=""/>
              <p:cNvSpPr/>
              <p:nvPr/>
            </p:nvSpPr>
            <p:spPr>
              <a:xfrm>
                <a:off x="3200400" y="419112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ithiu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257800" y="4191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095880" y="4191120"/>
              <a:ext cx="2743200" cy="459720"/>
              <a:chOff x="6095880" y="4191120"/>
              <a:chExt cx="2743200" cy="459720"/>
            </a:xfrm>
          </p:grpSpPr>
          <p:sp>
            <p:nvSpPr>
              <p:cNvPr id="79" name=""/>
              <p:cNvSpPr/>
              <p:nvPr/>
            </p:nvSpPr>
            <p:spPr>
              <a:xfrm>
                <a:off x="6095880" y="419112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odiu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153280" y="4191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"/>
          <p:cNvSpPr/>
          <p:nvPr/>
        </p:nvSpPr>
        <p:spPr>
          <a:xfrm>
            <a:off x="380880" y="55022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elements are in the same column at the far left side of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304920"/>
            <a:ext cx="87631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What do you notice about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valence electr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you move from left to right across a row or period in the periodic tabl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What do you notice about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energy levels or shel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you move down a group or column in the periodic tabl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2057400"/>
            <a:ext cx="8229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 – 1    Mg – 2     Al – 3      Si –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umber of valence electrons increases by one as you move across each colum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5029200"/>
            <a:ext cx="12193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 –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 -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029200"/>
            <a:ext cx="609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umber of energy levels increases by one as you move down each r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320" y="152280"/>
            <a:ext cx="8991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Write the name of each family at the top of the columns on your periodic table using the following inform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kali Metals - 1 valence electron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trogen Family - 5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kaline Earth Metals - 2 valence electro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xygen Family - 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ron Family - 3 valence electro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ides - 7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bon Family - 4 valence electro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ble Gases - Complete outermost s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2920" y="56386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What do you notice about the location of the elements in each fami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6095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elements in each family are in the same colum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055520" y="2854440"/>
            <a:ext cx="7010640" cy="2600280"/>
            <a:chOff x="1055520" y="2854440"/>
            <a:chExt cx="7010640" cy="2600280"/>
          </a:xfrm>
        </p:grpSpPr>
        <p:pic>
          <p:nvPicPr>
            <p:cNvPr id="90" name="" descr=""/>
            <p:cNvPicPr/>
            <p:nvPr/>
          </p:nvPicPr>
          <p:blipFill>
            <a:blip r:embed="rId1"/>
            <a:srcRect l="18057" t="45373" r="18057" b="25926"/>
            <a:stretch/>
          </p:blipFill>
          <p:spPr>
            <a:xfrm>
              <a:off x="1055520" y="3092400"/>
              <a:ext cx="7010640" cy="236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" name=""/>
            <p:cNvGrpSpPr/>
            <p:nvPr/>
          </p:nvGrpSpPr>
          <p:grpSpPr>
            <a:xfrm>
              <a:off x="1130400" y="2854440"/>
              <a:ext cx="6891120" cy="1115640"/>
              <a:chOff x="1130400" y="2854440"/>
              <a:chExt cx="6891120" cy="1115640"/>
            </a:xfrm>
          </p:grpSpPr>
          <p:sp>
            <p:nvSpPr>
              <p:cNvPr id="92" name=""/>
              <p:cNvSpPr/>
              <p:nvPr/>
            </p:nvSpPr>
            <p:spPr>
              <a:xfrm>
                <a:off x="1130400" y="285444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i Me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73160" y="3236760"/>
                <a:ext cx="9907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ine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arth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e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16280" y="3343320"/>
                <a:ext cx="990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oro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659040" y="3343320"/>
                <a:ext cx="990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rbo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02160" y="3343320"/>
                <a:ext cx="990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itroge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345280" y="334332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xyge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188040" y="3449520"/>
                <a:ext cx="99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Halid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031160" y="286560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oble Gas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38098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 In what family would you classify hydrogen? Expl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4191120"/>
            <a:ext cx="82296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kali Metals – Hydrogen has onl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e valence electr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o it could be classified with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lkali metal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lides – Hydrogen onl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eeds one more valence electr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o fill its outer shell so it could be classified with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alid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143000" y="380880"/>
            <a:ext cx="7010280" cy="2600280"/>
            <a:chOff x="1143000" y="380880"/>
            <a:chExt cx="7010280" cy="260028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rcRect l="18057" t="45373" r="18057" b="25926"/>
            <a:stretch/>
          </p:blipFill>
          <p:spPr>
            <a:xfrm>
              <a:off x="1143000" y="618840"/>
              <a:ext cx="7010280" cy="236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"/>
            <p:cNvGrpSpPr/>
            <p:nvPr/>
          </p:nvGrpSpPr>
          <p:grpSpPr>
            <a:xfrm>
              <a:off x="1217520" y="380880"/>
              <a:ext cx="6890400" cy="1115640"/>
              <a:chOff x="1217520" y="380880"/>
              <a:chExt cx="6890400" cy="1115640"/>
            </a:xfrm>
          </p:grpSpPr>
          <p:sp>
            <p:nvSpPr>
              <p:cNvPr id="105" name=""/>
              <p:cNvSpPr/>
              <p:nvPr/>
            </p:nvSpPr>
            <p:spPr>
              <a:xfrm>
                <a:off x="1217520" y="380880"/>
                <a:ext cx="990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i Me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059920" y="763200"/>
                <a:ext cx="9903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ine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arth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e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903040" y="86976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oro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745800" y="86976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rbo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88920" y="86976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itroge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432040" y="869760"/>
                <a:ext cx="990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xyge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274800" y="975960"/>
                <a:ext cx="99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Halid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117920" y="392040"/>
                <a:ext cx="990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oble Gas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1568520" y="2895480"/>
            <a:ext cx="6279840" cy="708120"/>
            <a:chOff x="1568520" y="2895480"/>
            <a:chExt cx="6279840" cy="708120"/>
          </a:xfrm>
        </p:grpSpPr>
        <p:sp>
          <p:nvSpPr>
            <p:cNvPr id="114" name=""/>
            <p:cNvSpPr/>
            <p:nvPr/>
          </p:nvSpPr>
          <p:spPr>
            <a:xfrm>
              <a:off x="1600200" y="2927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7356600" y="2895480"/>
              <a:ext cx="380880" cy="152280"/>
              <a:chOff x="7356600" y="2895480"/>
              <a:chExt cx="380880" cy="152280"/>
            </a:xfrm>
          </p:grpSpPr>
          <p:sp>
            <p:nvSpPr>
              <p:cNvPr id="116" name=""/>
              <p:cNvSpPr/>
              <p:nvPr/>
            </p:nvSpPr>
            <p:spPr>
              <a:xfrm>
                <a:off x="7356600" y="2895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585200" y="2895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358040" y="3451320"/>
              <a:ext cx="380880" cy="152280"/>
              <a:chOff x="7358040" y="3451320"/>
              <a:chExt cx="380880" cy="152280"/>
            </a:xfrm>
          </p:grpSpPr>
          <p:sp>
            <p:nvSpPr>
              <p:cNvPr id="119" name=""/>
              <p:cNvSpPr/>
              <p:nvPr/>
            </p:nvSpPr>
            <p:spPr>
              <a:xfrm>
                <a:off x="7358040" y="34513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86640" y="34513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7238880" y="3052800"/>
              <a:ext cx="152280" cy="380880"/>
              <a:chOff x="7238880" y="3052800"/>
              <a:chExt cx="152280" cy="380880"/>
            </a:xfrm>
          </p:grpSpPr>
          <p:sp>
            <p:nvSpPr>
              <p:cNvPr id="122" name=""/>
              <p:cNvSpPr/>
              <p:nvPr/>
            </p:nvSpPr>
            <p:spPr>
              <a:xfrm rot="16200000">
                <a:off x="7238880" y="32814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6200000">
                <a:off x="7238880" y="30528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7696080" y="3054240"/>
              <a:ext cx="152280" cy="380880"/>
              <a:chOff x="7696080" y="3054240"/>
              <a:chExt cx="152280" cy="380880"/>
            </a:xfrm>
          </p:grpSpPr>
          <p:sp>
            <p:nvSpPr>
              <p:cNvPr id="125" name=""/>
              <p:cNvSpPr/>
              <p:nvPr/>
            </p:nvSpPr>
            <p:spPr>
              <a:xfrm rot="16200000">
                <a:off x="7696080" y="3282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6200000">
                <a:off x="7696080" y="3054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659448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2308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95920" y="34513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24520" y="34513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6477120" y="3052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6200000">
              <a:off x="6933960" y="32828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6200000">
              <a:off x="6933960" y="30542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3408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6268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67280" y="34513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616720" y="3200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6200000">
              <a:off x="6073560" y="32828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6073560" y="30542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5136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7996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84920" y="3451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6200000">
              <a:off x="4734000" y="3200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5191200" y="3200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59080" y="28954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57640" y="3451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3919680" y="3200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6200000">
              <a:off x="4376880" y="3200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8788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86080" y="3451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6200000">
              <a:off x="3505320" y="3200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95440" y="2917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2612880" y="32220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3436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4992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0248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2120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1336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0976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6232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6852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 txBox="1"/>
          <p:nvPr/>
        </p:nvSpPr>
        <p:spPr>
          <a:xfrm rot="20519400">
            <a:off x="1165320" y="89172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2920" y="304920"/>
            <a:ext cx="876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. In what family would each of these elements be classified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um -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n -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odine -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sium -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143000" y="2187720"/>
            <a:ext cx="7010280" cy="2600280"/>
            <a:chOff x="1143000" y="2187720"/>
            <a:chExt cx="7010280" cy="260028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rcRect l="18057" t="45373" r="18057" b="25926"/>
            <a:stretch/>
          </p:blipFill>
          <p:spPr>
            <a:xfrm>
              <a:off x="1143000" y="2425680"/>
              <a:ext cx="7010280" cy="236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" name=""/>
            <p:cNvGrpSpPr/>
            <p:nvPr/>
          </p:nvGrpSpPr>
          <p:grpSpPr>
            <a:xfrm>
              <a:off x="1217520" y="2187720"/>
              <a:ext cx="6890400" cy="1115640"/>
              <a:chOff x="1217520" y="2187720"/>
              <a:chExt cx="6890400" cy="1115640"/>
            </a:xfrm>
          </p:grpSpPr>
          <p:sp>
            <p:nvSpPr>
              <p:cNvPr id="167" name=""/>
              <p:cNvSpPr/>
              <p:nvPr/>
            </p:nvSpPr>
            <p:spPr>
              <a:xfrm>
                <a:off x="1217520" y="2187720"/>
                <a:ext cx="990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i Me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059920" y="2570040"/>
                <a:ext cx="9903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ine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arth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e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903040" y="267660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oro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745800" y="267660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rbo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88920" y="267660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itroge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32040" y="2676600"/>
                <a:ext cx="990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xyge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74800" y="2782800"/>
                <a:ext cx="99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Halid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117920" y="2198880"/>
                <a:ext cx="990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oble Gas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"/>
          <p:cNvGrpSpPr/>
          <p:nvPr/>
        </p:nvGrpSpPr>
        <p:grpSpPr>
          <a:xfrm>
            <a:off x="1568520" y="4702320"/>
            <a:ext cx="6279840" cy="707400"/>
            <a:chOff x="1568520" y="4702320"/>
            <a:chExt cx="6279840" cy="707400"/>
          </a:xfrm>
        </p:grpSpPr>
        <p:sp>
          <p:nvSpPr>
            <p:cNvPr id="176" name=""/>
            <p:cNvSpPr/>
            <p:nvPr/>
          </p:nvSpPr>
          <p:spPr>
            <a:xfrm>
              <a:off x="1600200" y="4734000"/>
              <a:ext cx="152280" cy="15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7356600" y="4702320"/>
              <a:ext cx="380880" cy="152280"/>
              <a:chOff x="7356600" y="4702320"/>
              <a:chExt cx="380880" cy="152280"/>
            </a:xfrm>
          </p:grpSpPr>
          <p:sp>
            <p:nvSpPr>
              <p:cNvPr id="178" name=""/>
              <p:cNvSpPr/>
              <p:nvPr/>
            </p:nvSpPr>
            <p:spPr>
              <a:xfrm>
                <a:off x="7356600" y="47023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585200" y="47023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7358040" y="5257800"/>
              <a:ext cx="380880" cy="151920"/>
              <a:chOff x="7358040" y="5257800"/>
              <a:chExt cx="380880" cy="151920"/>
            </a:xfrm>
          </p:grpSpPr>
          <p:sp>
            <p:nvSpPr>
              <p:cNvPr id="181" name=""/>
              <p:cNvSpPr/>
              <p:nvPr/>
            </p:nvSpPr>
            <p:spPr>
              <a:xfrm>
                <a:off x="7358040" y="52578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586640" y="52578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7238880" y="4859280"/>
              <a:ext cx="152280" cy="380160"/>
              <a:chOff x="7238880" y="4859280"/>
              <a:chExt cx="152280" cy="380160"/>
            </a:xfrm>
          </p:grpSpPr>
          <p:sp>
            <p:nvSpPr>
              <p:cNvPr id="184" name=""/>
              <p:cNvSpPr/>
              <p:nvPr/>
            </p:nvSpPr>
            <p:spPr>
              <a:xfrm rot="16200000">
                <a:off x="7238880" y="508716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200000">
                <a:off x="7238880" y="485892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7696080" y="4860720"/>
              <a:ext cx="152280" cy="380880"/>
              <a:chOff x="7696080" y="4860720"/>
              <a:chExt cx="152280" cy="380880"/>
            </a:xfrm>
          </p:grpSpPr>
          <p:sp>
            <p:nvSpPr>
              <p:cNvPr id="187" name=""/>
              <p:cNvSpPr/>
              <p:nvPr/>
            </p:nvSpPr>
            <p:spPr>
              <a:xfrm rot="16200000">
                <a:off x="7696080" y="50893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6200000">
                <a:off x="7696080" y="48607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594480" y="4702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23080" y="4702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95920" y="5257800"/>
              <a:ext cx="152640" cy="15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24520" y="5257800"/>
              <a:ext cx="152640" cy="15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6477120" y="485892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6200000">
              <a:off x="6934320" y="50889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6200000">
              <a:off x="6934320" y="48603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34080" y="4702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62680" y="4702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67280" y="5257800"/>
              <a:ext cx="152640" cy="15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5616720" y="500652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6073920" y="50889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6073920" y="48603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51360" y="4702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79960" y="4702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84920" y="5257800"/>
              <a:ext cx="152280" cy="15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200000">
              <a:off x="4734000" y="500652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5191200" y="500652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59080" y="47023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57640" y="5257800"/>
              <a:ext cx="152280" cy="15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3919680" y="500652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376880" y="500652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87880" y="4702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86080" y="5257800"/>
              <a:ext cx="152280" cy="15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200000">
              <a:off x="3505320" y="500652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95440" y="4724280"/>
              <a:ext cx="152640" cy="15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200000">
              <a:off x="2613240" y="5028840"/>
              <a:ext cx="15192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34360" y="4930560"/>
              <a:ext cx="228600" cy="228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49920" y="4930560"/>
              <a:ext cx="228600" cy="228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02480" y="4930560"/>
              <a:ext cx="228600" cy="228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0" y="4930560"/>
              <a:ext cx="228600" cy="228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13360" y="4930560"/>
              <a:ext cx="228600" cy="228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09760" y="4930560"/>
              <a:ext cx="228600" cy="228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62320" y="4930560"/>
              <a:ext cx="228600" cy="228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68520" y="4930560"/>
              <a:ext cx="228600" cy="228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143000" y="7732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kaline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13492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34120" y="838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bon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15000" y="13557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2920" y="30492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 Predict the number of valence electrons for each element based on its location in the Periodic Table of Elements. You will need to use the table in your text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ium = _____    Lead = _____    Bismuth = _____    Potassium = 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7086600" cy="42796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828800" y="1143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05320" y="1143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4120" y="1143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43800" y="1143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03:00:17Z</dcterms:created>
  <dc:creator>Tracy Trimpe</dc:creator>
  <dc:description/>
  <dc:language>en-US</dc:language>
  <cp:lastModifiedBy>Tracy Trimpe</cp:lastModifiedBy>
  <dcterms:modified xsi:type="dcterms:W3CDTF">2008-11-22T20:06:01Z</dcterms:modified>
  <cp:revision>21</cp:revision>
  <dc:subject/>
  <dc:title>Periodic Table Basics</dc:title>
</cp:coreProperties>
</file>