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0F1F-109F-4580-83F7-071219D48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9D9E-A8AD-491D-AB31-81F4E0FE0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5529-978C-49DC-8295-880A8E513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1EF0-9071-4FC7-AEAD-F4235BD84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49CF-2595-4A1C-9AE7-A14223B61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3C5F-3B1E-4973-955C-37A1835FC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FFD9-6397-4910-924A-CBA1E0EF8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51B5-3541-479F-868D-1FEDCEF34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DAA6-B19C-4B66-8CC0-8D18B9E7A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98BA-58A0-42F0-805B-265506C21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0979-BCBB-40A8-A6A0-269D7FC52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11C2-1D9B-471E-8558-9B1494635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67A2A-1F38-4262-B327-D7BD0CE3E8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20158800">
            <a:off x="380520" y="456840"/>
            <a:ext cx="10670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Cooper Black"/>
              </a:rPr>
              <a:t>N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Cooper Black"/>
              <a:ea typeface="Cooper Black"/>
            </a:endParaRPr>
          </a:p>
        </p:txBody>
      </p:sp>
      <p:sp>
        <p:nvSpPr>
          <p:cNvPr id="42" name=""/>
          <p:cNvSpPr txBox="1"/>
          <p:nvPr/>
        </p:nvSpPr>
        <p:spPr>
          <a:xfrm rot="21327600">
            <a:off x="4030560" y="685800"/>
            <a:ext cx="10670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Cooper Black"/>
              </a:rPr>
              <a:t>H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Cooper Black"/>
              <a:ea typeface="Cooper Black"/>
            </a:endParaRPr>
          </a:p>
        </p:txBody>
      </p:sp>
      <p:sp>
        <p:nvSpPr>
          <p:cNvPr id="43" name=""/>
          <p:cNvSpPr txBox="1"/>
          <p:nvPr/>
        </p:nvSpPr>
        <p:spPr>
          <a:xfrm rot="20158800">
            <a:off x="7772400" y="5486040"/>
            <a:ext cx="914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Cooper Black"/>
              </a:rPr>
              <a:t>Cl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Cooper Black"/>
              <a:ea typeface="Cooper Black"/>
            </a:endParaRPr>
          </a:p>
        </p:txBody>
      </p:sp>
      <p:sp>
        <p:nvSpPr>
          <p:cNvPr id="44" name=""/>
          <p:cNvSpPr txBox="1"/>
          <p:nvPr/>
        </p:nvSpPr>
        <p:spPr>
          <a:xfrm rot="894600">
            <a:off x="380520" y="5486040"/>
            <a:ext cx="6858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oper Black"/>
              </a:rPr>
              <a:t>C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oper Black"/>
              <a:ea typeface="Cooper Black"/>
            </a:endParaRPr>
          </a:p>
        </p:txBody>
      </p:sp>
      <p:sp>
        <p:nvSpPr>
          <p:cNvPr id="45" name=""/>
          <p:cNvSpPr txBox="1"/>
          <p:nvPr/>
        </p:nvSpPr>
        <p:spPr>
          <a:xfrm rot="1025400">
            <a:off x="7619760" y="533160"/>
            <a:ext cx="10666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oper Black"/>
              </a:rPr>
              <a:t>Li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oper Black"/>
              <a:ea typeface="Cooper Black"/>
            </a:endParaRPr>
          </a:p>
        </p:txBody>
      </p:sp>
      <p:sp>
        <p:nvSpPr>
          <p:cNvPr id="46" name=""/>
          <p:cNvSpPr txBox="1"/>
          <p:nvPr/>
        </p:nvSpPr>
        <p:spPr>
          <a:xfrm rot="1025400">
            <a:off x="3933720" y="4800240"/>
            <a:ext cx="10670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Cooper Black"/>
              </a:rPr>
              <a:t>Na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Cooper Black"/>
              <a:ea typeface="Cooper Black"/>
            </a:endParaRPr>
          </a:p>
        </p:txBody>
      </p:sp>
      <p:sp>
        <p:nvSpPr>
          <p:cNvPr id="47" name=""/>
          <p:cNvSpPr txBox="1"/>
          <p:nvPr/>
        </p:nvSpPr>
        <p:spPr>
          <a:xfrm rot="1025400">
            <a:off x="7010280" y="4038480"/>
            <a:ext cx="11430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oper Black"/>
              </a:rPr>
              <a:t>Mg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oper Black"/>
              <a:ea typeface="Cooper Black"/>
            </a:endParaRPr>
          </a:p>
        </p:txBody>
      </p:sp>
      <p:sp>
        <p:nvSpPr>
          <p:cNvPr id="48" name=""/>
          <p:cNvSpPr txBox="1"/>
          <p:nvPr/>
        </p:nvSpPr>
        <p:spPr>
          <a:xfrm rot="20488200">
            <a:off x="761760" y="4038120"/>
            <a:ext cx="10666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oper Black"/>
              </a:rPr>
              <a:t>B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oper Black"/>
              <a:ea typeface="Cooper Black"/>
            </a:endParaRPr>
          </a:p>
        </p:txBody>
      </p:sp>
      <p:sp>
        <p:nvSpPr>
          <p:cNvPr id="49" name=""/>
          <p:cNvSpPr txBox="1"/>
          <p:nvPr/>
        </p:nvSpPr>
        <p:spPr>
          <a:xfrm rot="20974200">
            <a:off x="2590920" y="4038120"/>
            <a:ext cx="6858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Cooper Black"/>
              </a:rPr>
              <a:t>O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Cooper Black"/>
              <a:ea typeface="Cooper Black"/>
            </a:endParaRPr>
          </a:p>
        </p:txBody>
      </p:sp>
      <p:sp>
        <p:nvSpPr>
          <p:cNvPr id="50" name=""/>
          <p:cNvSpPr txBox="1"/>
          <p:nvPr/>
        </p:nvSpPr>
        <p:spPr>
          <a:xfrm rot="384000">
            <a:off x="5562360" y="4495320"/>
            <a:ext cx="6858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Cooper Black"/>
              </a:rPr>
              <a:t>F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Cooper Black"/>
              <a:ea typeface="Cooper Black"/>
            </a:endParaRPr>
          </a:p>
        </p:txBody>
      </p:sp>
      <p:sp>
        <p:nvSpPr>
          <p:cNvPr id="51" name=""/>
          <p:cNvSpPr txBox="1"/>
          <p:nvPr/>
        </p:nvSpPr>
        <p:spPr>
          <a:xfrm rot="582000">
            <a:off x="6291000" y="228600"/>
            <a:ext cx="609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Cooper Black"/>
              </a:rPr>
              <a:t>Si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Cooper Black"/>
              <a:ea typeface="Cooper Black"/>
            </a:endParaRPr>
          </a:p>
        </p:txBody>
      </p:sp>
      <p:sp>
        <p:nvSpPr>
          <p:cNvPr id="52" name=""/>
          <p:cNvSpPr txBox="1"/>
          <p:nvPr/>
        </p:nvSpPr>
        <p:spPr>
          <a:xfrm rot="884400">
            <a:off x="2743200" y="228600"/>
            <a:ext cx="685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Cooper Black"/>
              </a:rPr>
              <a:t>Al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Cooper Black"/>
              <a:ea typeface="Cooper Black"/>
            </a:endParaRPr>
          </a:p>
        </p:txBody>
      </p:sp>
      <p:sp>
        <p:nvSpPr>
          <p:cNvPr id="53" name=""/>
          <p:cNvSpPr txBox="1"/>
          <p:nvPr/>
        </p:nvSpPr>
        <p:spPr>
          <a:xfrm rot="20974200">
            <a:off x="5715000" y="1143000"/>
            <a:ext cx="380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Cooper Black"/>
              </a:rPr>
              <a:t>H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Cooper Black"/>
              <a:ea typeface="Cooper Black"/>
            </a:endParaRPr>
          </a:p>
        </p:txBody>
      </p:sp>
      <p:sp>
        <p:nvSpPr>
          <p:cNvPr id="54" name=""/>
          <p:cNvSpPr txBox="1"/>
          <p:nvPr/>
        </p:nvSpPr>
        <p:spPr>
          <a:xfrm rot="1152600">
            <a:off x="1980720" y="1143000"/>
            <a:ext cx="3812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Cooper Black"/>
              </a:rPr>
              <a:t>P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Cooper Black"/>
              <a:ea typeface="Cooper Black"/>
            </a:endParaRPr>
          </a:p>
        </p:txBody>
      </p:sp>
      <p:sp>
        <p:nvSpPr>
          <p:cNvPr id="55" name=""/>
          <p:cNvSpPr txBox="1"/>
          <p:nvPr/>
        </p:nvSpPr>
        <p:spPr>
          <a:xfrm rot="20974200">
            <a:off x="2019240" y="5334120"/>
            <a:ext cx="3812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Cooper Black"/>
              </a:rPr>
              <a:t>N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Cooper Black"/>
              <a:ea typeface="Cooper Black"/>
            </a:endParaRPr>
          </a:p>
        </p:txBody>
      </p:sp>
      <p:sp>
        <p:nvSpPr>
          <p:cNvPr id="56" name=""/>
          <p:cNvSpPr txBox="1"/>
          <p:nvPr/>
        </p:nvSpPr>
        <p:spPr>
          <a:xfrm rot="1644000">
            <a:off x="6539040" y="5333760"/>
            <a:ext cx="380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Cooper Black"/>
              </a:rPr>
              <a:t>B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Cooper Black"/>
              <a:ea typeface="Cooper Black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762120" y="1994040"/>
            <a:ext cx="7619760" cy="18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Periodic Table Basic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58" name=""/>
          <p:cNvSpPr/>
          <p:nvPr/>
        </p:nvSpPr>
        <p:spPr>
          <a:xfrm>
            <a:off x="1371600" y="624852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askerville Old Face"/>
              </a:rPr>
              <a:t>T. Trimpe   http://sciencespot.net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2280" y="304920"/>
            <a:ext cx="8763120" cy="67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ich elements had complete outer shells? Give the name and symbol for ea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________________ _____   ________________ _____   ________________ 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do you notice about the location of these elemen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Which elements had only one valence electron?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ive the name and symbol for ea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________________ _____   ________________ _____   ________________ 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do you notice about the location of these elemen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52280" y="304920"/>
            <a:ext cx="876312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What do you notice about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number of valence electron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as you move from left to right across a row or period in the periodic table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a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g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Al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Si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P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S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Cl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What do you notice about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number of energy levels or shell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as you move down a group or column in the periodic table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6320" y="152280"/>
            <a:ext cx="8991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. Write the name of each family at the top of the columns on your periodic table using the following inform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2920" y="470844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. What do you notice about the location of the elements in each famil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1066680" y="990720"/>
            <a:ext cx="7010640" cy="2600280"/>
            <a:chOff x="1066680" y="990720"/>
            <a:chExt cx="7010640" cy="2600280"/>
          </a:xfrm>
        </p:grpSpPr>
        <p:pic>
          <p:nvPicPr>
            <p:cNvPr id="64" name="" descr=""/>
            <p:cNvPicPr/>
            <p:nvPr/>
          </p:nvPicPr>
          <p:blipFill>
            <a:blip r:embed="rId1"/>
            <a:srcRect l="18057" t="45373" r="18057" b="25926"/>
            <a:stretch/>
          </p:blipFill>
          <p:spPr>
            <a:xfrm>
              <a:off x="1066680" y="1228680"/>
              <a:ext cx="7010640" cy="2362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" name=""/>
            <p:cNvGrpSpPr/>
            <p:nvPr/>
          </p:nvGrpSpPr>
          <p:grpSpPr>
            <a:xfrm>
              <a:off x="1141560" y="990720"/>
              <a:ext cx="6891120" cy="1115640"/>
              <a:chOff x="1141560" y="990720"/>
              <a:chExt cx="6891120" cy="1115640"/>
            </a:xfrm>
          </p:grpSpPr>
          <p:sp>
            <p:nvSpPr>
              <p:cNvPr id="66" name=""/>
              <p:cNvSpPr/>
              <p:nvPr/>
            </p:nvSpPr>
            <p:spPr>
              <a:xfrm>
                <a:off x="1141560" y="990720"/>
                <a:ext cx="9903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lkali Metal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984320" y="1373040"/>
                <a:ext cx="99072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lkaline</a:t>
                </a:r>
                <a:br>
                  <a:rPr sz="1400"/>
                </a:b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Earth</a:t>
                </a:r>
                <a:br>
                  <a:rPr sz="1400"/>
                </a:b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etal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2827440" y="1479600"/>
                <a:ext cx="9907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oron</a:t>
                </a:r>
                <a:br>
                  <a:rPr sz="1400"/>
                </a:b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Famil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670200" y="1479600"/>
                <a:ext cx="9907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arbon</a:t>
                </a:r>
                <a:br>
                  <a:rPr sz="1400"/>
                </a:b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Famil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513320" y="1479600"/>
                <a:ext cx="9907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Nitrogen</a:t>
                </a:r>
                <a:br>
                  <a:rPr sz="1400"/>
                </a:b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Famil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356440" y="1479600"/>
                <a:ext cx="9903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Oxygen</a:t>
                </a:r>
                <a:br>
                  <a:rPr sz="1400"/>
                </a:b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Famil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199200" y="1585800"/>
                <a:ext cx="99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Halid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042320" y="1001880"/>
                <a:ext cx="9903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Noble Gas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4" name=""/>
          <p:cNvGrpSpPr/>
          <p:nvPr/>
        </p:nvGrpSpPr>
        <p:grpSpPr>
          <a:xfrm>
            <a:off x="1447920" y="3525840"/>
            <a:ext cx="6279840" cy="708120"/>
            <a:chOff x="1447920" y="3525840"/>
            <a:chExt cx="6279840" cy="708120"/>
          </a:xfrm>
        </p:grpSpPr>
        <p:sp>
          <p:nvSpPr>
            <p:cNvPr id="75" name=""/>
            <p:cNvSpPr/>
            <p:nvPr/>
          </p:nvSpPr>
          <p:spPr>
            <a:xfrm>
              <a:off x="1479600" y="3557880"/>
              <a:ext cx="15228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" name=""/>
            <p:cNvGrpSpPr/>
            <p:nvPr/>
          </p:nvGrpSpPr>
          <p:grpSpPr>
            <a:xfrm>
              <a:off x="7236000" y="3525840"/>
              <a:ext cx="380880" cy="152280"/>
              <a:chOff x="7236000" y="3525840"/>
              <a:chExt cx="380880" cy="152280"/>
            </a:xfrm>
          </p:grpSpPr>
          <p:sp>
            <p:nvSpPr>
              <p:cNvPr id="77" name=""/>
              <p:cNvSpPr/>
              <p:nvPr/>
            </p:nvSpPr>
            <p:spPr>
              <a:xfrm>
                <a:off x="7236000" y="35258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464600" y="35258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" name=""/>
            <p:cNvGrpSpPr/>
            <p:nvPr/>
          </p:nvGrpSpPr>
          <p:grpSpPr>
            <a:xfrm>
              <a:off x="7237440" y="4081680"/>
              <a:ext cx="380880" cy="152280"/>
              <a:chOff x="7237440" y="4081680"/>
              <a:chExt cx="380880" cy="152280"/>
            </a:xfrm>
          </p:grpSpPr>
          <p:sp>
            <p:nvSpPr>
              <p:cNvPr id="80" name=""/>
              <p:cNvSpPr/>
              <p:nvPr/>
            </p:nvSpPr>
            <p:spPr>
              <a:xfrm>
                <a:off x="7237440" y="408168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466040" y="408168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7118280" y="3683160"/>
              <a:ext cx="152280" cy="380880"/>
              <a:chOff x="7118280" y="3683160"/>
              <a:chExt cx="152280" cy="380880"/>
            </a:xfrm>
          </p:grpSpPr>
          <p:sp>
            <p:nvSpPr>
              <p:cNvPr id="83" name=""/>
              <p:cNvSpPr/>
              <p:nvPr/>
            </p:nvSpPr>
            <p:spPr>
              <a:xfrm rot="16200000">
                <a:off x="7118280" y="391176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6200000">
                <a:off x="7118280" y="368316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7575480" y="3684600"/>
              <a:ext cx="152280" cy="380880"/>
              <a:chOff x="7575480" y="3684600"/>
              <a:chExt cx="152280" cy="380880"/>
            </a:xfrm>
          </p:grpSpPr>
          <p:sp>
            <p:nvSpPr>
              <p:cNvPr id="86" name=""/>
              <p:cNvSpPr/>
              <p:nvPr/>
            </p:nvSpPr>
            <p:spPr>
              <a:xfrm rot="16200000">
                <a:off x="7575480" y="391320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6200000">
                <a:off x="7575480" y="368460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6473880" y="3525840"/>
              <a:ext cx="152280" cy="152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02480" y="3525840"/>
              <a:ext cx="152280" cy="152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475320" y="4081680"/>
              <a:ext cx="15264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703920" y="4081680"/>
              <a:ext cx="15264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rot="16200000">
              <a:off x="6356520" y="36828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rot="16200000">
              <a:off x="6813360" y="39132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rot="16200000">
              <a:off x="6813360" y="36846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613480" y="3525840"/>
              <a:ext cx="152280" cy="152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42080" y="3525840"/>
              <a:ext cx="152280" cy="152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46680" y="4081680"/>
              <a:ext cx="15264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rot="16200000">
              <a:off x="5496120" y="38304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rot="16200000">
              <a:off x="5952960" y="39132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6200000">
              <a:off x="5952960" y="36846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730760" y="3525840"/>
              <a:ext cx="152280" cy="152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59360" y="3525840"/>
              <a:ext cx="152280" cy="152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864320" y="4081680"/>
              <a:ext cx="15228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16200000">
              <a:off x="4613400" y="38304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16200000">
              <a:off x="5070600" y="38304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038480" y="3525840"/>
              <a:ext cx="152640" cy="152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037040" y="4081680"/>
              <a:ext cx="15228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16200000">
              <a:off x="3799080" y="38304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16200000">
              <a:off x="4256280" y="38304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167280" y="3525840"/>
              <a:ext cx="152280" cy="152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165480" y="4081680"/>
              <a:ext cx="15228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16200000">
              <a:off x="3384720" y="38304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274840" y="3548160"/>
              <a:ext cx="15264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16200000">
              <a:off x="2492280" y="3852360"/>
              <a:ext cx="152280" cy="152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313760" y="3754440"/>
              <a:ext cx="228600" cy="22860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529320" y="3754440"/>
              <a:ext cx="228600" cy="22860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681880" y="3754440"/>
              <a:ext cx="228600" cy="22860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800600" y="3754440"/>
              <a:ext cx="228600" cy="22860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992760" y="3754440"/>
              <a:ext cx="228600" cy="22860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89160" y="3754440"/>
              <a:ext cx="228600" cy="22860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241720" y="3754440"/>
              <a:ext cx="228600" cy="22860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447920" y="3754440"/>
              <a:ext cx="228600" cy="22860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396252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. In what family would you classify hydrogen? Expl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143000" y="380880"/>
            <a:ext cx="7010280" cy="2600280"/>
            <a:chOff x="1143000" y="380880"/>
            <a:chExt cx="7010280" cy="2600280"/>
          </a:xfrm>
        </p:grpSpPr>
        <p:pic>
          <p:nvPicPr>
            <p:cNvPr id="125" name="" descr=""/>
            <p:cNvPicPr/>
            <p:nvPr/>
          </p:nvPicPr>
          <p:blipFill>
            <a:blip r:embed="rId1"/>
            <a:srcRect l="18057" t="45373" r="18057" b="25926"/>
            <a:stretch/>
          </p:blipFill>
          <p:spPr>
            <a:xfrm>
              <a:off x="1143000" y="618840"/>
              <a:ext cx="7010280" cy="2362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6" name=""/>
            <p:cNvGrpSpPr/>
            <p:nvPr/>
          </p:nvGrpSpPr>
          <p:grpSpPr>
            <a:xfrm>
              <a:off x="1217520" y="380880"/>
              <a:ext cx="6890400" cy="1115640"/>
              <a:chOff x="1217520" y="380880"/>
              <a:chExt cx="6890400" cy="1115640"/>
            </a:xfrm>
          </p:grpSpPr>
          <p:sp>
            <p:nvSpPr>
              <p:cNvPr id="127" name=""/>
              <p:cNvSpPr/>
              <p:nvPr/>
            </p:nvSpPr>
            <p:spPr>
              <a:xfrm>
                <a:off x="1217520" y="380880"/>
                <a:ext cx="9900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lkali Metal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059920" y="763200"/>
                <a:ext cx="99036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lkaline</a:t>
                </a:r>
                <a:br>
                  <a:rPr sz="1400"/>
                </a:b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Earth</a:t>
                </a:r>
                <a:br>
                  <a:rPr sz="1400"/>
                </a:b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etal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903040" y="869760"/>
                <a:ext cx="9903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oron</a:t>
                </a:r>
                <a:br>
                  <a:rPr sz="1400"/>
                </a:b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Famil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745800" y="869760"/>
                <a:ext cx="9903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arbon</a:t>
                </a:r>
                <a:br>
                  <a:rPr sz="1400"/>
                </a:b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Famil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588920" y="869760"/>
                <a:ext cx="9903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Nitrogen</a:t>
                </a:r>
                <a:br>
                  <a:rPr sz="1400"/>
                </a:b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Famil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432040" y="869760"/>
                <a:ext cx="9900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Oxygen</a:t>
                </a:r>
                <a:br>
                  <a:rPr sz="1400"/>
                </a:b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Famil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274800" y="975960"/>
                <a:ext cx="99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Halid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117920" y="392040"/>
                <a:ext cx="9900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Noble Gas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5" name=""/>
          <p:cNvGrpSpPr/>
          <p:nvPr/>
        </p:nvGrpSpPr>
        <p:grpSpPr>
          <a:xfrm>
            <a:off x="1568520" y="2895480"/>
            <a:ext cx="6279840" cy="708120"/>
            <a:chOff x="1568520" y="2895480"/>
            <a:chExt cx="6279840" cy="708120"/>
          </a:xfrm>
        </p:grpSpPr>
        <p:sp>
          <p:nvSpPr>
            <p:cNvPr id="136" name=""/>
            <p:cNvSpPr/>
            <p:nvPr/>
          </p:nvSpPr>
          <p:spPr>
            <a:xfrm>
              <a:off x="1600200" y="29275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7356600" y="2895480"/>
              <a:ext cx="380880" cy="152280"/>
              <a:chOff x="7356600" y="2895480"/>
              <a:chExt cx="380880" cy="152280"/>
            </a:xfrm>
          </p:grpSpPr>
          <p:sp>
            <p:nvSpPr>
              <p:cNvPr id="138" name=""/>
              <p:cNvSpPr/>
              <p:nvPr/>
            </p:nvSpPr>
            <p:spPr>
              <a:xfrm>
                <a:off x="7356600" y="289548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585200" y="289548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7358040" y="3451320"/>
              <a:ext cx="380880" cy="152280"/>
              <a:chOff x="7358040" y="3451320"/>
              <a:chExt cx="380880" cy="152280"/>
            </a:xfrm>
          </p:grpSpPr>
          <p:sp>
            <p:nvSpPr>
              <p:cNvPr id="141" name=""/>
              <p:cNvSpPr/>
              <p:nvPr/>
            </p:nvSpPr>
            <p:spPr>
              <a:xfrm>
                <a:off x="7358040" y="345132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586640" y="345132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7238880" y="3052800"/>
              <a:ext cx="152280" cy="380880"/>
              <a:chOff x="7238880" y="3052800"/>
              <a:chExt cx="152280" cy="380880"/>
            </a:xfrm>
          </p:grpSpPr>
          <p:sp>
            <p:nvSpPr>
              <p:cNvPr id="144" name=""/>
              <p:cNvSpPr/>
              <p:nvPr/>
            </p:nvSpPr>
            <p:spPr>
              <a:xfrm rot="16200000">
                <a:off x="7238880" y="328140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16200000">
                <a:off x="7238880" y="305280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7696080" y="3054240"/>
              <a:ext cx="152280" cy="380880"/>
              <a:chOff x="7696080" y="3054240"/>
              <a:chExt cx="152280" cy="380880"/>
            </a:xfrm>
          </p:grpSpPr>
          <p:sp>
            <p:nvSpPr>
              <p:cNvPr id="147" name=""/>
              <p:cNvSpPr/>
              <p:nvPr/>
            </p:nvSpPr>
            <p:spPr>
              <a:xfrm rot="16200000">
                <a:off x="7696080" y="32828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6200000">
                <a:off x="7696080" y="30542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" name=""/>
            <p:cNvSpPr/>
            <p:nvPr/>
          </p:nvSpPr>
          <p:spPr>
            <a:xfrm>
              <a:off x="6594480" y="28954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23080" y="28954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595920" y="3451320"/>
              <a:ext cx="15264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824520" y="3451320"/>
              <a:ext cx="15264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16200000">
              <a:off x="6477120" y="30524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16200000">
              <a:off x="6933960" y="3282840"/>
              <a:ext cx="15264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16200000">
              <a:off x="6933960" y="3054240"/>
              <a:ext cx="15264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734080" y="28954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962680" y="28954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867280" y="3451320"/>
              <a:ext cx="15264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16200000">
              <a:off x="5616720" y="3200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16200000">
              <a:off x="6073560" y="3282840"/>
              <a:ext cx="15264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16200000">
              <a:off x="6073560" y="3054240"/>
              <a:ext cx="15264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851360" y="28954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079960" y="28954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984920" y="34513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16200000">
              <a:off x="4734000" y="3200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16200000">
              <a:off x="5191200" y="3200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59080" y="2895480"/>
              <a:ext cx="152640" cy="152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57640" y="34513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6200000">
              <a:off x="3919680" y="3200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16200000">
              <a:off x="4376880" y="3200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87880" y="28954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286080" y="34513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6200000">
              <a:off x="3505320" y="3200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395440" y="29178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16200000">
              <a:off x="2612880" y="3222000"/>
              <a:ext cx="152280" cy="152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434360" y="3124080"/>
              <a:ext cx="228600" cy="22860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649920" y="3124080"/>
              <a:ext cx="228600" cy="22860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02480" y="3124080"/>
              <a:ext cx="228600" cy="22860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921200" y="3124080"/>
              <a:ext cx="228600" cy="22860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113360" y="3124080"/>
              <a:ext cx="228600" cy="22860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209760" y="3124080"/>
              <a:ext cx="228600" cy="22860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62320" y="3124080"/>
              <a:ext cx="228600" cy="22860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568520" y="3124080"/>
              <a:ext cx="228600" cy="22860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42920" y="304920"/>
            <a:ext cx="8763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8. In what family would each of these elements be classified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dium - ________________________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n - ________________________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odine - ________________________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esium - ________________________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990720" y="2438280"/>
            <a:ext cx="7010280" cy="2600280"/>
            <a:chOff x="990720" y="2438280"/>
            <a:chExt cx="7010280" cy="2600280"/>
          </a:xfrm>
        </p:grpSpPr>
        <p:pic>
          <p:nvPicPr>
            <p:cNvPr id="186" name="" descr=""/>
            <p:cNvPicPr/>
            <p:nvPr/>
          </p:nvPicPr>
          <p:blipFill>
            <a:blip r:embed="rId1"/>
            <a:srcRect l="18057" t="45373" r="18057" b="25926"/>
            <a:stretch/>
          </p:blipFill>
          <p:spPr>
            <a:xfrm>
              <a:off x="990720" y="2676240"/>
              <a:ext cx="7010280" cy="2362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7" name=""/>
            <p:cNvGrpSpPr/>
            <p:nvPr/>
          </p:nvGrpSpPr>
          <p:grpSpPr>
            <a:xfrm>
              <a:off x="1065240" y="2438280"/>
              <a:ext cx="6890400" cy="1115640"/>
              <a:chOff x="1065240" y="2438280"/>
              <a:chExt cx="6890400" cy="1115640"/>
            </a:xfrm>
          </p:grpSpPr>
          <p:sp>
            <p:nvSpPr>
              <p:cNvPr id="188" name=""/>
              <p:cNvSpPr/>
              <p:nvPr/>
            </p:nvSpPr>
            <p:spPr>
              <a:xfrm>
                <a:off x="1065240" y="2438280"/>
                <a:ext cx="9900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lkali Metal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907640" y="2820600"/>
                <a:ext cx="99036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lkaline</a:t>
                </a:r>
                <a:br>
                  <a:rPr sz="1400"/>
                </a:b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Earth</a:t>
                </a:r>
                <a:br>
                  <a:rPr sz="1400"/>
                </a:b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etal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750760" y="2927160"/>
                <a:ext cx="9903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oron</a:t>
                </a:r>
                <a:br>
                  <a:rPr sz="1400"/>
                </a:b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Famil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593520" y="2927160"/>
                <a:ext cx="9903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arbon</a:t>
                </a:r>
                <a:br>
                  <a:rPr sz="1400"/>
                </a:b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Famil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436640" y="2927160"/>
                <a:ext cx="9903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Nitrogen</a:t>
                </a:r>
                <a:br>
                  <a:rPr sz="1400"/>
                </a:b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Famil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279760" y="2927160"/>
                <a:ext cx="9900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Oxygen</a:t>
                </a:r>
                <a:br>
                  <a:rPr sz="1400"/>
                </a:b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Famil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122520" y="3033360"/>
                <a:ext cx="99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Halid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965640" y="2449440"/>
                <a:ext cx="9900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Noble Gas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6" name=""/>
          <p:cNvGrpSpPr/>
          <p:nvPr/>
        </p:nvGrpSpPr>
        <p:grpSpPr>
          <a:xfrm>
            <a:off x="1415880" y="4952880"/>
            <a:ext cx="6279840" cy="708120"/>
            <a:chOff x="1415880" y="4952880"/>
            <a:chExt cx="6279840" cy="708120"/>
          </a:xfrm>
        </p:grpSpPr>
        <p:sp>
          <p:nvSpPr>
            <p:cNvPr id="197" name=""/>
            <p:cNvSpPr/>
            <p:nvPr/>
          </p:nvSpPr>
          <p:spPr>
            <a:xfrm>
              <a:off x="1447560" y="49849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8" name=""/>
            <p:cNvGrpSpPr/>
            <p:nvPr/>
          </p:nvGrpSpPr>
          <p:grpSpPr>
            <a:xfrm>
              <a:off x="7203960" y="4952880"/>
              <a:ext cx="380880" cy="152280"/>
              <a:chOff x="7203960" y="4952880"/>
              <a:chExt cx="380880" cy="152280"/>
            </a:xfrm>
          </p:grpSpPr>
          <p:sp>
            <p:nvSpPr>
              <p:cNvPr id="199" name=""/>
              <p:cNvSpPr/>
              <p:nvPr/>
            </p:nvSpPr>
            <p:spPr>
              <a:xfrm>
                <a:off x="7203960" y="495288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432560" y="495288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7205400" y="5508720"/>
              <a:ext cx="380880" cy="152280"/>
              <a:chOff x="7205400" y="5508720"/>
              <a:chExt cx="380880" cy="152280"/>
            </a:xfrm>
          </p:grpSpPr>
          <p:sp>
            <p:nvSpPr>
              <p:cNvPr id="202" name=""/>
              <p:cNvSpPr/>
              <p:nvPr/>
            </p:nvSpPr>
            <p:spPr>
              <a:xfrm>
                <a:off x="7205400" y="550872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434000" y="550872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4" name=""/>
            <p:cNvGrpSpPr/>
            <p:nvPr/>
          </p:nvGrpSpPr>
          <p:grpSpPr>
            <a:xfrm>
              <a:off x="7086240" y="5110200"/>
              <a:ext cx="152280" cy="380880"/>
              <a:chOff x="7086240" y="5110200"/>
              <a:chExt cx="152280" cy="380880"/>
            </a:xfrm>
          </p:grpSpPr>
          <p:sp>
            <p:nvSpPr>
              <p:cNvPr id="205" name=""/>
              <p:cNvSpPr/>
              <p:nvPr/>
            </p:nvSpPr>
            <p:spPr>
              <a:xfrm rot="16200000">
                <a:off x="7086240" y="533880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16200000">
                <a:off x="7086240" y="511020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7543440" y="5111640"/>
              <a:ext cx="152280" cy="380880"/>
              <a:chOff x="7543440" y="5111640"/>
              <a:chExt cx="152280" cy="380880"/>
            </a:xfrm>
          </p:grpSpPr>
          <p:sp>
            <p:nvSpPr>
              <p:cNvPr id="208" name=""/>
              <p:cNvSpPr/>
              <p:nvPr/>
            </p:nvSpPr>
            <p:spPr>
              <a:xfrm rot="16200000">
                <a:off x="7543440" y="53402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16200000">
                <a:off x="7543440" y="51116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6441840" y="49528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670440" y="49528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443280" y="5508720"/>
              <a:ext cx="15264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671880" y="5508720"/>
              <a:ext cx="15264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rot="16200000">
              <a:off x="6324480" y="51098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rot="16200000">
              <a:off x="6781320" y="5340240"/>
              <a:ext cx="15264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rot="16200000">
              <a:off x="6781320" y="5111640"/>
              <a:ext cx="15264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581440" y="49528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810040" y="49528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714640" y="5508720"/>
              <a:ext cx="15264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16200000">
              <a:off x="5464080" y="52574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rot="16200000">
              <a:off x="5920920" y="5340240"/>
              <a:ext cx="15264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rot="16200000">
              <a:off x="5920920" y="5111640"/>
              <a:ext cx="15264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698720" y="49528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927320" y="49528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832280" y="55087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rot="16200000">
              <a:off x="4581360" y="52574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5038560" y="52574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006440" y="4952880"/>
              <a:ext cx="152640" cy="152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005000" y="55087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3767040" y="52574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rot="16200000">
              <a:off x="4224240" y="52574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135240" y="49528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133440" y="55087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rot="16200000">
              <a:off x="3352680" y="52574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242800" y="49752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rot="16200000">
              <a:off x="2460240" y="5279400"/>
              <a:ext cx="152280" cy="152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281720" y="5181480"/>
              <a:ext cx="228600" cy="22860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497280" y="5181480"/>
              <a:ext cx="228600" cy="22860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649840" y="5181480"/>
              <a:ext cx="228600" cy="22860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768560" y="5181480"/>
              <a:ext cx="228600" cy="22860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960720" y="5181480"/>
              <a:ext cx="228600" cy="22860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057120" y="5181480"/>
              <a:ext cx="228600" cy="22860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209680" y="5181480"/>
              <a:ext cx="228600" cy="22860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415880" y="5181480"/>
              <a:ext cx="228600" cy="22860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42920" y="304920"/>
            <a:ext cx="8763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. Predict the number of valence electrons for each element based on its location in the Periodic Table of Elements. You will need to use the table in your textboo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rium = _____    Lead = _____    Bismuth = _____    Potassium = 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380880" y="2590920"/>
            <a:ext cx="853452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6T03:00:17Z</dcterms:created>
  <dc:creator>Tracy Trimpe</dc:creator>
  <dc:description/>
  <dc:language>en-US</dc:language>
  <cp:lastModifiedBy>Tracy Trimpe</cp:lastModifiedBy>
  <dcterms:modified xsi:type="dcterms:W3CDTF">2008-11-22T20:05:40Z</dcterms:modified>
  <cp:revision>23</cp:revision>
  <dc:subject/>
  <dc:title>Periodic Table Basics</dc:title>
</cp:coreProperties>
</file>