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995-1C04-452C-9C6C-047FEAC0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04F-399B-402C-97F3-7E98095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FE8-39FD-468A-9031-5F34ED93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53B-6DF5-4F80-9082-E76ED3CD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165-1FED-4844-A300-BAEF3EC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AE4-50F1-4028-84EF-3FC2FF63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643-92DE-484B-9E4D-C4FE655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20A-2BBD-4229-8F5C-5EC32CB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5B4-391C-4517-B9EF-C96A5F76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163-6F4A-4002-BA60-524C235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12D-8EAD-4755-91C1-1E58262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FEC-27C5-4B36-8A42-F98980E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E4E5-7940-4DB3-9F4D-6F09FE93B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158800">
            <a:off x="380520" y="4568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 rot="21327600">
            <a:off x="4030560" y="68580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H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158800">
            <a:off x="7772400" y="548604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C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894600">
            <a:off x="380520" y="548604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1025400">
            <a:off x="7619760" y="533160"/>
            <a:ext cx="1066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L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5400">
            <a:off x="3933720" y="48002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N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5400">
            <a:off x="7010280" y="4038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g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488200">
            <a:off x="761760" y="403812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974200">
            <a:off x="2590920" y="40381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O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384000">
            <a:off x="5562360" y="44953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F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582000">
            <a:off x="6291000" y="2286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S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884400">
            <a:off x="2743200" y="228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A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 txBox="1"/>
          <p:nvPr/>
        </p:nvSpPr>
        <p:spPr>
          <a:xfrm rot="20974200">
            <a:off x="5715000" y="1143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4" name=""/>
          <p:cNvSpPr txBox="1"/>
          <p:nvPr/>
        </p:nvSpPr>
        <p:spPr>
          <a:xfrm rot="1152600">
            <a:off x="1980720" y="11430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P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5" name=""/>
          <p:cNvSpPr txBox="1"/>
          <p:nvPr/>
        </p:nvSpPr>
        <p:spPr>
          <a:xfrm rot="20974200">
            <a:off x="2019240" y="53341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6" name=""/>
          <p:cNvSpPr txBox="1"/>
          <p:nvPr/>
        </p:nvSpPr>
        <p:spPr>
          <a:xfrm rot="1644000">
            <a:off x="6539040" y="533376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994040"/>
            <a:ext cx="761976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Periodic Table Bas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T. Trimpe   http://sciencespot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76312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elements had complete outer shells? Give the name and symbol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ich elements had only one valence electron?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 the name and symbol for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30492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o you notice abou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valence electr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s you move from left to right across a row or period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do you notice abou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energy levels or shel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s you move down a group or column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52280"/>
            <a:ext cx="89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Write the name of each family at the top of the columns on your periodic table using the following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4708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What do you notice about the location of the elements in each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66680" y="990720"/>
            <a:ext cx="7010640" cy="2600280"/>
            <a:chOff x="1066680" y="990720"/>
            <a:chExt cx="7010640" cy="26002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066680" y="1228680"/>
              <a:ext cx="701064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141560" y="990720"/>
              <a:ext cx="6891120" cy="1115640"/>
              <a:chOff x="1141560" y="990720"/>
              <a:chExt cx="6891120" cy="1115640"/>
            </a:xfrm>
          </p:grpSpPr>
          <p:sp>
            <p:nvSpPr>
              <p:cNvPr id="66" name=""/>
              <p:cNvSpPr/>
              <p:nvPr/>
            </p:nvSpPr>
            <p:spPr>
              <a:xfrm>
                <a:off x="1141560" y="99072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84320" y="1373040"/>
                <a:ext cx="99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27440" y="147960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70200" y="147960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13320" y="147960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356440" y="1479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99200" y="158580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42320" y="100188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447920" y="3525840"/>
            <a:ext cx="6279840" cy="708120"/>
            <a:chOff x="1447920" y="3525840"/>
            <a:chExt cx="6279840" cy="708120"/>
          </a:xfrm>
        </p:grpSpPr>
        <p:sp>
          <p:nvSpPr>
            <p:cNvPr id="75" name=""/>
            <p:cNvSpPr/>
            <p:nvPr/>
          </p:nvSpPr>
          <p:spPr>
            <a:xfrm>
              <a:off x="1479600" y="3557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236000" y="3525840"/>
              <a:ext cx="380880" cy="152280"/>
              <a:chOff x="7236000" y="3525840"/>
              <a:chExt cx="380880" cy="152280"/>
            </a:xfrm>
          </p:grpSpPr>
          <p:sp>
            <p:nvSpPr>
              <p:cNvPr id="77" name=""/>
              <p:cNvSpPr/>
              <p:nvPr/>
            </p:nvSpPr>
            <p:spPr>
              <a:xfrm>
                <a:off x="7236000" y="3525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64600" y="3525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37440" y="4081680"/>
              <a:ext cx="380880" cy="152280"/>
              <a:chOff x="7237440" y="4081680"/>
              <a:chExt cx="380880" cy="152280"/>
            </a:xfrm>
          </p:grpSpPr>
          <p:sp>
            <p:nvSpPr>
              <p:cNvPr id="80" name=""/>
              <p:cNvSpPr/>
              <p:nvPr/>
            </p:nvSpPr>
            <p:spPr>
              <a:xfrm>
                <a:off x="7237440" y="4081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66040" y="4081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118280" y="3683160"/>
              <a:ext cx="152280" cy="380880"/>
              <a:chOff x="7118280" y="3683160"/>
              <a:chExt cx="152280" cy="380880"/>
            </a:xfrm>
          </p:grpSpPr>
          <p:sp>
            <p:nvSpPr>
              <p:cNvPr id="83" name=""/>
              <p:cNvSpPr/>
              <p:nvPr/>
            </p:nvSpPr>
            <p:spPr>
              <a:xfrm rot="16200000">
                <a:off x="7118280" y="3911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7118280" y="3683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575480" y="3684600"/>
              <a:ext cx="152280" cy="380880"/>
              <a:chOff x="7575480" y="3684600"/>
              <a:chExt cx="152280" cy="380880"/>
            </a:xfrm>
          </p:grpSpPr>
          <p:sp>
            <p:nvSpPr>
              <p:cNvPr id="86" name=""/>
              <p:cNvSpPr/>
              <p:nvPr/>
            </p:nvSpPr>
            <p:spPr>
              <a:xfrm rot="16200000">
                <a:off x="7575480" y="3913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7575480" y="3684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4738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24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5320" y="4081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3920" y="4081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6356520" y="3682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6813360" y="391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6813360" y="368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34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420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6680" y="4081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549612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5952960" y="391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952960" y="368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076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936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64320" y="4081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61340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07060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3525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7040" y="4081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379908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425628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672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5480" y="4081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338472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74840" y="3548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2492280" y="3852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376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2932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8188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9276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8916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4172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3962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In what family would you classify hydrogen?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43000" y="380880"/>
            <a:ext cx="7010280" cy="2600280"/>
            <a:chOff x="1143000" y="380880"/>
            <a:chExt cx="7010280" cy="26002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143000" y="61884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217520" y="380880"/>
              <a:ext cx="6890400" cy="1115640"/>
              <a:chOff x="1217520" y="380880"/>
              <a:chExt cx="6890400" cy="1115640"/>
            </a:xfrm>
          </p:grpSpPr>
          <p:sp>
            <p:nvSpPr>
              <p:cNvPr id="127" name=""/>
              <p:cNvSpPr/>
              <p:nvPr/>
            </p:nvSpPr>
            <p:spPr>
              <a:xfrm>
                <a:off x="1217520" y="3808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9920" y="76320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0304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580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8892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32040" y="86976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4800" y="97596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17920" y="39204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568520" y="2895480"/>
            <a:ext cx="6279840" cy="708120"/>
            <a:chOff x="1568520" y="2895480"/>
            <a:chExt cx="6279840" cy="708120"/>
          </a:xfrm>
        </p:grpSpPr>
        <p:sp>
          <p:nvSpPr>
            <p:cNvPr id="136" name=""/>
            <p:cNvSpPr/>
            <p:nvPr/>
          </p:nvSpPr>
          <p:spPr>
            <a:xfrm>
              <a:off x="1600200" y="2927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56600" y="2895480"/>
              <a:ext cx="380880" cy="152280"/>
              <a:chOff x="7356600" y="2895480"/>
              <a:chExt cx="380880" cy="152280"/>
            </a:xfrm>
          </p:grpSpPr>
          <p:sp>
            <p:nvSpPr>
              <p:cNvPr id="138" name=""/>
              <p:cNvSpPr/>
              <p:nvPr/>
            </p:nvSpPr>
            <p:spPr>
              <a:xfrm>
                <a:off x="73566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852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58040" y="3451320"/>
              <a:ext cx="380880" cy="152280"/>
              <a:chOff x="7358040" y="3451320"/>
              <a:chExt cx="380880" cy="15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73580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866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238880" y="3052800"/>
              <a:ext cx="152280" cy="380880"/>
              <a:chOff x="7238880" y="3052800"/>
              <a:chExt cx="152280" cy="380880"/>
            </a:xfrm>
          </p:grpSpPr>
          <p:sp>
            <p:nvSpPr>
              <p:cNvPr id="144" name=""/>
              <p:cNvSpPr/>
              <p:nvPr/>
            </p:nvSpPr>
            <p:spPr>
              <a:xfrm rot="16200000">
                <a:off x="7238880" y="3281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7238880" y="3052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696080" y="3054240"/>
              <a:ext cx="152280" cy="380880"/>
              <a:chOff x="7696080" y="3054240"/>
              <a:chExt cx="152280" cy="380880"/>
            </a:xfrm>
          </p:grpSpPr>
          <p:sp>
            <p:nvSpPr>
              <p:cNvPr id="147" name=""/>
              <p:cNvSpPr/>
              <p:nvPr/>
            </p:nvSpPr>
            <p:spPr>
              <a:xfrm rot="16200000">
                <a:off x="7696080" y="328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7696080" y="3054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5944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59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245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6477120" y="3052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69339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69339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34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626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56167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60735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60735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513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799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8492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47340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51912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90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764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39196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43768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878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8608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5053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95440" y="2917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2612880" y="32220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34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499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248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2120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3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97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85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2920" y="304920"/>
            <a:ext cx="87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In what family would each of these elements be classifi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n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dine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s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90720" y="2438280"/>
            <a:ext cx="7010280" cy="2600280"/>
            <a:chOff x="990720" y="2438280"/>
            <a:chExt cx="7010280" cy="2600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990720" y="267624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1065240" y="2438280"/>
              <a:ext cx="6890400" cy="1115640"/>
              <a:chOff x="1065240" y="2438280"/>
              <a:chExt cx="6890400" cy="1115640"/>
            </a:xfrm>
          </p:grpSpPr>
          <p:sp>
            <p:nvSpPr>
              <p:cNvPr id="188" name=""/>
              <p:cNvSpPr/>
              <p:nvPr/>
            </p:nvSpPr>
            <p:spPr>
              <a:xfrm>
                <a:off x="1065240" y="24382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07640" y="282060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50760" y="29271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93520" y="29271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36640" y="29271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79760" y="292716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2520" y="303336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65640" y="244944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1415880" y="4952880"/>
            <a:ext cx="6279840" cy="708120"/>
            <a:chOff x="1415880" y="4952880"/>
            <a:chExt cx="6279840" cy="708120"/>
          </a:xfrm>
        </p:grpSpPr>
        <p:sp>
          <p:nvSpPr>
            <p:cNvPr id="197" name=""/>
            <p:cNvSpPr/>
            <p:nvPr/>
          </p:nvSpPr>
          <p:spPr>
            <a:xfrm>
              <a:off x="1447560" y="4984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203960" y="4952880"/>
              <a:ext cx="380880" cy="152280"/>
              <a:chOff x="7203960" y="4952880"/>
              <a:chExt cx="380880" cy="152280"/>
            </a:xfrm>
          </p:grpSpPr>
          <p:sp>
            <p:nvSpPr>
              <p:cNvPr id="199" name=""/>
              <p:cNvSpPr/>
              <p:nvPr/>
            </p:nvSpPr>
            <p:spPr>
              <a:xfrm>
                <a:off x="720396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3256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205400" y="5508720"/>
              <a:ext cx="380880" cy="152280"/>
              <a:chOff x="7205400" y="5508720"/>
              <a:chExt cx="380880" cy="152280"/>
            </a:xfrm>
          </p:grpSpPr>
          <p:sp>
            <p:nvSpPr>
              <p:cNvPr id="202" name=""/>
              <p:cNvSpPr/>
              <p:nvPr/>
            </p:nvSpPr>
            <p:spPr>
              <a:xfrm>
                <a:off x="7205400" y="5508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34000" y="5508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086240" y="5110200"/>
              <a:ext cx="152280" cy="380880"/>
              <a:chOff x="7086240" y="5110200"/>
              <a:chExt cx="152280" cy="380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7086240" y="5338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7086240" y="5110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543440" y="5111640"/>
              <a:ext cx="152280" cy="380880"/>
              <a:chOff x="7543440" y="5111640"/>
              <a:chExt cx="152280" cy="380880"/>
            </a:xfrm>
          </p:grpSpPr>
          <p:sp>
            <p:nvSpPr>
              <p:cNvPr id="208" name=""/>
              <p:cNvSpPr/>
              <p:nvPr/>
            </p:nvSpPr>
            <p:spPr>
              <a:xfrm rot="16200000">
                <a:off x="7543440" y="5340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7543440" y="5111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4418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70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43280" y="5508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1880" y="5508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6324480" y="5109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781320" y="5340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1320" y="5111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81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00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4640" y="5508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546408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5920920" y="5340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5920920" y="5111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9872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2732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32280" y="550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458136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503856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44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5000" y="550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376704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422424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52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33440" y="550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335268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2800" y="4975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2460240" y="52794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8172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728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4984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856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6072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5712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968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1588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2920" y="304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Predict the number of valence electrons for each element based on its location in the Periodic Table of Elements. You will need to use the table in your text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ium = _____    Lead = _____    Bismuth = _____    Potassium =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5345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3:00:17Z</dcterms:created>
  <dc:creator>Tracy Trimpe</dc:creator>
  <dc:description/>
  <dc:language>en-US</dc:language>
  <cp:lastModifiedBy>Tracy Trimpe</cp:lastModifiedBy>
  <dcterms:modified xsi:type="dcterms:W3CDTF">2008-11-22T20:05:40Z</dcterms:modified>
  <cp:revision>23</cp:revision>
  <dc:subject/>
  <dc:title>Periodic Table Basics</dc:title>
</cp:coreProperties>
</file>