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31F5-C034-4B1F-8E99-EDE92216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56C6-2603-4740-9294-309E1C9E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F91F-C8EC-45E9-8BFE-9E91EB4E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E6E5-7D3C-4702-8948-4B60B2455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28CD-277D-4E2D-A055-2B06560C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32FC-1D95-4DF9-8324-4026BBDE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3F88-BEB6-49CE-B52E-EA5E2C44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D82F-3524-4EC7-B95A-89611A37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C449-3044-49BC-B9D4-1A92ED74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678F-43D0-4871-9947-80CAF423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F319-0C8A-4FB6-880B-8E879DD2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5CE2-9E95-48BA-B4A8-832DB45F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142D-DECA-4AC8-89B0-8DB8384A7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3200400"/>
            <a:ext cx="2743200" cy="269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" y="380880"/>
            <a:ext cx="815328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effectLst>
                  <a:outerShdw dist="125751" dir="18900000" blurRad="0" rotWithShape="0">
                    <a:srgbClr val="00cc00"/>
                  </a:outerShdw>
                </a:effectLst>
                <a:latin typeface="Cooper Black"/>
              </a:rPr>
              <a:t>Microscope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3333cc"/>
              </a:solidFill>
              <a:effectLst>
                <a:outerShdw dist="125751" dir="18900000" blurRad="0" rotWithShape="0">
                  <a:srgbClr val="00cc00"/>
                </a:outerShdw>
              </a:effectLst>
              <a:latin typeface="Cooper Black"/>
              <a:ea typeface="Cooper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581280" y="3429000"/>
            <a:ext cx="48006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effectLst>
                  <a:outerShdw dist="125751" dir="18900000" blurRad="0" rotWithShape="0">
                    <a:srgbClr val="00cc00"/>
                  </a:outerShdw>
                </a:effectLst>
                <a:latin typeface="Cooper Black"/>
              </a:rPr>
              <a:t>Basics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3333cc"/>
              </a:solidFill>
              <a:effectLst>
                <a:outerShdw dist="125751" dir="18900000" blurRad="0" rotWithShape="0">
                  <a:srgbClr val="00cc00"/>
                </a:outerShdw>
              </a:effectLst>
              <a:latin typeface="Cooper Black"/>
              <a:ea typeface="Cooper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248520"/>
            <a:ext cx="25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 Trimpe 2005    http://sciencespot.net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858000" cy="640728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914400" y="228600"/>
            <a:ext cx="7315200" cy="5638680"/>
            <a:chOff x="914400" y="228600"/>
            <a:chExt cx="7315200" cy="5638680"/>
          </a:xfrm>
        </p:grpSpPr>
        <p:grpSp>
          <p:nvGrpSpPr>
            <p:cNvPr id="47" name=""/>
            <p:cNvGrpSpPr/>
            <p:nvPr/>
          </p:nvGrpSpPr>
          <p:grpSpPr>
            <a:xfrm>
              <a:off x="914400" y="762120"/>
              <a:ext cx="1219320" cy="4394160"/>
              <a:chOff x="914400" y="762120"/>
              <a:chExt cx="1219320" cy="4394160"/>
            </a:xfrm>
          </p:grpSpPr>
          <p:sp>
            <p:nvSpPr>
              <p:cNvPr id="48" name=""/>
              <p:cNvSpPr/>
              <p:nvPr/>
            </p:nvSpPr>
            <p:spPr>
              <a:xfrm>
                <a:off x="1066680" y="762120"/>
                <a:ext cx="106704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066680" y="1905120"/>
                <a:ext cx="106704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990720" y="2438280"/>
                <a:ext cx="1066680" cy="38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90720" y="3657600"/>
                <a:ext cx="106668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90720" y="4114800"/>
                <a:ext cx="106668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14400" y="4775040"/>
                <a:ext cx="1066680" cy="38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6781680" y="228600"/>
              <a:ext cx="1447920" cy="5638680"/>
              <a:chOff x="6781680" y="228600"/>
              <a:chExt cx="1447920" cy="5638680"/>
            </a:xfrm>
          </p:grpSpPr>
          <p:sp>
            <p:nvSpPr>
              <p:cNvPr id="55" name=""/>
              <p:cNvSpPr/>
              <p:nvPr/>
            </p:nvSpPr>
            <p:spPr>
              <a:xfrm>
                <a:off x="7010280" y="228600"/>
                <a:ext cx="106704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86600" y="2133720"/>
                <a:ext cx="106668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62920" y="3276720"/>
                <a:ext cx="106668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781680" y="3733920"/>
                <a:ext cx="10670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858000" y="4419720"/>
                <a:ext cx="106668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162920" y="5257800"/>
                <a:ext cx="106668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609480" y="685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 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se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400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8720" y="3568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ge Cl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960" y="4673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86600" y="1522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ular le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yepie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8660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86600" y="3200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3733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arse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4511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e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28600" y="5372280"/>
            <a:ext cx="8432640" cy="1320480"/>
            <a:chOff x="228600" y="5372280"/>
            <a:chExt cx="8432640" cy="1320480"/>
          </a:xfrm>
        </p:grpSpPr>
        <p:sp>
          <p:nvSpPr>
            <p:cNvPr id="72" name=""/>
            <p:cNvSpPr/>
            <p:nvPr/>
          </p:nvSpPr>
          <p:spPr>
            <a:xfrm>
              <a:off x="228600" y="5867280"/>
              <a:ext cx="6019920" cy="8254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lways carry a microscope with one hand holding th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r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and one hand under th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as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061040" y="53722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00040" y="4064040"/>
            <a:ext cx="3505320" cy="660240"/>
            <a:chOff x="500040" y="4064040"/>
            <a:chExt cx="3505320" cy="660240"/>
          </a:xfrm>
        </p:grpSpPr>
        <p:sp>
          <p:nvSpPr>
            <p:cNvPr id="75" name=""/>
            <p:cNvSpPr/>
            <p:nvPr/>
          </p:nvSpPr>
          <p:spPr>
            <a:xfrm>
              <a:off x="533520" y="406404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aphrag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00040" y="4419720"/>
              <a:ext cx="35053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304920"/>
            <a:ext cx="853452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’s my pow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alculate the power of magnification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cular le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1914480" cy="2590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38080" y="2641680"/>
            <a:ext cx="533520" cy="53316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rcRect l="14787" t="16483" r="45259" b="6929"/>
          <a:stretch/>
        </p:blipFill>
        <p:spPr>
          <a:xfrm>
            <a:off x="1676520" y="2209680"/>
            <a:ext cx="2666880" cy="3829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349360" y="3733920"/>
            <a:ext cx="533520" cy="53316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70760" y="4003560"/>
            <a:ext cx="184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2590920"/>
            <a:ext cx="3809880" cy="2478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powers of magnification for each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bjectives we have on our microscop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table 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workshe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3049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ring Powers of Magn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70760" y="4003560"/>
            <a:ext cx="184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14400" y="1066680"/>
            <a:ext cx="7620120" cy="1706400"/>
            <a:chOff x="914400" y="1066680"/>
            <a:chExt cx="7620120" cy="170640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914400" y="1066680"/>
              <a:ext cx="2133720" cy="17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048120" y="1325160"/>
              <a:ext cx="5486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 can see better details with higher the powers of magnification, but we cannot see as much of the imag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19040" y="3124080"/>
            <a:ext cx="8191440" cy="3143520"/>
            <a:chOff x="419040" y="3124080"/>
            <a:chExt cx="8191440" cy="3143520"/>
          </a:xfrm>
        </p:grpSpPr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3848040" y="3124080"/>
              <a:ext cx="4762440" cy="314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19040" y="3919680"/>
              <a:ext cx="3276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ich of these images would be viewed at a higher power of magnification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t’s give it a tr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6760" y="1143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–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 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microscope and then rotate the nosepiece to click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d-banded obje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o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760" y="210348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– Place a slide on the stage and secure it using the stage clips. Us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arse adjustment kno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large knob) to get it the image into view and then us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ne adjustment kno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mall knob) to make it clear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6545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– When you are done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 of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microscope and put up the slides you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66760" y="3733920"/>
            <a:ext cx="8610480" cy="1785960"/>
            <a:chOff x="266760" y="3733920"/>
            <a:chExt cx="8610480" cy="1785960"/>
          </a:xfrm>
        </p:grpSpPr>
        <p:sp>
          <p:nvSpPr>
            <p:cNvPr id="97" name=""/>
            <p:cNvSpPr/>
            <p:nvPr/>
          </p:nvSpPr>
          <p:spPr>
            <a:xfrm>
              <a:off x="266760" y="3733920"/>
              <a:ext cx="8610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– Once you have the image in view, rotate the nosepiece to view it under different powers. Draw what you see on your worksheet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4694400"/>
              <a:ext cx="7238880" cy="8254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 careful with the largest objective!  Sometimes there is not enough room and you will not be able to use it!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125280"/>
            <a:ext cx="8534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to make a wet-mount slid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– Get a clean slide and coverslip from your teac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– Plac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rop of water in the middle of the slide.  Don’t use too much or the water will run off the edge and make a mes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– Place the edge of the cover slip on one side of the water dr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28600" y="4572000"/>
            <a:ext cx="8534520" cy="1984320"/>
            <a:chOff x="228600" y="4572000"/>
            <a:chExt cx="8534520" cy="1984320"/>
          </a:xfrm>
        </p:grpSpPr>
        <p:sp>
          <p:nvSpPr>
            <p:cNvPr id="101" name=""/>
            <p:cNvSpPr/>
            <p:nvPr/>
          </p:nvSpPr>
          <p:spPr>
            <a:xfrm>
              <a:off x="2133720" y="5730840"/>
              <a:ext cx="5105160" cy="8254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ou do not need to use the stage clips when viewing wet-mount slides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8600" y="4572000"/>
              <a:ext cx="8534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 – Place the slide on the stage and view it first with the red-banded objective. Once you see the image, you can rotate the nosepiece to view the slide with the different objectiv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28600" y="2727360"/>
            <a:ext cx="8534520" cy="1616040"/>
            <a:chOff x="228600" y="2727360"/>
            <a:chExt cx="8534520" cy="1616040"/>
          </a:xfrm>
        </p:grpSpPr>
        <p:sp>
          <p:nvSpPr>
            <p:cNvPr id="104" name=""/>
            <p:cNvSpPr/>
            <p:nvPr/>
          </p:nvSpPr>
          <p:spPr>
            <a:xfrm>
              <a:off x="228600" y="2727360"/>
              <a:ext cx="853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 - Slowly lower the cover slip on top of the drop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2133720" y="3352680"/>
              <a:ext cx="4572000" cy="990720"/>
              <a:chOff x="2133720" y="3352680"/>
              <a:chExt cx="4572000" cy="990720"/>
            </a:xfrm>
          </p:grpSpPr>
          <p:sp>
            <p:nvSpPr>
              <p:cNvPr id="106" name=""/>
              <p:cNvSpPr/>
              <p:nvPr/>
            </p:nvSpPr>
            <p:spPr>
              <a:xfrm>
                <a:off x="2133720" y="4267080"/>
                <a:ext cx="4572000" cy="76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3733920" y="3429000"/>
                <a:ext cx="838080" cy="838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572000" y="3504960"/>
                <a:ext cx="3808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924360" y="4190760"/>
                <a:ext cx="990720" cy="76320"/>
              </a:xfrm>
              <a:prstGeom prst="flowChartTerminator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971800" y="3352680"/>
                <a:ext cx="1066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over Sli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76920" y="342900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Lower slowl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14:46:29Z</dcterms:created>
  <dc:creator>admin</dc:creator>
  <dc:description/>
  <dc:language>en-US</dc:language>
  <cp:lastModifiedBy>Tracy Trimpe</cp:lastModifiedBy>
  <dcterms:modified xsi:type="dcterms:W3CDTF">2008-09-23T23:27:00Z</dcterms:modified>
  <cp:revision>39</cp:revision>
  <dc:subject/>
  <dc:title>Microscope Basics</dc:title>
</cp:coreProperties>
</file>