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7DA0-F2DF-49E4-BAB5-24127E35B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407D-05D7-4F9A-A800-A4B34466C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9C9-A52A-4BB0-9B6C-036CEAB0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EAD-5F4D-4604-B42B-9CAE0818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3F5-75C3-47D3-BB37-98239E5B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579-8E50-437E-A47E-336F0FDB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8C7-FCBA-474E-88E9-A56AE91D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D11-2C98-4DF8-BAAA-FBC149AA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7B5-EF67-42C9-B4E1-B54B9D57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027-8EAA-43E9-9ED6-88F79182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D8A-472B-422A-865F-F3A6C2F7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5A1-1DC4-4223-BD66-6D7F47BD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226-BEAA-4575-8F6A-F92D3968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E51-3249-4046-B826-12818B35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8933-3557-4E40-827F-1116D1B00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181160" y="107964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y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990720" y="3124080"/>
            <a:ext cx="723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Invertebrat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50" name="Picture 10" descr="an04266_"/>
          <p:cNvPicPr/>
          <p:nvPr/>
        </p:nvPicPr>
        <p:blipFill>
          <a:blip r:embed="rId1"/>
          <a:stretch/>
        </p:blipFill>
        <p:spPr>
          <a:xfrm rot="20535000">
            <a:off x="6998760" y="4777920"/>
            <a:ext cx="162108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an04248_"/>
          <p:cNvPicPr/>
          <p:nvPr/>
        </p:nvPicPr>
        <p:blipFill>
          <a:blip r:embed="rId2"/>
          <a:stretch/>
        </p:blipFill>
        <p:spPr>
          <a:xfrm rot="19303800">
            <a:off x="0" y="380520"/>
            <a:ext cx="181116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an04247_"/>
          <p:cNvPicPr/>
          <p:nvPr/>
        </p:nvPicPr>
        <p:blipFill>
          <a:blip r:embed="rId3"/>
          <a:stretch/>
        </p:blipFill>
        <p:spPr>
          <a:xfrm rot="18994800">
            <a:off x="7511760" y="2491920"/>
            <a:ext cx="1357200" cy="134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an04280_"/>
          <p:cNvPicPr/>
          <p:nvPr/>
        </p:nvPicPr>
        <p:blipFill>
          <a:blip r:embed="rId4"/>
          <a:stretch/>
        </p:blipFill>
        <p:spPr>
          <a:xfrm>
            <a:off x="457200" y="4876920"/>
            <a:ext cx="1225440" cy="143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j0323368"/>
          <p:cNvPicPr/>
          <p:nvPr/>
        </p:nvPicPr>
        <p:blipFill>
          <a:blip r:embed="rId5"/>
          <a:stretch/>
        </p:blipFill>
        <p:spPr>
          <a:xfrm rot="1423200">
            <a:off x="5627520" y="344520"/>
            <a:ext cx="836640" cy="125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j0329583"/>
          <p:cNvPicPr/>
          <p:nvPr/>
        </p:nvPicPr>
        <p:blipFill>
          <a:blip r:embed="rId6"/>
          <a:stretch/>
        </p:blipFill>
        <p:spPr>
          <a:xfrm rot="19246200">
            <a:off x="316080" y="2214720"/>
            <a:ext cx="1255680" cy="144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j0325534"/>
          <p:cNvPicPr/>
          <p:nvPr/>
        </p:nvPicPr>
        <p:blipFill>
          <a:blip r:embed="rId7"/>
          <a:stretch/>
        </p:blipFill>
        <p:spPr>
          <a:xfrm>
            <a:off x="3276720" y="304920"/>
            <a:ext cx="12445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an04278_"/>
          <p:cNvPicPr/>
          <p:nvPr/>
        </p:nvPicPr>
        <p:blipFill>
          <a:blip r:embed="rId8"/>
          <a:stretch/>
        </p:blipFill>
        <p:spPr>
          <a:xfrm rot="20574600">
            <a:off x="1635120" y="5613480"/>
            <a:ext cx="463680" cy="822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an04258_"/>
          <p:cNvPicPr/>
          <p:nvPr/>
        </p:nvPicPr>
        <p:blipFill>
          <a:blip r:embed="rId9"/>
          <a:stretch/>
        </p:blipFill>
        <p:spPr>
          <a:xfrm rot="19112400">
            <a:off x="7633800" y="239400"/>
            <a:ext cx="666720" cy="1677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2057400" y="5486400"/>
            <a:ext cx="499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you meet the challe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124080" y="640080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T. Trimpe 2009   http://sciencespot.net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14619" t="40855" r="52999" b="16666"/>
          <a:stretch/>
        </p:blipFill>
        <p:spPr>
          <a:xfrm>
            <a:off x="1219320" y="990720"/>
            <a:ext cx="6858000" cy="5622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2" name="TextBox 2"/>
          <p:cNvSpPr/>
          <p:nvPr/>
        </p:nvSpPr>
        <p:spPr>
          <a:xfrm>
            <a:off x="0" y="-76320"/>
            <a:ext cx="91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lues can we use to remember the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groups for invertebra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152280" y="228600"/>
            <a:ext cx="434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ir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Work with your partner to place each “critter card” in its correct location around the edges of  the classification 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Write the names of the organisms in the correct location on your “What am I?”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4572000" y="304920"/>
            <a:ext cx="4419720" cy="3047760"/>
            <a:chOff x="4572000" y="304920"/>
            <a:chExt cx="4419720" cy="3047760"/>
          </a:xfrm>
        </p:grpSpPr>
        <p:grpSp>
          <p:nvGrpSpPr>
            <p:cNvPr id="65" name="Group 5"/>
            <p:cNvGrpSpPr/>
            <p:nvPr/>
          </p:nvGrpSpPr>
          <p:grpSpPr>
            <a:xfrm>
              <a:off x="4748760" y="518760"/>
              <a:ext cx="4056480" cy="2619720"/>
              <a:chOff x="4748760" y="518760"/>
              <a:chExt cx="4056480" cy="2619720"/>
            </a:xfrm>
          </p:grpSpPr>
          <p:pic>
            <p:nvPicPr>
              <p:cNvPr id="66" name="Picture 3" descr=""/>
              <p:cNvPicPr/>
              <p:nvPr/>
            </p:nvPicPr>
            <p:blipFill>
              <a:blip r:embed="rId1"/>
              <a:srcRect l="4659" t="20633" r="68364" b="24556"/>
              <a:stretch/>
            </p:blipFill>
            <p:spPr>
              <a:xfrm>
                <a:off x="4748760" y="518760"/>
                <a:ext cx="2033280" cy="261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4" descr=""/>
              <p:cNvPicPr/>
              <p:nvPr/>
            </p:nvPicPr>
            <p:blipFill>
              <a:blip r:embed="rId2"/>
              <a:srcRect l="32810" t="20633" r="40344" b="24556"/>
              <a:stretch/>
            </p:blipFill>
            <p:spPr>
              <a:xfrm>
                <a:off x="6782040" y="518760"/>
                <a:ext cx="2023200" cy="261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6"/>
            <p:cNvSpPr/>
            <p:nvPr/>
          </p:nvSpPr>
          <p:spPr>
            <a:xfrm>
              <a:off x="4572000" y="304920"/>
              <a:ext cx="4419720" cy="304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" name="Straight Arrow Connector 9"/>
          <p:cNvCxnSpPr/>
          <p:nvPr/>
        </p:nvCxnSpPr>
        <p:spPr>
          <a:xfrm>
            <a:off x="3885840" y="1371600"/>
            <a:ext cx="61020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10"/>
          <p:cNvCxnSpPr/>
          <p:nvPr/>
        </p:nvCxnSpPr>
        <p:spPr>
          <a:xfrm>
            <a:off x="2286000" y="3428640"/>
            <a:ext cx="3201120" cy="305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12"/>
          <p:cNvSpPr/>
          <p:nvPr/>
        </p:nvSpPr>
        <p:spPr>
          <a:xfrm>
            <a:off x="152280" y="4038480"/>
            <a:ext cx="52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When you are done, have your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There are three extra organisms listed on the worksheet that are not on the critter cards!  Can you figure out where they g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3"/>
          <a:srcRect l="14619" t="16720" r="52999" b="16666"/>
          <a:stretch/>
        </p:blipFill>
        <p:spPr>
          <a:xfrm>
            <a:off x="5638680" y="3124080"/>
            <a:ext cx="2548080" cy="32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6"/>
          <p:cNvSpPr/>
          <p:nvPr/>
        </p:nvSpPr>
        <p:spPr>
          <a:xfrm>
            <a:off x="380880" y="228600"/>
            <a:ext cx="830592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Shuffle the cards and place in ONE pile o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Start the timer and then pick up the cards and start sorting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 If you are working with a partner, you cannot split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s into two piles until after you start the tim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Stop the timer when you are done.  Have a teacher check your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If all your answers are correct AND you completed the task in 30 seconds or less, write your name on the board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Tracy\AppData\Local\Microsoft\Windows\Temporary Internet Files\Content.IE5\4XTDOIJU\MCAN04282_0000[1].wmf"/>
          <p:cNvPicPr/>
          <p:nvPr/>
        </p:nvPicPr>
        <p:blipFill>
          <a:blip r:embed="rId1"/>
          <a:stretch/>
        </p:blipFill>
        <p:spPr>
          <a:xfrm rot="3115800">
            <a:off x="7254720" y="1320840"/>
            <a:ext cx="1635120" cy="44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Tracy\AppData\Local\Microsoft\Windows\Temporary Internet Files\Content.IE5\R7YBRGGQ\MCAN04242_0000[1].wmf"/>
          <p:cNvPicPr/>
          <p:nvPr/>
        </p:nvPicPr>
        <p:blipFill>
          <a:blip r:embed="rId2"/>
          <a:stretch/>
        </p:blipFill>
        <p:spPr>
          <a:xfrm rot="20112000">
            <a:off x="385920" y="5297040"/>
            <a:ext cx="1815840" cy="78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Tracy\AppData\Local\Microsoft\Windows\Temporary Internet Files\Content.IE5\J0KW0FG7\MCAN04246_0000[1].wmf"/>
          <p:cNvPicPr/>
          <p:nvPr/>
        </p:nvPicPr>
        <p:blipFill>
          <a:blip r:embed="rId3"/>
          <a:stretch/>
        </p:blipFill>
        <p:spPr>
          <a:xfrm rot="2304000">
            <a:off x="5373360" y="4976280"/>
            <a:ext cx="1811160" cy="75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Users\Tracy\AppData\Local\Microsoft\Windows\Temporary Internet Files\Content.IE5\S5KGZE2D\MCAN04276_0000[1].wmf"/>
          <p:cNvPicPr/>
          <p:nvPr/>
        </p:nvPicPr>
        <p:blipFill>
          <a:blip r:embed="rId4"/>
          <a:stretch/>
        </p:blipFill>
        <p:spPr>
          <a:xfrm rot="529200">
            <a:off x="7569000" y="4947840"/>
            <a:ext cx="1031760" cy="139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Users\Tracy\AppData\Local\Microsoft\Windows\Temporary Internet Files\Content.IE5\4XTDOIJU\MCAN04260_0000[1].wmf"/>
          <p:cNvPicPr/>
          <p:nvPr/>
        </p:nvPicPr>
        <p:blipFill>
          <a:blip r:embed="rId5"/>
          <a:stretch/>
        </p:blipFill>
        <p:spPr>
          <a:xfrm rot="19482600">
            <a:off x="2333520" y="4997520"/>
            <a:ext cx="1824120" cy="1101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Tracy\AppData\Local\Microsoft\Windows\Temporary Internet Files\Content.IE5\4XTDOIJU\MCAN04250_0000[1].wmf"/>
          <p:cNvPicPr/>
          <p:nvPr/>
        </p:nvPicPr>
        <p:blipFill>
          <a:blip r:embed="rId6"/>
          <a:stretch/>
        </p:blipFill>
        <p:spPr>
          <a:xfrm>
            <a:off x="4289400" y="5410080"/>
            <a:ext cx="12049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0:54:04Z</dcterms:created>
  <dc:creator>Tracy</dc:creator>
  <dc:description/>
  <dc:language>en-US</dc:language>
  <cp:lastModifiedBy>Tracy</cp:lastModifiedBy>
  <dcterms:modified xsi:type="dcterms:W3CDTF">2009-02-22T00:46:57Z</dcterms:modified>
  <cp:revision>13</cp:revision>
  <dc:subject/>
  <dc:title>Slide 1</dc:title>
</cp:coreProperties>
</file>