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56A0-67A0-4419-94DA-607346F134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1A44-DBB7-412C-B565-8BAC1D38F4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5216-B55A-4CCC-92E0-86D3AF4A1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62E0-EBB6-4B0B-9422-7F79270C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93A6-379C-497D-9452-5E0AA2CEC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D9E8-5A06-4605-A360-8E56E8133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D7D1-CF8C-4D34-AE0E-1704C532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F044-32B1-4294-88EE-EB902F86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6EDF-A8AF-4A6E-A858-72569382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5BF5-61D9-4013-8359-F28E9686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1B9E-7E01-4082-83A9-9C8275A8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0B6A-28D1-4312-9AA1-FFD701D6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C1E8-AB17-4134-8B4A-6C505397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173D-29D9-4ADF-B75C-426CA94E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8A0D-692F-46FA-8522-7FF75B4D0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7"/>
          <p:cNvSpPr txBox="1"/>
          <p:nvPr/>
        </p:nvSpPr>
        <p:spPr>
          <a:xfrm>
            <a:off x="1181160" y="1079640"/>
            <a:ext cx="68580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Classy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49" name="WordArt 8"/>
          <p:cNvSpPr txBox="1"/>
          <p:nvPr/>
        </p:nvSpPr>
        <p:spPr>
          <a:xfrm>
            <a:off x="990720" y="3124080"/>
            <a:ext cx="7238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Invertebrates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pic>
        <p:nvPicPr>
          <p:cNvPr id="50" name="Picture 10" descr="an04266_"/>
          <p:cNvPicPr/>
          <p:nvPr/>
        </p:nvPicPr>
        <p:blipFill>
          <a:blip r:embed="rId1"/>
          <a:stretch/>
        </p:blipFill>
        <p:spPr>
          <a:xfrm rot="20535000">
            <a:off x="6998760" y="4777920"/>
            <a:ext cx="1621080" cy="1676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an04248_"/>
          <p:cNvPicPr/>
          <p:nvPr/>
        </p:nvPicPr>
        <p:blipFill>
          <a:blip r:embed="rId2"/>
          <a:stretch/>
        </p:blipFill>
        <p:spPr>
          <a:xfrm rot="19303800">
            <a:off x="0" y="380520"/>
            <a:ext cx="1811160" cy="971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an04247_"/>
          <p:cNvPicPr/>
          <p:nvPr/>
        </p:nvPicPr>
        <p:blipFill>
          <a:blip r:embed="rId3"/>
          <a:stretch/>
        </p:blipFill>
        <p:spPr>
          <a:xfrm rot="18994800">
            <a:off x="7511760" y="2491920"/>
            <a:ext cx="1357200" cy="1341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an04280_"/>
          <p:cNvPicPr/>
          <p:nvPr/>
        </p:nvPicPr>
        <p:blipFill>
          <a:blip r:embed="rId4"/>
          <a:stretch/>
        </p:blipFill>
        <p:spPr>
          <a:xfrm>
            <a:off x="457200" y="4876920"/>
            <a:ext cx="1225440" cy="1430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j0323368"/>
          <p:cNvPicPr/>
          <p:nvPr/>
        </p:nvPicPr>
        <p:blipFill>
          <a:blip r:embed="rId5"/>
          <a:stretch/>
        </p:blipFill>
        <p:spPr>
          <a:xfrm rot="1423200">
            <a:off x="5627520" y="344520"/>
            <a:ext cx="836640" cy="1254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j0329583"/>
          <p:cNvPicPr/>
          <p:nvPr/>
        </p:nvPicPr>
        <p:blipFill>
          <a:blip r:embed="rId6"/>
          <a:stretch/>
        </p:blipFill>
        <p:spPr>
          <a:xfrm rot="19246200">
            <a:off x="316080" y="2214720"/>
            <a:ext cx="1255680" cy="1449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j0325534"/>
          <p:cNvPicPr/>
          <p:nvPr/>
        </p:nvPicPr>
        <p:blipFill>
          <a:blip r:embed="rId7"/>
          <a:stretch/>
        </p:blipFill>
        <p:spPr>
          <a:xfrm>
            <a:off x="3276720" y="304920"/>
            <a:ext cx="1244520" cy="1371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an04278_"/>
          <p:cNvPicPr/>
          <p:nvPr/>
        </p:nvPicPr>
        <p:blipFill>
          <a:blip r:embed="rId8"/>
          <a:stretch/>
        </p:blipFill>
        <p:spPr>
          <a:xfrm rot="20574600">
            <a:off x="1635120" y="5613480"/>
            <a:ext cx="463680" cy="822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an04258_"/>
          <p:cNvPicPr/>
          <p:nvPr/>
        </p:nvPicPr>
        <p:blipFill>
          <a:blip r:embed="rId9"/>
          <a:stretch/>
        </p:blipFill>
        <p:spPr>
          <a:xfrm rot="19112400">
            <a:off x="7633800" y="239400"/>
            <a:ext cx="666720" cy="16779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2057400" y="5486400"/>
            <a:ext cx="4991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you meet the challe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124080" y="640080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. Trimpe 2009   http://sciencespot.net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rcRect l="14619" t="40855" r="52999" b="16666"/>
          <a:stretch/>
        </p:blipFill>
        <p:spPr>
          <a:xfrm>
            <a:off x="1219320" y="990720"/>
            <a:ext cx="6858000" cy="5622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2" name="TextBox 2"/>
          <p:cNvSpPr/>
          <p:nvPr/>
        </p:nvSpPr>
        <p:spPr>
          <a:xfrm>
            <a:off x="0" y="-76320"/>
            <a:ext cx="9144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lues can we use to remember the differ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ication groups for invertebrat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2"/>
          <p:cNvSpPr/>
          <p:nvPr/>
        </p:nvSpPr>
        <p:spPr>
          <a:xfrm>
            <a:off x="152280" y="228600"/>
            <a:ext cx="4343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y Dire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Work with your partner to place each “critter card” in its correct location around the edges of  the classification m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Write the names of the organisms in the correct location on your “What am I?” worksh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7"/>
          <p:cNvGrpSpPr/>
          <p:nvPr/>
        </p:nvGrpSpPr>
        <p:grpSpPr>
          <a:xfrm>
            <a:off x="4572000" y="304920"/>
            <a:ext cx="4419720" cy="3047760"/>
            <a:chOff x="4572000" y="304920"/>
            <a:chExt cx="4419720" cy="3047760"/>
          </a:xfrm>
        </p:grpSpPr>
        <p:grpSp>
          <p:nvGrpSpPr>
            <p:cNvPr id="65" name="Group 5"/>
            <p:cNvGrpSpPr/>
            <p:nvPr/>
          </p:nvGrpSpPr>
          <p:grpSpPr>
            <a:xfrm>
              <a:off x="4748760" y="518760"/>
              <a:ext cx="4056480" cy="2619720"/>
              <a:chOff x="4748760" y="518760"/>
              <a:chExt cx="4056480" cy="2619720"/>
            </a:xfrm>
          </p:grpSpPr>
          <p:pic>
            <p:nvPicPr>
              <p:cNvPr id="66" name="Picture 3" descr=""/>
              <p:cNvPicPr/>
              <p:nvPr/>
            </p:nvPicPr>
            <p:blipFill>
              <a:blip r:embed="rId1"/>
              <a:srcRect l="4659" t="20633" r="68364" b="24556"/>
              <a:stretch/>
            </p:blipFill>
            <p:spPr>
              <a:xfrm>
                <a:off x="4748760" y="518760"/>
                <a:ext cx="2033280" cy="261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Picture 4" descr=""/>
              <p:cNvPicPr/>
              <p:nvPr/>
            </p:nvPicPr>
            <p:blipFill>
              <a:blip r:embed="rId2"/>
              <a:srcRect l="32810" t="20633" r="40344" b="24556"/>
              <a:stretch/>
            </p:blipFill>
            <p:spPr>
              <a:xfrm>
                <a:off x="6782040" y="518760"/>
                <a:ext cx="2023200" cy="2619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Rectangle 6"/>
            <p:cNvSpPr/>
            <p:nvPr/>
          </p:nvSpPr>
          <p:spPr>
            <a:xfrm>
              <a:off x="4572000" y="304920"/>
              <a:ext cx="4419720" cy="3047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9" name="Straight Arrow Connector 9"/>
          <p:cNvCxnSpPr/>
          <p:nvPr/>
        </p:nvCxnSpPr>
        <p:spPr>
          <a:xfrm>
            <a:off x="3885840" y="1371600"/>
            <a:ext cx="610200" cy="2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Straight Arrow Connector 10"/>
          <p:cNvCxnSpPr/>
          <p:nvPr/>
        </p:nvCxnSpPr>
        <p:spPr>
          <a:xfrm>
            <a:off x="2286000" y="3428640"/>
            <a:ext cx="3201120" cy="3056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TextBox 12"/>
          <p:cNvSpPr/>
          <p:nvPr/>
        </p:nvSpPr>
        <p:spPr>
          <a:xfrm>
            <a:off x="152280" y="4038480"/>
            <a:ext cx="5257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– When you are done, have your teacher check your answ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There are three extra organisms listed on the worksheet that are not on the critter cards!  Can you figure out where they go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3"/>
          <a:srcRect l="14619" t="16720" r="52999" b="16666"/>
          <a:stretch/>
        </p:blipFill>
        <p:spPr>
          <a:xfrm>
            <a:off x="5638680" y="3124080"/>
            <a:ext cx="2548080" cy="3276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6"/>
          <p:cNvSpPr/>
          <p:nvPr/>
        </p:nvSpPr>
        <p:spPr>
          <a:xfrm>
            <a:off x="380880" y="228600"/>
            <a:ext cx="830592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LLENGE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Shuffle the cards and place in ONE pile on th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Start the timer and then pick up the cards and start sorting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 If you are working with a partner, you cannot split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s into two piles until after you start the tim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– Stop the timer when you are done.  Have a teacher check your answ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– If all your answers are correct AND you completed the task in 30 seconds or less, write your name on the board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Users\Tracy\AppData\Local\Microsoft\Windows\Temporary Internet Files\Content.IE5\4XTDOIJU\MCAN04282_0000[1].wmf"/>
          <p:cNvPicPr/>
          <p:nvPr/>
        </p:nvPicPr>
        <p:blipFill>
          <a:blip r:embed="rId1"/>
          <a:stretch/>
        </p:blipFill>
        <p:spPr>
          <a:xfrm rot="3115800">
            <a:off x="7254720" y="1320840"/>
            <a:ext cx="1635120" cy="44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Tracy\AppData\Local\Microsoft\Windows\Temporary Internet Files\Content.IE5\R7YBRGGQ\MCAN04242_0000[1].wmf"/>
          <p:cNvPicPr/>
          <p:nvPr/>
        </p:nvPicPr>
        <p:blipFill>
          <a:blip r:embed="rId2"/>
          <a:stretch/>
        </p:blipFill>
        <p:spPr>
          <a:xfrm rot="20112000">
            <a:off x="385920" y="5297040"/>
            <a:ext cx="1815840" cy="784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:\Users\Tracy\AppData\Local\Microsoft\Windows\Temporary Internet Files\Content.IE5\J0KW0FG7\MCAN04246_0000[1].wmf"/>
          <p:cNvPicPr/>
          <p:nvPr/>
        </p:nvPicPr>
        <p:blipFill>
          <a:blip r:embed="rId3"/>
          <a:stretch/>
        </p:blipFill>
        <p:spPr>
          <a:xfrm rot="2304000">
            <a:off x="5373360" y="4976280"/>
            <a:ext cx="1811160" cy="757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C:\Users\Tracy\AppData\Local\Microsoft\Windows\Temporary Internet Files\Content.IE5\S5KGZE2D\MCAN04276_0000[1].wmf"/>
          <p:cNvPicPr/>
          <p:nvPr/>
        </p:nvPicPr>
        <p:blipFill>
          <a:blip r:embed="rId4"/>
          <a:stretch/>
        </p:blipFill>
        <p:spPr>
          <a:xfrm rot="529200">
            <a:off x="7569000" y="4947840"/>
            <a:ext cx="1031760" cy="1395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C:\Users\Tracy\AppData\Local\Microsoft\Windows\Temporary Internet Files\Content.IE5\4XTDOIJU\MCAN04260_0000[1].wmf"/>
          <p:cNvPicPr/>
          <p:nvPr/>
        </p:nvPicPr>
        <p:blipFill>
          <a:blip r:embed="rId5"/>
          <a:stretch/>
        </p:blipFill>
        <p:spPr>
          <a:xfrm rot="19482600">
            <a:off x="2333520" y="4997520"/>
            <a:ext cx="1824120" cy="1101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C:\Users\Tracy\AppData\Local\Microsoft\Windows\Temporary Internet Files\Content.IE5\4XTDOIJU\MCAN04250_0000[1].wmf"/>
          <p:cNvPicPr/>
          <p:nvPr/>
        </p:nvPicPr>
        <p:blipFill>
          <a:blip r:embed="rId6"/>
          <a:stretch/>
        </p:blipFill>
        <p:spPr>
          <a:xfrm>
            <a:off x="4289400" y="5410080"/>
            <a:ext cx="12049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00:54:04Z</dcterms:created>
  <dc:creator>Tracy</dc:creator>
  <dc:description/>
  <dc:language>en-US</dc:language>
  <cp:lastModifiedBy>Tracy</cp:lastModifiedBy>
  <dcterms:modified xsi:type="dcterms:W3CDTF">2009-02-22T00:46:57Z</dcterms:modified>
  <cp:revision>13</cp:revision>
  <dc:subject/>
  <dc:title>Slide 1</dc:title>
</cp:coreProperties>
</file>