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24A-8737-488E-8098-D68E5E47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939-05DB-4E72-A959-A2A3D797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033-A0E9-44B0-9569-0E0C7CE6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0B4-BD50-40DA-8EA2-D47126CE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E3B-F2AF-4BD5-A62D-5AFC428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AC5-A769-4067-8052-94CE357D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C78-C263-4F46-8E95-3A55CC6D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AF6-E445-4747-B646-D8547197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FA5-9589-479F-B404-46FDC41D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97A-744E-430C-B338-2E45105A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8A2-FE21-4F77-94FB-6E479F3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F23-12FE-4C7A-849A-6773777D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B2BD-1AED-4D93-8383-8F7E38ECC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3292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85800" y="5105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ensic Science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80880" y="990720"/>
            <a:ext cx="8229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Tire Track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52280" y="6553080"/>
            <a:ext cx="502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pro.corbis.com/images/CB001940.jpg?size=572&amp;uid={D27A89DF-00BB-4028-AA57-7A908AF0511D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400800" y="65833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. Trimpe 2007  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54160"/>
            <a:ext cx="2984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re Track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429000" y="152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group will need to document the tread patterns for each veh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280" y="10666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Get a large piece of white paper from your teacher, an ink pad, paper towels, and a ruler. You will also need a pen or pe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52280" y="205740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2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l a car over the ink pa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ver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cover all the sides of the ti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52280" y="3048120"/>
            <a:ext cx="883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3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nt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l the car on the white paper for a length of 5-6” and label the tracks with the car’s lett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u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You will want to apply enough pressure to get a good impression, but not too hard that you cause damage to the vehicle, its tires, or the ink 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52280" y="480060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4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 the car on a piece of paper towel to remove excess ink and then pass it along to anoth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52280" y="579132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alyze the tire tracks to identify unique characteristics, such as blank spots, evidence of tire wear, width of the track, etc. Use a highlighter to mark each characteristic you f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39680" y="10033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with your investigative team to identify each set of tracks shown on your work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e the tracks you made earlier and match them to the suspect tracks on the worksheet. Once you have identified all the cars, have your answers checked by your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52280" y="254160"/>
            <a:ext cx="3124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re Track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838080" y="350532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Ready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56" name="WordArt 10"/>
          <p:cNvSpPr txBox="1"/>
          <p:nvPr/>
        </p:nvSpPr>
        <p:spPr>
          <a:xfrm rot="20197800">
            <a:off x="2057400" y="4343040"/>
            <a:ext cx="2590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e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57" name="WordArt 11"/>
          <p:cNvSpPr txBox="1"/>
          <p:nvPr/>
        </p:nvSpPr>
        <p:spPr>
          <a:xfrm>
            <a:off x="3733920" y="5334120"/>
            <a:ext cx="25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GO!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58" name="Picture 12" descr="tn00722_"/>
          <p:cNvPicPr/>
          <p:nvPr/>
        </p:nvPicPr>
        <p:blipFill>
          <a:blip r:embed="rId1"/>
          <a:stretch/>
        </p:blipFill>
        <p:spPr>
          <a:xfrm>
            <a:off x="5943600" y="3276720"/>
            <a:ext cx="23464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1:56:01Z</dcterms:created>
  <dc:creator>Tracy Trimpe</dc:creator>
  <dc:description/>
  <dc:language>en-US</dc:language>
  <cp:lastModifiedBy>Tracy</cp:lastModifiedBy>
  <dcterms:modified xsi:type="dcterms:W3CDTF">2009-06-28T01:04:35Z</dcterms:modified>
  <cp:revision>68</cp:revision>
  <dc:subject/>
  <dc:title>Slide 1</dc:title>
</cp:coreProperties>
</file>