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482-57AB-4503-858F-B02C75CA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EDB-9159-4B13-80C0-D91E0B3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A4F-5C1E-4475-9DF1-CF574FEA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73E-AC7C-4BF4-9E38-EB0E1D61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B8F-A1CE-4D96-8802-339C4551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1A8-D0F5-4B02-955E-C9C5689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E2B-EE10-4C77-825D-3769F76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CAB-C6CB-46B6-A0EA-624D38B2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6AF-B37F-426D-9F3E-FD00067A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6D6-4627-4B01-A440-862D58B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98C-1C1B-4DC1-A16B-0E48F6C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11B-8529-48F6-94A2-E9F542A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F68F-F645-4040-BA3A-267E66C39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3292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5105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ensic Scienc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80880" y="990720"/>
            <a:ext cx="8229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Tire Track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52280" y="6553080"/>
            <a:ext cx="502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pro.corbis.com/images/CB001940.jpg?size=572&amp;uid={D27A89DF-00BB-4028-AA57-7A908AF0511D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00800" y="65833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. Trimpe 2007  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54160"/>
            <a:ext cx="2984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re Track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29000" y="152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group will need to document the tread patterns for each veh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280" y="10666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Get a large piece of white paper from your teacher, an ink pad, paper towels, and a ruler. You will also need a pen or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2280" y="205740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l a car over the ink pa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ver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cover all the sides of the t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52280" y="3048120"/>
            <a:ext cx="883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3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l the car on the white paper for a length of 5-6” and label the tracks with the car’s lett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You will want to apply enough pressure to get a good impression, but not too hard that you cause damage to the vehicle, its tires, or the ink 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52280" y="480060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4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 the car on a piece of paper towel to remove excess ink and then pass it along to anoth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2280" y="579132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alyze the tire tracks to identify unique characteristics, such as blank spots, evidence of tire wear, width of the track, etc. Use a highlighter to mark each characteristic you f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9680" y="10033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with your investigative team to identify each set of tracks shown on your work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e the tracks you made earlier and match them to the suspect tracks on the worksheet. Once you have identified all the cars, have your answers checked by your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280" y="254160"/>
            <a:ext cx="3124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re Track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838080" y="350532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Ready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56" name="WordArt 10"/>
          <p:cNvSpPr txBox="1"/>
          <p:nvPr/>
        </p:nvSpPr>
        <p:spPr>
          <a:xfrm rot="20197800">
            <a:off x="2057400" y="434304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e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3733920" y="5334120"/>
            <a:ext cx="25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GO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58" name="Picture 12" descr="tn00722_"/>
          <p:cNvPicPr/>
          <p:nvPr/>
        </p:nvPicPr>
        <p:blipFill>
          <a:blip r:embed="rId1"/>
          <a:stretch/>
        </p:blipFill>
        <p:spPr>
          <a:xfrm>
            <a:off x="5943600" y="3276720"/>
            <a:ext cx="2346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1:56:01Z</dcterms:created>
  <dc:creator>Tracy Trimpe</dc:creator>
  <dc:description/>
  <dc:language>en-US</dc:language>
  <cp:lastModifiedBy>Tracy</cp:lastModifiedBy>
  <dcterms:modified xsi:type="dcterms:W3CDTF">2009-06-28T01:04:35Z</dcterms:modified>
  <cp:revision>68</cp:revision>
  <dc:subject/>
  <dc:title>Slide 1</dc:title>
</cp:coreProperties>
</file>