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8F5-AE66-4116-8BB2-3CF80C40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D1C-BB1F-41F4-A19E-6F5E1D8A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425-9119-4572-8A21-480E597F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19B-96DA-4DA1-9F04-BE058CE9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179-46E8-4646-8A62-1AA40265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582-566A-4D17-A64E-8936C3C9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FAD-6C6D-40F0-8036-1F627510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771-E9F8-4660-B6A9-9CAFE405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B2A-70E5-48FB-AF29-316FDB72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65D-0228-406C-8A7E-883B5BEC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4B3-A8CE-4CBC-A948-B09634BE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2A0-7005-4FED-9EFF-4AE3AEA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8908-55DC-456C-89FE-AC6DB96FA7C5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s://www.youtube.com/watch?v=ZKi1CKTRCQ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36280" y="7040520"/>
            <a:ext cx="768204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9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Grade Forensic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rcRect l="22916" t="35188" r="25696" b="35184"/>
          <a:stretch/>
        </p:blipFill>
        <p:spPr>
          <a:xfrm>
            <a:off x="1371600" y="3394080"/>
            <a:ext cx="8183520" cy="354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3" name="Group 9"/>
          <p:cNvGrpSpPr/>
          <p:nvPr/>
        </p:nvGrpSpPr>
        <p:grpSpPr>
          <a:xfrm>
            <a:off x="365040" y="457200"/>
            <a:ext cx="10302840" cy="2514600"/>
            <a:chOff x="365040" y="457200"/>
            <a:chExt cx="10302840" cy="2514600"/>
          </a:xfrm>
        </p:grpSpPr>
        <p:sp>
          <p:nvSpPr>
            <p:cNvPr id="44" name="WordArt 5"/>
            <p:cNvSpPr txBox="1"/>
            <p:nvPr/>
          </p:nvSpPr>
          <p:spPr>
            <a:xfrm>
              <a:off x="365040" y="457200"/>
              <a:ext cx="6126120" cy="191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33cc"/>
                  </a:solidFill>
                  <a:latin typeface="Cooper Black"/>
                </a:rPr>
                <a:t>Ridgeology</a:t>
              </a:r>
              <a:endParaRPr b="0" lang="en-US" sz="2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Cooper Black"/>
                <a:ea typeface="Cooper Black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346480" y="2239920"/>
              <a:ext cx="8321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 Closer Look at Fingerprint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7"/>
          <p:cNvSpPr/>
          <p:nvPr/>
        </p:nvSpPr>
        <p:spPr>
          <a:xfrm>
            <a:off x="122400" y="7869240"/>
            <a:ext cx="6217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ftp://sequoyah.nist.gov/pub/nist_internal_reports/ir_6534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678200" y="7859880"/>
            <a:ext cx="6218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7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74680" y="636840"/>
            <a:ext cx="104234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1468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idgeolog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The study of the uniqueness of friction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idg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tructures and their use for personal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28600" y="7783560"/>
            <a:ext cx="10515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i="1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roduction to Basic Ridge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David Ashbaugh, May 1999                                                       Image from http://www.cs.usyd.edu.au/~irena/minutia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549360" y="5715000"/>
            <a:ext cx="10058040" cy="1720080"/>
            <a:chOff x="549360" y="5715000"/>
            <a:chExt cx="10058040" cy="1720080"/>
          </a:xfrm>
        </p:grpSpPr>
        <p:sp>
          <p:nvSpPr>
            <p:cNvPr id="51" name="Rectangle 6"/>
            <p:cNvSpPr/>
            <p:nvPr/>
          </p:nvSpPr>
          <p:spPr>
            <a:xfrm>
              <a:off x="2377800" y="5789520"/>
              <a:ext cx="8229600" cy="15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koala is one of the few mammals (other than primates) that has fingerprints. In fact, koala fingerprints are remarkably similar to human fingerprints; even with an electron microscope, it can be quite difficult to distinguish between the tw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9"/>
            <p:cNvGrpSpPr/>
            <p:nvPr/>
          </p:nvGrpSpPr>
          <p:grpSpPr>
            <a:xfrm>
              <a:off x="549360" y="5715000"/>
              <a:ext cx="1645560" cy="1720080"/>
              <a:chOff x="549360" y="5715000"/>
              <a:chExt cx="1645560" cy="1720080"/>
            </a:xfrm>
          </p:grpSpPr>
          <p:pic>
            <p:nvPicPr>
              <p:cNvPr id="53" name="Picture 7" descr="j0286957"/>
              <p:cNvPicPr/>
              <p:nvPr/>
            </p:nvPicPr>
            <p:blipFill>
              <a:blip r:embed="rId1"/>
              <a:stretch/>
            </p:blipFill>
            <p:spPr>
              <a:xfrm>
                <a:off x="640440" y="6080400"/>
                <a:ext cx="1554480" cy="135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WordArt 8"/>
              <p:cNvSpPr txBox="1"/>
              <p:nvPr/>
            </p:nvSpPr>
            <p:spPr>
              <a:xfrm>
                <a:off x="549360" y="5715000"/>
                <a:ext cx="1639800" cy="624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lba"/>
                  </a:rPr>
                  <a:t>Did you know?</a:t>
                </a:r>
                <a:endParaRPr b="0" lang="en-US" sz="2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lba"/>
                  <a:ea typeface="Alba"/>
                </a:endParaRPr>
              </a:p>
            </p:txBody>
          </p:sp>
        </p:grpSp>
      </p:grpSp>
      <p:grpSp>
        <p:nvGrpSpPr>
          <p:cNvPr id="55" name="Group 15"/>
          <p:cNvGrpSpPr/>
          <p:nvPr/>
        </p:nvGrpSpPr>
        <p:grpSpPr>
          <a:xfrm>
            <a:off x="274680" y="1980360"/>
            <a:ext cx="10447200" cy="3201840"/>
            <a:chOff x="274680" y="1980360"/>
            <a:chExt cx="10447200" cy="3201840"/>
          </a:xfrm>
        </p:grpSpPr>
        <p:sp>
          <p:nvSpPr>
            <p:cNvPr id="56" name="Rectangle 11"/>
            <p:cNvSpPr/>
            <p:nvPr/>
          </p:nvSpPr>
          <p:spPr>
            <a:xfrm>
              <a:off x="274680" y="1980360"/>
              <a:ext cx="7680240" cy="32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71468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As we have learned in our first lesson, a fingerprint is made of a series of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ridges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valleys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on the surface of the finger. The uniqueness of a fingerprint can be determined by the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of ridges and valleys as well as the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minutiae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points, which are points where the ridge structure changes.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14" descr=""/>
            <p:cNvPicPr/>
            <p:nvPr/>
          </p:nvPicPr>
          <p:blipFill>
            <a:blip r:embed="rId2"/>
            <a:stretch/>
          </p:blipFill>
          <p:spPr>
            <a:xfrm>
              <a:off x="8077320" y="2057400"/>
              <a:ext cx="264456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04920" y="228600"/>
            <a:ext cx="83055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gerprin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inutiae on two different prints match, these are called point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point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t this point ther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national standard for the number of points of identification required for a match between two fingerprints. However, the United Kingdom requires a minim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while Australia requir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j0241179"/>
          <p:cNvPicPr/>
          <p:nvPr/>
        </p:nvPicPr>
        <p:blipFill>
          <a:blip r:embed="rId1"/>
          <a:stretch/>
        </p:blipFill>
        <p:spPr>
          <a:xfrm>
            <a:off x="8839080" y="1143000"/>
            <a:ext cx="17496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6"/>
          <p:cNvGrpSpPr/>
          <p:nvPr/>
        </p:nvGrpSpPr>
        <p:grpSpPr>
          <a:xfrm>
            <a:off x="152280" y="3809880"/>
            <a:ext cx="10667880" cy="3881520"/>
            <a:chOff x="152280" y="3809880"/>
            <a:chExt cx="10667880" cy="3881520"/>
          </a:xfrm>
        </p:grpSpPr>
        <p:sp>
          <p:nvSpPr>
            <p:cNvPr id="61" name="Text Box 6"/>
            <p:cNvSpPr/>
            <p:nvPr/>
          </p:nvSpPr>
          <p:spPr>
            <a:xfrm>
              <a:off x="723600" y="3809880"/>
              <a:ext cx="95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utomated Fingerprint Identification System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FI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5"/>
            <p:cNvGrpSpPr/>
            <p:nvPr/>
          </p:nvGrpSpPr>
          <p:grpSpPr>
            <a:xfrm>
              <a:off x="152280" y="4572000"/>
              <a:ext cx="10667880" cy="3119400"/>
              <a:chOff x="152280" y="4572000"/>
              <a:chExt cx="10667880" cy="3119400"/>
            </a:xfrm>
          </p:grpSpPr>
          <p:grpSp>
            <p:nvGrpSpPr>
              <p:cNvPr id="63" name="Group 14"/>
              <p:cNvGrpSpPr/>
              <p:nvPr/>
            </p:nvGrpSpPr>
            <p:grpSpPr>
              <a:xfrm>
                <a:off x="152280" y="4572000"/>
                <a:ext cx="5029200" cy="3119400"/>
                <a:chOff x="152280" y="4572000"/>
                <a:chExt cx="5029200" cy="3119400"/>
              </a:xfrm>
            </p:grpSpPr>
            <p:sp>
              <p:nvSpPr>
                <p:cNvPr id="64" name="Text Box 8"/>
                <p:cNvSpPr/>
                <p:nvPr/>
              </p:nvSpPr>
              <p:spPr>
                <a:xfrm>
                  <a:off x="152280" y="7445160"/>
                  <a:ext cx="5029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1096920"/>
                      <a:tab algn="l" pos="2193840"/>
                      <a:tab algn="l" pos="3290760"/>
                      <a:tab algn="l" pos="4387680"/>
                      <a:tab algn="l" pos="5484960"/>
                      <a:tab algn="l" pos="6581880"/>
                      <a:tab algn="l" pos="7678800"/>
                      <a:tab algn="l" pos="8775720"/>
                      <a:tab algn="l" pos="9872640"/>
                      <a:tab algn="l" pos="1096956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://www.fdle.state.fl.us/CrimeLab/images/fingerrint%20comparison%20for%20afis.jp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5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680" y="4572000"/>
                  <a:ext cx="5000400" cy="2771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" name="Text Box 13"/>
              <p:cNvSpPr/>
              <p:nvPr/>
            </p:nvSpPr>
            <p:spPr>
              <a:xfrm>
                <a:off x="5333760" y="4647960"/>
                <a:ext cx="548640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FIS is a computerized system capable of reading, classifying, matching, and storing fingerprints for criminal justice agencies. Quality latent fingerprints are entered into the AFIS for a search for possible matches against the state maintained databases for fingerprint records to  help establish the identity of unknown deceased persons or suspects in a criminal case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Rectangle 10"/>
          <p:cNvSpPr/>
          <p:nvPr/>
        </p:nvSpPr>
        <p:spPr>
          <a:xfrm>
            <a:off x="5257800" y="7238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IS Video Lin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ww.youtube.com/watch?v=ZKi1CKTRC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94"/>
          <p:cNvSpPr/>
          <p:nvPr/>
        </p:nvSpPr>
        <p:spPr>
          <a:xfrm rot="16200000">
            <a:off x="-2360520" y="3198600"/>
            <a:ext cx="6248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Ridge Characteristic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1" descr=""/>
          <p:cNvPicPr/>
          <p:nvPr/>
        </p:nvPicPr>
        <p:blipFill>
          <a:blip r:embed="rId1"/>
          <a:srcRect l="20140" t="22225" r="20833" b="23148"/>
          <a:stretch/>
        </p:blipFill>
        <p:spPr>
          <a:xfrm>
            <a:off x="1143000" y="325440"/>
            <a:ext cx="9372600" cy="6505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2"/>
          <p:cNvSpPr/>
          <p:nvPr/>
        </p:nvSpPr>
        <p:spPr>
          <a:xfrm>
            <a:off x="152280" y="7042320"/>
            <a:ext cx="1066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se characteristics as points of identification when comparing fingerprint samples.  The more points you can find in common, the better the m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1095480" y="7772400"/>
            <a:ext cx="876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nx.org/content/m12574/latest/proper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09680" y="270000"/>
            <a:ext cx="101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dge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7"/>
          <p:cNvGrpSpPr/>
          <p:nvPr/>
        </p:nvGrpSpPr>
        <p:grpSpPr>
          <a:xfrm>
            <a:off x="762120" y="932040"/>
            <a:ext cx="9620280" cy="6840360"/>
            <a:chOff x="762120" y="932040"/>
            <a:chExt cx="9620280" cy="684036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1857600" y="932040"/>
              <a:ext cx="7848360" cy="684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16"/>
            <p:cNvGrpSpPr/>
            <p:nvPr/>
          </p:nvGrpSpPr>
          <p:grpSpPr>
            <a:xfrm>
              <a:off x="762120" y="2057400"/>
              <a:ext cx="9620280" cy="5183280"/>
              <a:chOff x="762120" y="2057400"/>
              <a:chExt cx="9620280" cy="5183280"/>
            </a:xfrm>
          </p:grpSpPr>
          <p:sp>
            <p:nvSpPr>
              <p:cNvPr id="76" name="Text Box 7"/>
              <p:cNvSpPr/>
              <p:nvPr/>
            </p:nvSpPr>
            <p:spPr>
              <a:xfrm>
                <a:off x="7639200" y="205740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rossove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8"/>
              <p:cNvSpPr/>
              <p:nvPr/>
            </p:nvSpPr>
            <p:spPr>
              <a:xfrm>
                <a:off x="7639200" y="281880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r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7639200" y="358092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Bifurcation (fork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0"/>
              <p:cNvSpPr/>
              <p:nvPr/>
            </p:nvSpPr>
            <p:spPr>
              <a:xfrm>
                <a:off x="7639200" y="444924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Ridge end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1"/>
              <p:cNvSpPr/>
              <p:nvPr/>
            </p:nvSpPr>
            <p:spPr>
              <a:xfrm>
                <a:off x="7639200" y="521136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slan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2"/>
              <p:cNvSpPr/>
              <p:nvPr/>
            </p:nvSpPr>
            <p:spPr>
              <a:xfrm>
                <a:off x="7639200" y="601920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3"/>
              <p:cNvSpPr/>
              <p:nvPr/>
            </p:nvSpPr>
            <p:spPr>
              <a:xfrm>
                <a:off x="7562880" y="681156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or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14"/>
              <p:cNvSpPr/>
              <p:nvPr/>
            </p:nvSpPr>
            <p:spPr>
              <a:xfrm>
                <a:off x="762120" y="4776480"/>
                <a:ext cx="8380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Sca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5"/>
              <p:cNvSpPr/>
              <p:nvPr/>
            </p:nvSpPr>
            <p:spPr>
              <a:xfrm flipV="1">
                <a:off x="1467000" y="4647600"/>
                <a:ext cx="6094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5" name="Rectangle 15" descr=""/>
          <p:cNvPicPr/>
          <p:nvPr/>
        </p:nvPicPr>
        <p:blipFill>
          <a:blip r:embed="rId2"/>
          <a:stretch/>
        </p:blipFill>
        <p:spPr>
          <a:xfrm>
            <a:off x="-237960" y="596880"/>
            <a:ext cx="43653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9"/>
          <p:cNvGrpSpPr/>
          <p:nvPr/>
        </p:nvGrpSpPr>
        <p:grpSpPr>
          <a:xfrm>
            <a:off x="2577960" y="719280"/>
            <a:ext cx="5968800" cy="7464600"/>
            <a:chOff x="2577960" y="719280"/>
            <a:chExt cx="5968800" cy="7464600"/>
          </a:xfrm>
        </p:grpSpPr>
        <p:sp>
          <p:nvSpPr>
            <p:cNvPr id="87" name="Text Box 5"/>
            <p:cNvSpPr/>
            <p:nvPr/>
          </p:nvSpPr>
          <p:spPr>
            <a:xfrm>
              <a:off x="2882520" y="7907400"/>
              <a:ext cx="541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://www.dkfz.de/tbi/projects/bmcv/images/iu_it246_04s_fingerprint1.jp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"/>
            <p:cNvPicPr/>
            <p:nvPr/>
          </p:nvPicPr>
          <p:blipFill>
            <a:blip r:embed="rId1"/>
            <a:stretch/>
          </p:blipFill>
          <p:spPr>
            <a:xfrm>
              <a:off x="2577960" y="719280"/>
              <a:ext cx="5968800" cy="716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8"/>
          <p:cNvSpPr/>
          <p:nvPr/>
        </p:nvSpPr>
        <p:spPr>
          <a:xfrm>
            <a:off x="914400" y="181080"/>
            <a:ext cx="9296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ridge characteristics can you identify in this fingerpri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7991640" y="1895400"/>
            <a:ext cx="2463480" cy="2530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2"/>
          <a:stretch/>
        </p:blipFill>
        <p:spPr>
          <a:xfrm>
            <a:off x="682560" y="2736720"/>
            <a:ext cx="1779480" cy="214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4108320" y="450720"/>
            <a:ext cx="2664000" cy="3213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28600" y="990720"/>
            <a:ext cx="1043928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– Blow up your  balloon about halfway and twist the end to keep the air from coming out.  Do not tie it off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– Use an ink pad to make a print with all of your fingers and label each one with a permanent marker.  Write your name on the balloon as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– Blow up the balloon to full size and tie the e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– Analyze the fingerprints to find several ridge structures that we have discussed.  Use a highlighter to mark these structures on your “My Prints” workshee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152280"/>
            <a:ext cx="25909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914400" y="5562720"/>
            <a:ext cx="9144000" cy="20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ridge structures were most common in your fingerpr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ridge structures were most common in your grou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there any structures that were not found in any of the fingerpri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28600" y="7845480"/>
            <a:ext cx="10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on Fingerprint Activity: http://www.msichicago.org/fileadmin/Education/learninglabs/lab_downloads/fingerprint_analysi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7:04:38Z</dcterms:created>
  <dc:creator>Tracy Trimpe</dc:creator>
  <dc:description/>
  <dc:language>en-US</dc:language>
  <cp:lastModifiedBy>Tracy Tomm</cp:lastModifiedBy>
  <dcterms:modified xsi:type="dcterms:W3CDTF">2015-03-09T15:26:17Z</dcterms:modified>
  <cp:revision>58</cp:revision>
  <dc:subject/>
  <dc:title>Slide 1</dc:title>
</cp:coreProperties>
</file>