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EB2-EFB2-407E-B129-B7BD261E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B81-485D-463D-A1B7-F2A1C491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577-CA92-49B7-A8E1-58F7F5CA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440-6525-45DB-96DD-AC0EE78C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803-9C5E-4E05-9869-2AD62FE8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AE4-C29B-48A9-9840-3FC6F5B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5A2-AD5C-4184-8BC5-F06CC049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1C3-1FF4-452F-89D6-759A03F5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0E1-8D84-40F2-BA88-AEF927E0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805-103F-45A0-9790-20DC956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E65-98C1-4F90-ACEA-BBB7E70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679-4560-47D7-9314-240D347A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4D9B-6CF5-45FA-A6C0-23FF4EF69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link.aetv.com/services/link/bcpid1459183602/bclid1459293923/bctid1468221890" TargetMode="External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49525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nsic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457200" y="457200"/>
            <a:ext cx="83059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Cooper Black"/>
              </a:rPr>
              <a:t>Latent Pri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Cooper Black"/>
              <a:ea typeface="Cooper Black"/>
            </a:endParaRPr>
          </a:p>
        </p:txBody>
      </p:sp>
      <p:pic>
        <p:nvPicPr>
          <p:cNvPr id="43" name="Picture 7" descr="MCj03100420000[1]"/>
          <p:cNvPicPr/>
          <p:nvPr/>
        </p:nvPicPr>
        <p:blipFill>
          <a:blip r:embed="rId1"/>
          <a:stretch/>
        </p:blipFill>
        <p:spPr>
          <a:xfrm>
            <a:off x="5257800" y="3200400"/>
            <a:ext cx="2919240" cy="3321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304920" y="64771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. Trimpe 2007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t pr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mpressions left by friction ridge skin on a surface, such as a tool handle, glass, doo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400800" y="1219320"/>
            <a:ext cx="222732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80880" y="16765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s may be collected by revealing them with a dusting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 pow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n lifted with a piec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r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2286000" cy="2181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3352680" y="3200400"/>
            <a:ext cx="18003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5"/>
          <p:cNvGrpSpPr/>
          <p:nvPr/>
        </p:nvGrpSpPr>
        <p:grpSpPr>
          <a:xfrm>
            <a:off x="1066680" y="5181480"/>
            <a:ext cx="7162920" cy="1524240"/>
            <a:chOff x="1066680" y="5181480"/>
            <a:chExt cx="7162920" cy="1524240"/>
          </a:xfrm>
        </p:grpSpPr>
        <p:pic>
          <p:nvPicPr>
            <p:cNvPr id="51" name="Picture 13" descr=""/>
            <p:cNvPicPr/>
            <p:nvPr/>
          </p:nvPicPr>
          <p:blipFill>
            <a:blip r:embed="rId4"/>
            <a:stretch/>
          </p:blipFill>
          <p:spPr>
            <a:xfrm>
              <a:off x="6705360" y="5181480"/>
              <a:ext cx="152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2"/>
            <p:cNvSpPr/>
            <p:nvPr/>
          </p:nvSpPr>
          <p:spPr>
            <a:xfrm>
              <a:off x="1066680" y="5715000"/>
              <a:ext cx="5791320" cy="91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d you know?  Camel hair is the most common animal hair used to make fingerprint brushes.  Now many brushes (like the one above) are made out of fiberglas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7"/>
          <p:cNvGrpSpPr/>
          <p:nvPr/>
        </p:nvGrpSpPr>
        <p:grpSpPr>
          <a:xfrm>
            <a:off x="152280" y="2971800"/>
            <a:ext cx="8458200" cy="1600200"/>
            <a:chOff x="152280" y="2971800"/>
            <a:chExt cx="8458200" cy="1600200"/>
          </a:xfrm>
        </p:grpSpPr>
        <p:sp>
          <p:nvSpPr>
            <p:cNvPr id="54" name="Text Box 5"/>
            <p:cNvSpPr/>
            <p:nvPr/>
          </p:nvSpPr>
          <p:spPr>
            <a:xfrm>
              <a:off x="152280" y="3505320"/>
              <a:ext cx="6782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yanoacrylat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uming method (often called the super glue method) is a procedure that is used to develop latent fingerprints on a variety of objec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" descr=""/>
            <p:cNvPicPr/>
            <p:nvPr/>
          </p:nvPicPr>
          <p:blipFill>
            <a:blip r:embed="rId1"/>
            <a:stretch/>
          </p:blipFill>
          <p:spPr>
            <a:xfrm>
              <a:off x="7391880" y="2971800"/>
              <a:ext cx="12186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7"/>
          <p:cNvSpPr/>
          <p:nvPr/>
        </p:nvSpPr>
        <p:spPr>
          <a:xfrm>
            <a:off x="4952880" y="6553080"/>
            <a:ext cx="40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ttom Right: http://www.forensicsrus.com/images/SupergluePrin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228600" y="1666800"/>
            <a:ext cx="8763120" cy="1609920"/>
            <a:chOff x="228600" y="1666800"/>
            <a:chExt cx="8763120" cy="1609920"/>
          </a:xfrm>
        </p:grpSpPr>
        <p:sp>
          <p:nvSpPr>
            <p:cNvPr id="58" name="Text Box 4"/>
            <p:cNvSpPr/>
            <p:nvPr/>
          </p:nvSpPr>
          <p:spPr>
            <a:xfrm>
              <a:off x="2133720" y="1971720"/>
              <a:ext cx="68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owder can also be used to reveal latent prints. This type of powder works better on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in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urfaces or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lasti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aggies or container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8" descr=""/>
            <p:cNvPicPr/>
            <p:nvPr/>
          </p:nvPicPr>
          <p:blipFill>
            <a:blip r:embed="rId2"/>
            <a:stretch/>
          </p:blipFill>
          <p:spPr>
            <a:xfrm>
              <a:off x="228600" y="1666800"/>
              <a:ext cx="1704960" cy="16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 Box 9"/>
          <p:cNvSpPr/>
          <p:nvPr/>
        </p:nvSpPr>
        <p:spPr>
          <a:xfrm>
            <a:off x="152280" y="6324480"/>
            <a:ext cx="4038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Left: http://www.stapletonandassociates.com/images/MagPowd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ttom Left: http://www.ok.gov/osbi/images/ninhydrin%20prin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MCj04260680000[1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5638680"/>
            <a:ext cx="914400" cy="862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7086600" y="487692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ck the icon to view the Crime 36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 Glue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28600" y="4572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investigators u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uoresc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wder and UV lights to help them find latent prints on multi-colored or dark surf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5"/>
          <a:stretch/>
        </p:blipFill>
        <p:spPr>
          <a:xfrm>
            <a:off x="7391520" y="76320"/>
            <a:ext cx="12952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6"/>
          <p:cNvGrpSpPr/>
          <p:nvPr/>
        </p:nvGrpSpPr>
        <p:grpSpPr>
          <a:xfrm>
            <a:off x="228600" y="4876920"/>
            <a:ext cx="6705720" cy="1313640"/>
            <a:chOff x="228600" y="4876920"/>
            <a:chExt cx="6705720" cy="1313640"/>
          </a:xfrm>
        </p:grpSpPr>
        <p:sp>
          <p:nvSpPr>
            <p:cNvPr id="66" name="Text Box 5"/>
            <p:cNvSpPr/>
            <p:nvPr/>
          </p:nvSpPr>
          <p:spPr>
            <a:xfrm>
              <a:off x="1676160" y="4876920"/>
              <a:ext cx="5258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nhydrin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a chemical that bonds with the amino acids in fingerprints and will produce a blue or purple color. It is used to lift prints from surfaces such as paper and cardboar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5" descr=""/>
            <p:cNvPicPr/>
            <p:nvPr/>
          </p:nvPicPr>
          <p:blipFill>
            <a:blip r:embed="rId6"/>
            <a:stretch/>
          </p:blipFill>
          <p:spPr>
            <a:xfrm>
              <a:off x="228600" y="4952880"/>
              <a:ext cx="1394280" cy="116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8600" y="304920"/>
            <a:ext cx="861048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- Cover your table with white butcher paper or newspaper.  You must dust everyth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 the 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- Get a lifting kit from your teacher that contains black powder, brushes, and clear ta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- Press the pad of your right thumb on a CD or glass slide to make a print.  Place on the paper covering you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– Dip a brus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gh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the container of black powder and th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ap off the extra on the l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You only need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ry small am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powder to dust the pr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– Hold the brush over the print and rotate it between your thumb and fingers.  Use the brush to remove any extra 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- Use a small piece of clear tape to lift the print and place it in the box on your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66680" y="5562720"/>
            <a:ext cx="71629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TION:  The black powder will be messy and isn’t easy to clean up. Don’t dust anything without permiss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304920"/>
            <a:ext cx="86104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Clean off the CDs or glass slides and put them back in the kit with the brushes and tap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Have someone help you fold the paper in half and tap it to return the extra black powder to the contain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Put the black powder in the box and have it checked in by your teac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Get a towel and “dry” wash the table – especially the edges that weren’t covered with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– Get a wet towel to wash off the table and then wipe it with some dry towels.  Keep cleaning until all the black powder is off the t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4:55:25Z</dcterms:created>
  <dc:creator>Tracy Trimpe</dc:creator>
  <dc:description/>
  <dc:language>en-US</dc:language>
  <cp:lastModifiedBy>Tracy</cp:lastModifiedBy>
  <dcterms:modified xsi:type="dcterms:W3CDTF">2009-06-26T03:30:18Z</dcterms:modified>
  <cp:revision>39</cp:revision>
  <dc:subject/>
  <dc:title>Slide 1</dc:title>
</cp:coreProperties>
</file>