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43A-6310-4954-AD7D-E0C57A10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9F0-3473-4027-9327-0BBB1369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406-A2D7-4AA4-97B8-DEEC2507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FB7-42D5-4688-B3A4-F8AE2FF9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6E7-07F8-41FE-94E9-9E833938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599-7FE2-4487-B198-F6813C3E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00C-1406-4066-B0C5-B06EA866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AAB-3F5D-4240-8101-648547C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132-FDAC-4634-871C-F3283EC8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994-CE79-464D-A80A-381E7FB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D96-A69D-4227-98BA-4244894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029-622F-44F4-A4BE-FF95C5A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A66-3036-40B9-9F44-7CD611FAD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Trimpe 2009   http://sciencespot.ne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Tracy\AppData\Local\Microsoft\Windows\Temporary Internet Files\Content.IE5\R7YBRGGQ\MCj04380210000[1].png"/>
          <p:cNvPicPr/>
          <p:nvPr/>
        </p:nvPicPr>
        <p:blipFill>
          <a:blip r:embed="rId1"/>
          <a:srcRect l="0" t="14003" r="0" b="11995"/>
          <a:stretch/>
        </p:blipFill>
        <p:spPr>
          <a:xfrm>
            <a:off x="304920" y="3886200"/>
            <a:ext cx="350028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04920" y="1143000"/>
            <a:ext cx="84582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Cooper Black"/>
              </a:rPr>
              <a:t>Forensic Entomolog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Cooper Black"/>
              <a:ea typeface="Cooper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657600" y="441972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Cooper Black"/>
              </a:rPr>
              <a:t>Unit Revie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Cooper Black"/>
              <a:ea typeface="Cooper Black"/>
            </a:endParaRPr>
          </a:p>
        </p:txBody>
      </p:sp>
      <p:pic>
        <p:nvPicPr>
          <p:cNvPr id="45" name="Picture 6" descr="C:\Users\Tracy\AppData\Local\Microsoft\Windows\Temporary Internet Files\Content.IE5\BI7TNF8I\MCj04380290000[1].png"/>
          <p:cNvPicPr/>
          <p:nvPr/>
        </p:nvPicPr>
        <p:blipFill>
          <a:blip r:embed="rId2"/>
          <a:stretch/>
        </p:blipFill>
        <p:spPr>
          <a:xfrm>
            <a:off x="7086600" y="0"/>
            <a:ext cx="159084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Tracy\AppData\Local\Microsoft\Windows\Temporary Internet Files\Content.IE5\M1KZP3OB\MCj04339100000[1].png"/>
          <p:cNvPicPr/>
          <p:nvPr/>
        </p:nvPicPr>
        <p:blipFill>
          <a:blip r:embed="rId3"/>
          <a:stretch/>
        </p:blipFill>
        <p:spPr>
          <a:xfrm>
            <a:off x="1447920" y="152280"/>
            <a:ext cx="152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rcRect l="9392" t="10449" r="8452" b="32344"/>
          <a:stretch/>
        </p:blipFill>
        <p:spPr>
          <a:xfrm>
            <a:off x="1066680" y="228600"/>
            <a:ext cx="716292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7238880" y="228600"/>
            <a:ext cx="533520" cy="236232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73080" y="609480"/>
            <a:ext cx="533520" cy="12956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851120" y="587520"/>
            <a:ext cx="1654200" cy="5220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005280" y="609480"/>
            <a:ext cx="533160" cy="19814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137120" y="609480"/>
            <a:ext cx="533160" cy="19814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971800" y="979560"/>
            <a:ext cx="213372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692680" y="990720"/>
            <a:ext cx="533520" cy="34290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447920" y="1338120"/>
            <a:ext cx="137160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5311800" y="1328760"/>
            <a:ext cx="284148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3733920" y="2079720"/>
            <a:ext cx="251460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7620120" y="2438280"/>
            <a:ext cx="533160" cy="19814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300640" y="2819520"/>
            <a:ext cx="2895480" cy="5220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089000" y="2819520"/>
            <a:ext cx="533520" cy="27432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2612880" y="3200400"/>
            <a:ext cx="533520" cy="312408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2220840" y="3548160"/>
            <a:ext cx="396252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1066680" y="5029200"/>
            <a:ext cx="289584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5692680" y="5410080"/>
            <a:ext cx="533520" cy="12956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2590920" y="5780160"/>
            <a:ext cx="403848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6858000" y="4800600"/>
            <a:ext cx="21337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point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count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"/>
          <p:cNvGrpSpPr/>
          <p:nvPr/>
        </p:nvGrpSpPr>
        <p:grpSpPr>
          <a:xfrm>
            <a:off x="2774880" y="1539720"/>
            <a:ext cx="3594240" cy="3777840"/>
            <a:chOff x="2774880" y="1539720"/>
            <a:chExt cx="3594240" cy="3777840"/>
          </a:xfrm>
        </p:grpSpPr>
        <p:pic>
          <p:nvPicPr>
            <p:cNvPr id="68" name="Picture 2" descr=""/>
            <p:cNvPicPr/>
            <p:nvPr/>
          </p:nvPicPr>
          <p:blipFill>
            <a:blip r:embed="rId1"/>
            <a:stretch/>
          </p:blipFill>
          <p:spPr>
            <a:xfrm>
              <a:off x="2774880" y="1692000"/>
              <a:ext cx="359424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6"/>
            <p:cNvSpPr/>
            <p:nvPr/>
          </p:nvSpPr>
          <p:spPr>
            <a:xfrm>
              <a:off x="2850840" y="275868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5974560" y="298728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8"/>
            <p:cNvSpPr/>
            <p:nvPr/>
          </p:nvSpPr>
          <p:spPr>
            <a:xfrm>
              <a:off x="4527000" y="153972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19"/>
            <p:cNvSpPr/>
            <p:nvPr/>
          </p:nvSpPr>
          <p:spPr>
            <a:xfrm>
              <a:off x="3003120" y="4253400"/>
              <a:ext cx="533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20"/>
            <p:cNvSpPr/>
            <p:nvPr/>
          </p:nvSpPr>
          <p:spPr>
            <a:xfrm>
              <a:off x="4450680" y="4949280"/>
              <a:ext cx="68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21"/>
            <p:cNvSpPr/>
            <p:nvPr/>
          </p:nvSpPr>
          <p:spPr>
            <a:xfrm>
              <a:off x="5822280" y="4054320"/>
              <a:ext cx="533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9"/>
          <p:cNvSpPr/>
          <p:nvPr/>
        </p:nvSpPr>
        <p:spPr>
          <a:xfrm>
            <a:off x="228600" y="3808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Label the life cycle diagram using the word list provid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Instar Lar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d Instar Lar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Instar Lar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1219320" y="1447920"/>
            <a:ext cx="6858000" cy="4285080"/>
            <a:chOff x="1219320" y="1447920"/>
            <a:chExt cx="6858000" cy="4285080"/>
          </a:xfrm>
        </p:grpSpPr>
        <p:sp>
          <p:nvSpPr>
            <p:cNvPr id="77" name="TextBox 10"/>
            <p:cNvSpPr/>
            <p:nvPr/>
          </p:nvSpPr>
          <p:spPr>
            <a:xfrm>
              <a:off x="4648320" y="1447920"/>
              <a:ext cx="13716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DUL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1"/>
            <p:cNvSpPr/>
            <p:nvPr/>
          </p:nvSpPr>
          <p:spPr>
            <a:xfrm>
              <a:off x="6019920" y="2819520"/>
              <a:ext cx="13716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GG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12"/>
            <p:cNvSpPr/>
            <p:nvPr/>
          </p:nvSpPr>
          <p:spPr>
            <a:xfrm>
              <a:off x="6019920" y="4114800"/>
              <a:ext cx="2057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INSTAR LARV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3"/>
            <p:cNvSpPr/>
            <p:nvPr/>
          </p:nvSpPr>
          <p:spPr>
            <a:xfrm>
              <a:off x="4038840" y="5029200"/>
              <a:ext cx="205740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n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INSTAR LARV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14"/>
            <p:cNvSpPr/>
            <p:nvPr/>
          </p:nvSpPr>
          <p:spPr>
            <a:xfrm>
              <a:off x="1219320" y="4038480"/>
              <a:ext cx="2057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r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INSTAR LARV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5"/>
            <p:cNvSpPr/>
            <p:nvPr/>
          </p:nvSpPr>
          <p:spPr>
            <a:xfrm>
              <a:off x="2286000" y="2286000"/>
              <a:ext cx="12952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UP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37"/>
          <p:cNvSpPr/>
          <p:nvPr/>
        </p:nvSpPr>
        <p:spPr>
          <a:xfrm>
            <a:off x="304920" y="5638680"/>
            <a:ext cx="1447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56218" t="48944" r="14848" b="28570"/>
          <a:stretch/>
        </p:blipFill>
        <p:spPr>
          <a:xfrm>
            <a:off x="762120" y="685800"/>
            <a:ext cx="67453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28600" y="30492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Use the charts on the Crime Solving Insects reference card to determine the age of the maggots listed in the char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Explain how a forensic entomologist would use fly larva to estimate the PM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521400" y="171936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521400" y="2263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521400" y="280836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521400" y="3352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7543800" y="2209680"/>
            <a:ext cx="1447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228600" y="3809880"/>
            <a:ext cx="8915400" cy="2972880"/>
            <a:chOff x="228600" y="3809880"/>
            <a:chExt cx="8915400" cy="2972880"/>
          </a:xfrm>
        </p:grpSpPr>
        <p:sp>
          <p:nvSpPr>
            <p:cNvPr id="92" name="TextBox 7"/>
            <p:cNvSpPr/>
            <p:nvPr/>
          </p:nvSpPr>
          <p:spPr>
            <a:xfrm>
              <a:off x="228600" y="4554360"/>
              <a:ext cx="8686800" cy="222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Collect maggots from the body along with other insect eviden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n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Identify the species of each insect species presen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r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Determine the length of the maggots and use weather data to estimate the ag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th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Use the insect evidence along with other factors (stage of decomposition, condition of body, body temperature, etc.) to estimate the length of time that had passed since deat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37"/>
            <p:cNvSpPr/>
            <p:nvPr/>
          </p:nvSpPr>
          <p:spPr>
            <a:xfrm>
              <a:off x="7696440" y="3809880"/>
              <a:ext cx="14475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017960" y="1398600"/>
            <a:ext cx="2494080" cy="44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 = 9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2 = 9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3 = 90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4 = 8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5 = 8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6 = 80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 rot="20943600">
            <a:off x="744120" y="4371480"/>
            <a:ext cx="3220920" cy="1635120"/>
          </a:xfrm>
          <a:prstGeom prst="rect">
            <a:avLst/>
          </a:prstGeom>
        </p:spPr>
        <p:txBody>
          <a:bodyPr wrap="none" lIns="83880" rIns="83880" tIns="41760" bIns="417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07932" dir="18900000" blurRad="0" rotWithShape="0">
                    <a:srgbClr val="00b050">
                      <a:alpha val="50000"/>
                    </a:srgbClr>
                  </a:outerShdw>
                </a:effectLst>
                <a:latin typeface="Cooper Black"/>
              </a:rPr>
              <a:t>Questions?</a:t>
            </a:r>
            <a:endParaRPr b="0" lang="en-US" sz="33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07932" dir="18900000" blurRad="0" rotWithShape="0">
                  <a:srgbClr val="00b05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08080" y="1428840"/>
            <a:ext cx="394812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30 Points Tota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ss more than 12?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’ll figure the grad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303960" y="1398600"/>
            <a:ext cx="24940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7 = 7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8 = 7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9 = 70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0 = 6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1 = 6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2 = 60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3:31:29Z</dcterms:created>
  <dc:creator>Tracy</dc:creator>
  <dc:description/>
  <dc:language>en-US</dc:language>
  <cp:lastModifiedBy>Tracy</cp:lastModifiedBy>
  <dcterms:modified xsi:type="dcterms:W3CDTF">2009-08-01T23:01:22Z</dcterms:modified>
  <cp:revision>123</cp:revision>
  <dc:subject/>
  <dc:title>Slide 1</dc:title>
</cp:coreProperties>
</file>