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12A5-9432-4C7C-B440-E53F17E4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537-B9A0-4300-B99A-0E235407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93F-CC84-4AAC-8FA6-84944D57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F21-10F8-4DAC-BC41-D6BC8AC5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AAE-4352-422D-8A71-E64BEBAF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A64-EC2F-4F11-BF93-1075E468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73E-1896-426E-AC0A-D83D2227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773-61A2-4917-99B4-6F7B1095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141-A0D0-43D4-8BD1-AEDA5456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D76-5371-4A24-B7D0-28A774B8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D11-4DE7-4201-A2ED-36264D3F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ADC-B7A2-4AE2-B478-BC23A4DF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1DA9-56F2-408E-849F-B3C8178F7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55308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 Trimpe 2009   http://sciencespot.ne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Tracy\AppData\Local\Microsoft\Windows\Temporary Internet Files\Content.IE5\R7YBRGGQ\MCj04380210000[1].png"/>
          <p:cNvPicPr/>
          <p:nvPr/>
        </p:nvPicPr>
        <p:blipFill>
          <a:blip r:embed="rId1"/>
          <a:srcRect l="0" t="14003" r="0" b="11995"/>
          <a:stretch/>
        </p:blipFill>
        <p:spPr>
          <a:xfrm>
            <a:off x="304920" y="3886200"/>
            <a:ext cx="3500280" cy="2590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304920" y="1143000"/>
            <a:ext cx="8458200" cy="31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53735"/>
                </a:solidFill>
                <a:latin typeface="Cooper Black"/>
              </a:rPr>
              <a:t>Forensic Entomology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53735"/>
              </a:solidFill>
              <a:latin typeface="Cooper Black"/>
              <a:ea typeface="Cooper Black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3657600" y="4419720"/>
            <a:ext cx="4876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53735"/>
                </a:solidFill>
                <a:latin typeface="Cooper Black"/>
              </a:rPr>
              <a:t>Unit Review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53735"/>
              </a:solidFill>
              <a:latin typeface="Cooper Black"/>
              <a:ea typeface="Cooper Black"/>
            </a:endParaRPr>
          </a:p>
        </p:txBody>
      </p:sp>
      <p:pic>
        <p:nvPicPr>
          <p:cNvPr id="45" name="Picture 6" descr="C:\Users\Tracy\AppData\Local\Microsoft\Windows\Temporary Internet Files\Content.IE5\BI7TNF8I\MCj04380290000[1].png"/>
          <p:cNvPicPr/>
          <p:nvPr/>
        </p:nvPicPr>
        <p:blipFill>
          <a:blip r:embed="rId2"/>
          <a:stretch/>
        </p:blipFill>
        <p:spPr>
          <a:xfrm>
            <a:off x="7086600" y="0"/>
            <a:ext cx="159084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Users\Tracy\AppData\Local\Microsoft\Windows\Temporary Internet Files\Content.IE5\M1KZP3OB\MCj04339100000[1].png"/>
          <p:cNvPicPr/>
          <p:nvPr/>
        </p:nvPicPr>
        <p:blipFill>
          <a:blip r:embed="rId3"/>
          <a:stretch/>
        </p:blipFill>
        <p:spPr>
          <a:xfrm>
            <a:off x="1447920" y="152280"/>
            <a:ext cx="1523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rcRect l="9392" t="10449" r="8452" b="32344"/>
          <a:stretch/>
        </p:blipFill>
        <p:spPr>
          <a:xfrm>
            <a:off x="1066680" y="228600"/>
            <a:ext cx="7162920" cy="6400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7238880" y="228600"/>
            <a:ext cx="533520" cy="236232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873080" y="609480"/>
            <a:ext cx="533520" cy="129564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851120" y="587520"/>
            <a:ext cx="1654200" cy="52200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005280" y="609480"/>
            <a:ext cx="533160" cy="198144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137120" y="609480"/>
            <a:ext cx="533160" cy="198144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971800" y="979560"/>
            <a:ext cx="2133720" cy="52236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692680" y="990720"/>
            <a:ext cx="533520" cy="342900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447920" y="1338120"/>
            <a:ext cx="1371600" cy="52236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5311800" y="1328760"/>
            <a:ext cx="2841480" cy="52236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3733920" y="2079720"/>
            <a:ext cx="2514600" cy="52236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7620120" y="2438280"/>
            <a:ext cx="533160" cy="198144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5300640" y="2819520"/>
            <a:ext cx="2895480" cy="52200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1089000" y="2819520"/>
            <a:ext cx="533520" cy="274320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2612880" y="3200400"/>
            <a:ext cx="533520" cy="312408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2220840" y="3548160"/>
            <a:ext cx="3962520" cy="52236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1066680" y="5029200"/>
            <a:ext cx="2895840" cy="52236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5692680" y="5410080"/>
            <a:ext cx="533520" cy="129564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2590920" y="5780160"/>
            <a:ext cx="4038480" cy="522360"/>
          </a:xfrm>
          <a:prstGeom prst="rect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7"/>
          <p:cNvSpPr/>
          <p:nvPr/>
        </p:nvSpPr>
        <p:spPr>
          <a:xfrm>
            <a:off x="6858000" y="4800600"/>
            <a:ext cx="2133720" cy="78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point ea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lling count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1"/>
          <p:cNvGrpSpPr/>
          <p:nvPr/>
        </p:nvGrpSpPr>
        <p:grpSpPr>
          <a:xfrm>
            <a:off x="2774880" y="1539720"/>
            <a:ext cx="3594240" cy="3777840"/>
            <a:chOff x="2774880" y="1539720"/>
            <a:chExt cx="3594240" cy="3777840"/>
          </a:xfrm>
        </p:grpSpPr>
        <p:pic>
          <p:nvPicPr>
            <p:cNvPr id="68" name="Picture 2" descr=""/>
            <p:cNvPicPr/>
            <p:nvPr/>
          </p:nvPicPr>
          <p:blipFill>
            <a:blip r:embed="rId1"/>
            <a:stretch/>
          </p:blipFill>
          <p:spPr>
            <a:xfrm>
              <a:off x="2774880" y="1692000"/>
              <a:ext cx="359424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Box 16"/>
            <p:cNvSpPr/>
            <p:nvPr/>
          </p:nvSpPr>
          <p:spPr>
            <a:xfrm>
              <a:off x="2850840" y="2758680"/>
              <a:ext cx="380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17"/>
            <p:cNvSpPr/>
            <p:nvPr/>
          </p:nvSpPr>
          <p:spPr>
            <a:xfrm>
              <a:off x="5974560" y="2987280"/>
              <a:ext cx="380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18"/>
            <p:cNvSpPr/>
            <p:nvPr/>
          </p:nvSpPr>
          <p:spPr>
            <a:xfrm>
              <a:off x="4527000" y="1539720"/>
              <a:ext cx="380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19"/>
            <p:cNvSpPr/>
            <p:nvPr/>
          </p:nvSpPr>
          <p:spPr>
            <a:xfrm>
              <a:off x="3003120" y="4253400"/>
              <a:ext cx="533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20"/>
            <p:cNvSpPr/>
            <p:nvPr/>
          </p:nvSpPr>
          <p:spPr>
            <a:xfrm>
              <a:off x="4450680" y="4949280"/>
              <a:ext cx="685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21"/>
            <p:cNvSpPr/>
            <p:nvPr/>
          </p:nvSpPr>
          <p:spPr>
            <a:xfrm>
              <a:off x="5822280" y="4054320"/>
              <a:ext cx="5331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9"/>
          <p:cNvSpPr/>
          <p:nvPr/>
        </p:nvSpPr>
        <p:spPr>
          <a:xfrm>
            <a:off x="228600" y="38088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Label the life cycle diagram using the word list provid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p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t Instar Lar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d Instar Lar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rd Instar Lar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16"/>
          <p:cNvGrpSpPr/>
          <p:nvPr/>
        </p:nvGrpSpPr>
        <p:grpSpPr>
          <a:xfrm>
            <a:off x="1219320" y="1447920"/>
            <a:ext cx="6858000" cy="4285080"/>
            <a:chOff x="1219320" y="1447920"/>
            <a:chExt cx="6858000" cy="4285080"/>
          </a:xfrm>
        </p:grpSpPr>
        <p:sp>
          <p:nvSpPr>
            <p:cNvPr id="77" name="TextBox 10"/>
            <p:cNvSpPr/>
            <p:nvPr/>
          </p:nvSpPr>
          <p:spPr>
            <a:xfrm>
              <a:off x="4648320" y="1447920"/>
              <a:ext cx="13716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DUL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1"/>
            <p:cNvSpPr/>
            <p:nvPr/>
          </p:nvSpPr>
          <p:spPr>
            <a:xfrm>
              <a:off x="6019920" y="2819520"/>
              <a:ext cx="13716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GG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12"/>
            <p:cNvSpPr/>
            <p:nvPr/>
          </p:nvSpPr>
          <p:spPr>
            <a:xfrm>
              <a:off x="6019920" y="4114800"/>
              <a:ext cx="2057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alibri"/>
                </a:rPr>
                <a:t>st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INSTAR LARV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13"/>
            <p:cNvSpPr/>
            <p:nvPr/>
          </p:nvSpPr>
          <p:spPr>
            <a:xfrm>
              <a:off x="4038840" y="5029200"/>
              <a:ext cx="205740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alibri"/>
                </a:rPr>
                <a:t>nd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INSTAR LARV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14"/>
            <p:cNvSpPr/>
            <p:nvPr/>
          </p:nvSpPr>
          <p:spPr>
            <a:xfrm>
              <a:off x="1219320" y="4038480"/>
              <a:ext cx="20574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alibri"/>
                </a:rPr>
                <a:t>rd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INSTAR LARV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15"/>
            <p:cNvSpPr/>
            <p:nvPr/>
          </p:nvSpPr>
          <p:spPr>
            <a:xfrm>
              <a:off x="2286000" y="2286000"/>
              <a:ext cx="129528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UP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 Box 37"/>
          <p:cNvSpPr/>
          <p:nvPr/>
        </p:nvSpPr>
        <p:spPr>
          <a:xfrm>
            <a:off x="304920" y="5638680"/>
            <a:ext cx="14475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poi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56218" t="48944" r="14848" b="28570"/>
          <a:stretch/>
        </p:blipFill>
        <p:spPr>
          <a:xfrm>
            <a:off x="762120" y="685800"/>
            <a:ext cx="6745320" cy="3276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228600" y="304920"/>
            <a:ext cx="853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Use the charts on the Crime Solving Insects reference card to determine the age of the maggots listed in the char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Explain how a forensic entomologist would use fly larva to estimate the PM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6521400" y="171936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6521400" y="226368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6521400" y="280836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521400" y="3352680"/>
            <a:ext cx="685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7"/>
          <p:cNvSpPr/>
          <p:nvPr/>
        </p:nvSpPr>
        <p:spPr>
          <a:xfrm>
            <a:off x="7543800" y="2209680"/>
            <a:ext cx="1447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poi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228600" y="3809880"/>
            <a:ext cx="8915400" cy="2972880"/>
            <a:chOff x="228600" y="3809880"/>
            <a:chExt cx="8915400" cy="2972880"/>
          </a:xfrm>
        </p:grpSpPr>
        <p:sp>
          <p:nvSpPr>
            <p:cNvPr id="92" name="TextBox 7"/>
            <p:cNvSpPr/>
            <p:nvPr/>
          </p:nvSpPr>
          <p:spPr>
            <a:xfrm>
              <a:off x="228600" y="4554360"/>
              <a:ext cx="8686800" cy="2228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alibri"/>
                </a:rPr>
                <a:t>st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– Collect maggots from the body along with other insect evidenc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alibri"/>
                </a:rPr>
                <a:t>nd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– Identify the species of each insect species presen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alibri"/>
                </a:rPr>
                <a:t>rd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– Determine the length of the maggots and use weather data to estimate the ag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Calibri"/>
                </a:rPr>
                <a:t>th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– Use the insect evidence along with other factors (stage of decomposition, condition of body, body temperature, etc.) to estimate the length of time that had passed since deat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37"/>
            <p:cNvSpPr/>
            <p:nvPr/>
          </p:nvSpPr>
          <p:spPr>
            <a:xfrm>
              <a:off x="7696440" y="3809880"/>
              <a:ext cx="14475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 poi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’s your gra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017960" y="1398600"/>
            <a:ext cx="2494080" cy="44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1 = 97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2 = 93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3 = 90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4 = 87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5 = 83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6 = 80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WordArt 5"/>
          <p:cNvSpPr txBox="1"/>
          <p:nvPr/>
        </p:nvSpPr>
        <p:spPr>
          <a:xfrm rot="20943600">
            <a:off x="744120" y="4371480"/>
            <a:ext cx="3220920" cy="1635120"/>
          </a:xfrm>
          <a:prstGeom prst="rect">
            <a:avLst/>
          </a:prstGeom>
        </p:spPr>
        <p:txBody>
          <a:bodyPr wrap="none" lIns="83880" rIns="83880" tIns="41760" bIns="417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07932" dir="18900000" blurRad="0" rotWithShape="0">
                    <a:srgbClr val="00b050">
                      <a:alpha val="50000"/>
                    </a:srgbClr>
                  </a:outerShdw>
                </a:effectLst>
                <a:latin typeface="Cooper Black"/>
              </a:rPr>
              <a:t>Questions?</a:t>
            </a:r>
            <a:endParaRPr b="0" lang="en-US" sz="33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07932" dir="18900000" blurRad="0" rotWithShape="0">
                  <a:srgbClr val="00b050">
                    <a:alpha val="50000"/>
                  </a:srgbClr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08080" y="1428840"/>
            <a:ext cx="394812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30 Points Tota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iss more than 12?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’ll figure the grade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303960" y="1398600"/>
            <a:ext cx="249408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7 = 77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8 = 73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9 = 70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10 = 67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11 = 63</a:t>
            </a:r>
            <a:br>
              <a:rPr sz="4100"/>
            </a:b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-12 = 60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23:31:29Z</dcterms:created>
  <dc:creator>Tracy</dc:creator>
  <dc:description/>
  <dc:language>en-US</dc:language>
  <cp:lastModifiedBy>Tracy</cp:lastModifiedBy>
  <dcterms:modified xsi:type="dcterms:W3CDTF">2009-08-01T23:01:22Z</dcterms:modified>
  <cp:revision>123</cp:revision>
  <dc:subject/>
  <dc:title>Slide 1</dc:title>
</cp:coreProperties>
</file>