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2CA-1BAC-4C46-A19D-7EDF932F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7EC-ADF4-4732-BCC7-687D8189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5DA-F7EE-4D2D-84E1-FD70C75F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612-CB25-440A-B026-4FF24937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B8F-C6EE-443B-AF47-FB4AC2A1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4FE-BEE8-4DF2-AB64-30BE3DB9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F6F-6654-4835-873C-8798AF20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C05-57F3-4831-B45A-D7759BE9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687-C9CE-4F93-8053-BF0B990D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9A7-8AB0-4D9F-B6DA-9CFBF16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811-1FC6-471F-8BE7-BE12EF49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E8D-7015-4150-8CAE-06F98C0F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5998-5063-4FE9-B71D-57610256F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8120" y="19044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14600" y="4647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31800" y="1295280"/>
            <a:ext cx="78487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Cooper Black"/>
              </a:rPr>
              <a:t>Fire Basics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477120"/>
            <a:ext cx="40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mage: http://awittyassniga.tripod.com/things/fir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1360" y="6477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tion created by Christopher H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62120" y="228600"/>
          <a:ext cx="8076960" cy="62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807696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10552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976200">
            <a:off x="6521040" y="1555200"/>
            <a:ext cx="155520" cy="1463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3976200">
            <a:off x="5718240" y="308160"/>
            <a:ext cx="233280" cy="358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3976200">
            <a:off x="3648240" y="1647000"/>
            <a:ext cx="228600" cy="2027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2209680"/>
            <a:ext cx="3510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180760" y="991080"/>
            <a:ext cx="152640" cy="396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5132400">
            <a:off x="5708520" y="1897560"/>
            <a:ext cx="32400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076280" y="1333080"/>
            <a:ext cx="228600" cy="3809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133720"/>
            <a:ext cx="3841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3976200">
            <a:off x="3664440" y="49680"/>
            <a:ext cx="253800" cy="39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5028840" y="1142640"/>
            <a:ext cx="228600" cy="1447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1143000"/>
            <a:ext cx="30780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244760" y="1393560"/>
            <a:ext cx="1969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809880" y="-75960"/>
            <a:ext cx="22860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427200">
            <a:off x="1804680" y="2285640"/>
            <a:ext cx="35064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7696400">
            <a:off x="2396880" y="1945800"/>
            <a:ext cx="228600" cy="1517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3775200">
            <a:off x="4709520" y="838080"/>
            <a:ext cx="298800" cy="289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 To conceal another crime such as murder, burglary, or veh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 To get back at someone for a perceived injus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 Arson-for-Profit fires are set to burn a building, vehicle, or some other object in order to gain profit from the fire. The profit may come in several forms; from insurance coverage on the property, or from putting a competitor out of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 Fire set to someone’s property, just to destroy it. Malicious vandalism fires account for the largest percentage of arson fires. These fires are frequently set by juven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 Some persons have been found to have an irresistible impulse to set fi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22440" y="4608360"/>
            <a:ext cx="283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447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ime concea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ntally Distur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343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licious Vand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netary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133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venge or sp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62000">
            <a:off x="7009920" y="380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0680" y="380880"/>
            <a:ext cx="66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Common Motives for Arso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894960"/>
            <a:ext cx="8636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suspicious persons and activities that may result in a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have a friend or classmates that has set fires in the past or plans to set a fire, _____ ___ _____ – parent, teacher, counselor, police officer, or a firem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r participate in a ___________ _______ ________ with your par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 ____ __________ maintain fire alarms in your home and encourage friends and relatives to do the same. Your family should also have a fire escape plan for your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-597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help prevent arson or arson dam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6248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990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572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all         and    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3429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munity       watch        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ll         an      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6095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8:54:57Z</dcterms:created>
  <dc:creator>CHUNTER</dc:creator>
  <dc:description/>
  <dc:language>en-US</dc:language>
  <cp:lastModifiedBy>Tracy Trimpe</cp:lastModifiedBy>
  <dcterms:modified xsi:type="dcterms:W3CDTF">2008-12-16T23:00:24Z</dcterms:modified>
  <cp:revision>8</cp:revision>
  <dc:subject/>
  <dc:title>Slide 1</dc:title>
</cp:coreProperties>
</file>