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E17-E5AF-48D1-B5F6-6D6066AF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0A2-3567-4255-8B07-78AE7EEC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F6C-ECE4-4E88-9956-F177C0A3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0E0-E82F-4C43-A998-EEBADB0B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BF6-D8EB-4695-B3BB-3BC02B07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F3E-837D-4EF1-9D42-21592F2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DBB-71B6-46C1-B3A2-B771549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B32-473A-4F2F-8DCF-E3753DD4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0B0-559D-495D-A7E7-E1B86B0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410-D1D4-4D65-8F31-3083205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E40-71E5-418E-A5AD-AAC5E449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EED-B77C-4BC5-8D3F-DCD3C0A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055-EC07-4907-9B07-714ED76E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39625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our fingerprint patterns compare to the expected a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37479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288000">
            <a:off x="533520" y="685800"/>
            <a:ext cx="8153280" cy="23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Cooper Black"/>
              </a:rPr>
              <a:t>Fingerprint Analysi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determine the rate of occurrenc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our fingerprint patterns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1739880"/>
          <a:ext cx="8127720" cy="2070000"/>
        </p:xfrm>
        <a:graphic>
          <a:graphicData uri="http://schemas.openxmlformats.org/drawingml/2006/table">
            <a:tbl>
              <a:tblPr/>
              <a:tblGrid>
                <a:gridCol w="2031480"/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Pr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52280" y="4114800"/>
            <a:ext cx="8686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our results compare to the a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% - Loops     35% - Whorls      5 % - Ar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% - Loops     __% - Whorls      __% - 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paragraph on your worksheet that summarizes our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determine the rate of occurrenc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compare males vs. fema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752480"/>
          <a:ext cx="8636040" cy="2583000"/>
        </p:xfrm>
        <a:graphic>
          <a:graphicData uri="http://schemas.openxmlformats.org/drawingml/2006/table">
            <a:tbl>
              <a:tblPr/>
              <a:tblGrid>
                <a:gridCol w="1726560"/>
                <a:gridCol w="1728000"/>
                <a:gridCol w="1726560"/>
                <a:gridCol w="1728360"/>
                <a:gridCol w="1726560"/>
              </a:tblGrid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4557600"/>
            <a:ext cx="88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attern is most common pattern among the males in this cl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most common pattern among the fem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averages for each sex compare to the expected averag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35:41Z</dcterms:created>
  <dc:creator>Tracy Trimpe</dc:creator>
  <dc:description/>
  <dc:language>en-US</dc:language>
  <cp:lastModifiedBy>Tracy Trimpe</cp:lastModifiedBy>
  <dcterms:modified xsi:type="dcterms:W3CDTF">2007-11-09T23:55:41Z</dcterms:modified>
  <cp:revision>12</cp:revision>
  <dc:subject/>
  <dc:title>Slide 1</dc:title>
</cp:coreProperties>
</file>