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6E1-38C9-4630-8FBF-FC2825E9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75F-AC8C-4460-BAB3-02F27225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07B-D1AC-47A0-9E20-F1386442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548D-4B7A-449B-BE70-7C7AD83E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4665-8547-4427-8065-9F0B322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B9E-7CF4-4097-BE8A-E9AC970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0C4-7985-4B10-AFF6-ECCAF509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5A7-3151-4E60-80FD-4005D6F6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BE4-FCD7-4B31-88CF-ED264E88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F9F-5A46-478E-BB04-9B7D2BFE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0AF-5167-411F-ABDB-7A674646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3B0-CA1A-459E-80F9-220FBF06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91F7-27C6-421F-915C-D29B359F7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120" y="39625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our fingerprint patterns compare to the expected a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29200" y="2666880"/>
            <a:ext cx="37479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21288000">
            <a:off x="533520" y="685800"/>
            <a:ext cx="8153280" cy="23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Cooper Black"/>
              </a:rPr>
              <a:t>Fingerprint Analysi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 determine the rate of occurrenc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our fingerprint patterns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3520" y="1739880"/>
          <a:ext cx="8127720" cy="2070000"/>
        </p:xfrm>
        <a:graphic>
          <a:graphicData uri="http://schemas.openxmlformats.org/drawingml/2006/table">
            <a:tbl>
              <a:tblPr/>
              <a:tblGrid>
                <a:gridCol w="2031480"/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Pr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52280" y="4114800"/>
            <a:ext cx="8686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o our results compare to the aver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% - Loops     35% - Whorls      5 % - Ar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% - Loops     __% - Whorls      __% - 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paragraph on your worksheet that summarizes our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’s determine the rate of occurrenc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compare males vs. fema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752480"/>
          <a:ext cx="8636040" cy="2583000"/>
        </p:xfrm>
        <a:graphic>
          <a:graphicData uri="http://schemas.openxmlformats.org/drawingml/2006/table">
            <a:tbl>
              <a:tblPr/>
              <a:tblGrid>
                <a:gridCol w="1726560"/>
                <a:gridCol w="1728000"/>
                <a:gridCol w="1726560"/>
                <a:gridCol w="1728360"/>
                <a:gridCol w="1726560"/>
              </a:tblGrid>
              <a:tr h="1036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te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r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04920" y="4557600"/>
            <a:ext cx="88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attern is most common pattern among the males in this cl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most common pattern among the fema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the averages for each sex compare to the expected averag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35:41Z</dcterms:created>
  <dc:creator>Tracy Trimpe</dc:creator>
  <dc:description/>
  <dc:language>en-US</dc:language>
  <cp:lastModifiedBy>Tracy Trimpe</cp:lastModifiedBy>
  <dcterms:modified xsi:type="dcterms:W3CDTF">2007-11-09T23:55:41Z</dcterms:modified>
  <cp:revision>12</cp:revision>
  <dc:subject/>
  <dc:title>Slide 1</dc:title>
</cp:coreProperties>
</file>