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0B2-EB71-421E-9933-35BD38F1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C99-CEBA-4272-A612-497B386F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818-80AB-4677-8769-B55D02A1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60E-4276-4CD2-B074-D2C2B129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D6D-2E8E-49E1-A258-3091E554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4DE-ADCB-43CE-B08F-FB2E62A4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B19-2F9C-4155-99D5-1D1FF8CC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CAA-4F0F-428F-B9A4-CC784C0F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3BE-B263-48E4-BB2B-B43614CF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2CE-252A-40AB-A783-33C158DE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5DD-31E6-448B-967D-5520C6BC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0B9-0161-4359-9171-80DADC70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A35B-FBE4-4442-9CB6-93DD5B180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2120" y="525780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plications in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380880" y="228600"/>
            <a:ext cx="83059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Cooper Black"/>
              </a:rPr>
              <a:t>Chromatography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Cooper Black"/>
              <a:ea typeface="Cooper Black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52280" y="6477120"/>
            <a:ext cx="40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T. Trimpe 2006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chromatograp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04920" y="1066680"/>
            <a:ext cx="86104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Wikipedia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atograph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rom Greek word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o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lour) is the collective term for a family of laboratory techniques for the separation of mixtures. It involves passing a mixture which contains the analyte through a stationary phase, which separates it from other molecules in the mixture and allows it to be isol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04920" y="3048120"/>
            <a:ext cx="8610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mean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atography i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epar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 mixture into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compon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1"/>
          <p:cNvGrpSpPr/>
          <p:nvPr/>
        </p:nvGrpSpPr>
        <p:grpSpPr>
          <a:xfrm>
            <a:off x="304920" y="4572000"/>
            <a:ext cx="8851680" cy="1979640"/>
            <a:chOff x="304920" y="4572000"/>
            <a:chExt cx="8851680" cy="1979640"/>
          </a:xfrm>
        </p:grpSpPr>
        <p:grpSp>
          <p:nvGrpSpPr>
            <p:cNvPr id="48" name="Group 9"/>
            <p:cNvGrpSpPr/>
            <p:nvPr/>
          </p:nvGrpSpPr>
          <p:grpSpPr>
            <a:xfrm>
              <a:off x="304920" y="4572000"/>
              <a:ext cx="8686800" cy="1923480"/>
              <a:chOff x="304920" y="4572000"/>
              <a:chExt cx="8686800" cy="1923480"/>
            </a:xfrm>
          </p:grpSpPr>
          <p:sp>
            <p:nvSpPr>
              <p:cNvPr id="49" name="Text Box 7"/>
              <p:cNvSpPr/>
              <p:nvPr/>
            </p:nvSpPr>
            <p:spPr>
              <a:xfrm>
                <a:off x="304920" y="4572000"/>
                <a:ext cx="556236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We can use chromatography to separate the components of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k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ye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such as those found in pens, markers, clothing, and even candy shells. Chromatography can also be used to separate the colored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igments in plants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r used to determine the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emica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mpositio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of many substances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324480" y="4572000"/>
                <a:ext cx="2667240" cy="1863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Text Box 10"/>
            <p:cNvSpPr/>
            <p:nvPr/>
          </p:nvSpPr>
          <p:spPr>
            <a:xfrm>
              <a:off x="6108840" y="6305400"/>
              <a:ext cx="304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members.shaw.ca/vict/chemistry_test3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0"/>
          <p:cNvGrpSpPr/>
          <p:nvPr/>
        </p:nvGrpSpPr>
        <p:grpSpPr>
          <a:xfrm>
            <a:off x="228600" y="4789440"/>
            <a:ext cx="5640120" cy="2068560"/>
            <a:chOff x="228600" y="4789440"/>
            <a:chExt cx="5640120" cy="2068560"/>
          </a:xfrm>
        </p:grpSpPr>
        <p:pic>
          <p:nvPicPr>
            <p:cNvPr id="53" name="Picture 4" descr=""/>
            <p:cNvPicPr/>
            <p:nvPr/>
          </p:nvPicPr>
          <p:blipFill>
            <a:blip r:embed="rId1"/>
            <a:srcRect l="0" t="0" r="0" b="4483"/>
            <a:stretch/>
          </p:blipFill>
          <p:spPr>
            <a:xfrm>
              <a:off x="228600" y="4802400"/>
              <a:ext cx="5334480" cy="20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5"/>
            <p:cNvSpPr/>
            <p:nvPr/>
          </p:nvSpPr>
          <p:spPr>
            <a:xfrm>
              <a:off x="2134080" y="4789440"/>
              <a:ext cx="373464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as Chromatogra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d to determine the chemical composition of unknown substances, such as the different compounds in gasoline shown by each separate peak in the graph below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9"/>
          <p:cNvGrpSpPr/>
          <p:nvPr/>
        </p:nvGrpSpPr>
        <p:grpSpPr>
          <a:xfrm>
            <a:off x="6134040" y="1054080"/>
            <a:ext cx="2781360" cy="5107320"/>
            <a:chOff x="6134040" y="1054080"/>
            <a:chExt cx="2781360" cy="5107320"/>
          </a:xfrm>
        </p:grpSpPr>
        <p:pic>
          <p:nvPicPr>
            <p:cNvPr id="56" name="Picture 7" descr=""/>
            <p:cNvPicPr/>
            <p:nvPr/>
          </p:nvPicPr>
          <p:blipFill>
            <a:blip r:embed="rId2"/>
            <a:stretch/>
          </p:blipFill>
          <p:spPr>
            <a:xfrm>
              <a:off x="6250680" y="1054080"/>
              <a:ext cx="2624400" cy="38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8"/>
            <p:cNvSpPr/>
            <p:nvPr/>
          </p:nvSpPr>
          <p:spPr>
            <a:xfrm>
              <a:off x="6134040" y="4940640"/>
              <a:ext cx="27813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per Chromatogra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n be used to separate the components of inks, dyes, plant compounds (chlorophyll), make-up, and many other substan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7"/>
          <p:cNvGrpSpPr/>
          <p:nvPr/>
        </p:nvGrpSpPr>
        <p:grpSpPr>
          <a:xfrm>
            <a:off x="76320" y="952560"/>
            <a:ext cx="3924000" cy="3314520"/>
            <a:chOff x="76320" y="952560"/>
            <a:chExt cx="3924000" cy="3314520"/>
          </a:xfrm>
        </p:grpSpPr>
        <p:pic>
          <p:nvPicPr>
            <p:cNvPr id="59" name="Picture 11" descr=""/>
            <p:cNvPicPr/>
            <p:nvPr/>
          </p:nvPicPr>
          <p:blipFill>
            <a:blip r:embed="rId3"/>
            <a:stretch/>
          </p:blipFill>
          <p:spPr>
            <a:xfrm>
              <a:off x="76320" y="971640"/>
              <a:ext cx="1785960" cy="32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2"/>
            <p:cNvSpPr/>
            <p:nvPr/>
          </p:nvSpPr>
          <p:spPr>
            <a:xfrm>
              <a:off x="1219320" y="952560"/>
              <a:ext cx="2781000" cy="79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quid Chromatogra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d to identify unknown plant pigments &amp; other compound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6"/>
          <p:cNvGrpSpPr/>
          <p:nvPr/>
        </p:nvGrpSpPr>
        <p:grpSpPr>
          <a:xfrm>
            <a:off x="1870200" y="2133720"/>
            <a:ext cx="4149360" cy="2209680"/>
            <a:chOff x="1870200" y="2133720"/>
            <a:chExt cx="4149360" cy="2209680"/>
          </a:xfrm>
        </p:grpSpPr>
        <p:pic>
          <p:nvPicPr>
            <p:cNvPr id="62" name="Picture 15" descr=""/>
            <p:cNvPicPr/>
            <p:nvPr/>
          </p:nvPicPr>
          <p:blipFill>
            <a:blip r:embed="rId4"/>
            <a:srcRect l="16669" t="8338" r="22221" b="13270"/>
            <a:stretch/>
          </p:blipFill>
          <p:spPr>
            <a:xfrm>
              <a:off x="1870200" y="2133720"/>
              <a:ext cx="11772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4"/>
            <p:cNvSpPr/>
            <p:nvPr/>
          </p:nvSpPr>
          <p:spPr>
            <a:xfrm>
              <a:off x="2895120" y="2665440"/>
              <a:ext cx="312444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in-Layer Chromatogra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s thin plastic or glass trays to identify the composition of pigments, chemicals, and other unknown substanc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8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 of Chroma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tures &amp;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57200" y="1371600"/>
            <a:ext cx="8242200" cy="7038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wo or more substances that are mixed together, bu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chemically comb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851040" y="2057400"/>
            <a:ext cx="6451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mixtures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– mixture of gas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wl of cereal – mixture of cereal and mil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a pop – mixture of soda syrup, water, and C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 –water suspended in ai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l-Aid – mixture of water, sugar, and flavor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44600" y="4251240"/>
            <a:ext cx="8242200" cy="1770840"/>
            <a:chOff x="444600" y="4251240"/>
            <a:chExt cx="8242200" cy="1770840"/>
          </a:xfrm>
        </p:grpSpPr>
        <p:sp>
          <p:nvSpPr>
            <p:cNvPr id="69" name="Text Box 11"/>
            <p:cNvSpPr/>
            <p:nvPr/>
          </p:nvSpPr>
          <p:spPr>
            <a:xfrm>
              <a:off x="850680" y="4708440"/>
              <a:ext cx="6515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s of compounds ..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lt –Sodium and chlorine combined chemically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ter –Hydrogen and oxygen combined chemically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bon Dioxide – Carbon and oxygen combined chemical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2"/>
            <p:cNvSpPr/>
            <p:nvPr/>
          </p:nvSpPr>
          <p:spPr>
            <a:xfrm>
              <a:off x="444600" y="4251240"/>
              <a:ext cx="8242200" cy="3988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ound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Two or more elements that ar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chemically combin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13" descr="j0310880"/>
          <p:cNvPicPr/>
          <p:nvPr/>
        </p:nvPicPr>
        <p:blipFill>
          <a:blip r:embed="rId1"/>
          <a:stretch/>
        </p:blipFill>
        <p:spPr>
          <a:xfrm>
            <a:off x="7315200" y="5181480"/>
            <a:ext cx="129528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0240"/>
            <a:ext cx="9144000" cy="8683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920" y="1203480"/>
            <a:ext cx="8534160" cy="1472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mixtures in which one substance is dissolved in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two parts:  solute and solv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lute is the substance that is dissolv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lvent is the substance that does the dis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80880" y="27464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solute and solvent in each solution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447920" y="3200400"/>
          <a:ext cx="5761080" cy="2041560"/>
        </p:xfrm>
        <a:graphic>
          <a:graphicData uri="http://schemas.openxmlformats.org/drawingml/2006/table">
            <a:tbl>
              <a:tblPr/>
              <a:tblGrid>
                <a:gridCol w="1920600"/>
                <a:gridCol w="1919520"/>
                <a:gridCol w="1920960"/>
              </a:tblGrid>
              <a:tr h="398880"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76320" rIns="763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mon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76320" rIns="763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da p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76320" rIns="763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ean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 Box 42"/>
          <p:cNvSpPr/>
          <p:nvPr/>
        </p:nvSpPr>
        <p:spPr>
          <a:xfrm>
            <a:off x="304920" y="5638680"/>
            <a:ext cx="8610480" cy="1313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ility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how much of a given substance will dissolve in a liquid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tance that does not dissolve in water is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ol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tance that does dissolve in water is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 Chromatography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5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the supplies you’ll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arge beaker (or plastic c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mall beaker (or plastic cup) filled with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pieces of filter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lack markers fo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small pieces of masking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ncil (to attach to the top of the filter pa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manent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n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 piece of masking tape with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manent mar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place it at the top of the str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e one of the testing markers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aw a thick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ar the bottom of the filter paper - about ¼ inch from the bott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mall amount of wa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the large cup and then hang the paper strip in the cup.  Make sure the ink line does not touch the water – only the bottom of the filter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he water to move up the paper for 5 minutes and then remove the strip from the water. Hang it on the side of the table to d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 these directions to test the other pe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23"/>
          <p:cNvGrpSpPr/>
          <p:nvPr/>
        </p:nvGrpSpPr>
        <p:grpSpPr>
          <a:xfrm>
            <a:off x="5802480" y="990720"/>
            <a:ext cx="2883960" cy="1941840"/>
            <a:chOff x="5802480" y="990720"/>
            <a:chExt cx="2883960" cy="1941840"/>
          </a:xfrm>
        </p:grpSpPr>
        <p:grpSp>
          <p:nvGrpSpPr>
            <p:cNvPr id="80" name="Group 24"/>
            <p:cNvGrpSpPr/>
            <p:nvPr/>
          </p:nvGrpSpPr>
          <p:grpSpPr>
            <a:xfrm>
              <a:off x="5802480" y="990720"/>
              <a:ext cx="2883960" cy="1941840"/>
              <a:chOff x="5802480" y="990720"/>
              <a:chExt cx="2883960" cy="1941840"/>
            </a:xfrm>
          </p:grpSpPr>
          <p:grpSp>
            <p:nvGrpSpPr>
              <p:cNvPr id="81" name="Group 25"/>
              <p:cNvGrpSpPr/>
              <p:nvPr/>
            </p:nvGrpSpPr>
            <p:grpSpPr>
              <a:xfrm>
                <a:off x="5802480" y="1176840"/>
                <a:ext cx="2549880" cy="1755720"/>
                <a:chOff x="5802480" y="1176840"/>
                <a:chExt cx="2549880" cy="1755720"/>
              </a:xfrm>
            </p:grpSpPr>
            <p:grpSp>
              <p:nvGrpSpPr>
                <p:cNvPr id="82" name="Group 26"/>
                <p:cNvGrpSpPr/>
                <p:nvPr/>
              </p:nvGrpSpPr>
              <p:grpSpPr>
                <a:xfrm>
                  <a:off x="6680520" y="1328040"/>
                  <a:ext cx="1671840" cy="1604520"/>
                  <a:chOff x="6680520" y="1328040"/>
                  <a:chExt cx="1671840" cy="1604520"/>
                </a:xfrm>
              </p:grpSpPr>
              <p:sp>
                <p:nvSpPr>
                  <p:cNvPr id="83" name="AutoShape 27"/>
                  <p:cNvSpPr/>
                  <p:nvPr/>
                </p:nvSpPr>
                <p:spPr>
                  <a:xfrm>
                    <a:off x="6923880" y="1397880"/>
                    <a:ext cx="1253880" cy="1534680"/>
                  </a:xfrm>
                  <a:custGeom>
                    <a:avLst/>
                    <a:gdLst>
                      <a:gd name="textAreaLeft" fmla="*/ 0 w 1253880"/>
                      <a:gd name="textAreaRight" fmla="*/ 1254240 w 1253880"/>
                      <a:gd name="textAreaTop" fmla="*/ 0 h 1534680"/>
                      <a:gd name="textAreaBottom" fmla="*/ 1535040 h 1534680"/>
                    </a:gdLst>
                    <a:ahLst/>
                    <a:rect l="textAreaLeft" t="textAreaTop" r="textAreaRight" b="textAreaBottom"/>
                    <a:pathLst>
                      <a:path w="21600" h="26436">
                        <a:moveTo>
                          <a:pt x="0" y="0"/>
                        </a:moveTo>
                        <a:arcTo wR="0" hR="0" stAng="16200000" swAng="-5400000"/>
                        <a:lnTo>
                          <a:pt x="0" y="26436"/>
                        </a:lnTo>
                        <a:arcTo wR="0" hR="0" stAng="10800000" swAng="-5400000"/>
                        <a:lnTo>
                          <a:pt x="21600" y="26436"/>
                        </a:lnTo>
                        <a:arcTo wR="0" hR="0" stAng="16200000" swAng="-5400000"/>
                        <a:lnTo>
                          <a:pt x="21600" y="0"/>
                        </a:lnTo>
                        <a:arcTo wR="0" hR="0" stAng="10800000" swAng="-5400000"/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28"/>
                  <p:cNvSpPr/>
                  <p:nvPr/>
                </p:nvSpPr>
                <p:spPr>
                  <a:xfrm>
                    <a:off x="6680520" y="1397880"/>
                    <a:ext cx="167184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Rectangle 29"/>
                  <p:cNvSpPr/>
                  <p:nvPr/>
                </p:nvSpPr>
                <p:spPr>
                  <a:xfrm>
                    <a:off x="7237440" y="1328040"/>
                    <a:ext cx="696600" cy="1535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AutoShape 30"/>
                  <p:cNvSpPr/>
                  <p:nvPr/>
                </p:nvSpPr>
                <p:spPr>
                  <a:xfrm>
                    <a:off x="6923880" y="2793240"/>
                    <a:ext cx="1253880" cy="139320"/>
                  </a:xfrm>
                  <a:prstGeom prst="roundRect">
                    <a:avLst>
                      <a:gd name="adj" fmla="val 0"/>
                    </a:avLst>
                  </a:prstGeom>
                  <a:solidFill>
                    <a:srgbClr val="33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" name="Line 31"/>
                <p:cNvSpPr/>
                <p:nvPr/>
              </p:nvSpPr>
              <p:spPr>
                <a:xfrm>
                  <a:off x="7317720" y="2615040"/>
                  <a:ext cx="55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" name="Group 32"/>
                <p:cNvGrpSpPr/>
                <p:nvPr/>
              </p:nvGrpSpPr>
              <p:grpSpPr>
                <a:xfrm>
                  <a:off x="5802480" y="1176840"/>
                  <a:ext cx="773280" cy="335880"/>
                  <a:chOff x="5802480" y="1176840"/>
                  <a:chExt cx="773280" cy="335880"/>
                </a:xfrm>
              </p:grpSpPr>
              <p:sp>
                <p:nvSpPr>
                  <p:cNvPr id="89" name="Text Box 33"/>
                  <p:cNvSpPr/>
                  <p:nvPr/>
                </p:nvSpPr>
                <p:spPr>
                  <a:xfrm>
                    <a:off x="5802480" y="1176840"/>
                    <a:ext cx="7660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enci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34"/>
                  <p:cNvSpPr/>
                  <p:nvPr/>
                </p:nvSpPr>
                <p:spPr>
                  <a:xfrm>
                    <a:off x="5948640" y="1397880"/>
                    <a:ext cx="627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35"/>
                <p:cNvGrpSpPr/>
                <p:nvPr/>
              </p:nvGrpSpPr>
              <p:grpSpPr>
                <a:xfrm>
                  <a:off x="6319080" y="1600200"/>
                  <a:ext cx="1022760" cy="435960"/>
                  <a:chOff x="6319080" y="1600200"/>
                  <a:chExt cx="1022760" cy="435960"/>
                </a:xfrm>
              </p:grpSpPr>
              <p:sp>
                <p:nvSpPr>
                  <p:cNvPr id="92" name="Text Box 36"/>
                  <p:cNvSpPr/>
                  <p:nvPr/>
                </p:nvSpPr>
                <p:spPr>
                  <a:xfrm>
                    <a:off x="6319080" y="1600200"/>
                    <a:ext cx="766080" cy="43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ilter Pape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37"/>
                  <p:cNvSpPr/>
                  <p:nvPr/>
                </p:nvSpPr>
                <p:spPr>
                  <a:xfrm>
                    <a:off x="6715080" y="1794960"/>
                    <a:ext cx="626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Group 38"/>
                <p:cNvGrpSpPr/>
                <p:nvPr/>
              </p:nvGrpSpPr>
              <p:grpSpPr>
                <a:xfrm>
                  <a:off x="6256800" y="2406960"/>
                  <a:ext cx="945720" cy="335880"/>
                  <a:chOff x="6256800" y="2406960"/>
                  <a:chExt cx="945720" cy="335880"/>
                </a:xfrm>
              </p:grpSpPr>
              <p:sp>
                <p:nvSpPr>
                  <p:cNvPr id="95" name="Text Box 39"/>
                  <p:cNvSpPr/>
                  <p:nvPr/>
                </p:nvSpPr>
                <p:spPr>
                  <a:xfrm>
                    <a:off x="6256800" y="2406960"/>
                    <a:ext cx="58320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k</a:t>
                    </a:r>
                    <a:br>
                      <a:rPr sz="1200"/>
                    </a:b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Line 40"/>
                  <p:cNvSpPr/>
                  <p:nvPr/>
                </p:nvSpPr>
                <p:spPr>
                  <a:xfrm>
                    <a:off x="6575760" y="2632320"/>
                    <a:ext cx="626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" name="Text Box 41"/>
              <p:cNvSpPr/>
              <p:nvPr/>
            </p:nvSpPr>
            <p:spPr>
              <a:xfrm>
                <a:off x="6559560" y="990720"/>
                <a:ext cx="21268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ape – Label with mark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42"/>
              <p:cNvSpPr/>
              <p:nvPr/>
            </p:nvSpPr>
            <p:spPr>
              <a:xfrm>
                <a:off x="7050600" y="1249560"/>
                <a:ext cx="408960" cy="12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43"/>
            <p:cNvSpPr/>
            <p:nvPr/>
          </p:nvSpPr>
          <p:spPr>
            <a:xfrm>
              <a:off x="7418880" y="1325160"/>
              <a:ext cx="327240" cy="18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38668" t="41669" r="21876" b="41921"/>
          <a:stretch/>
        </p:blipFill>
        <p:spPr>
          <a:xfrm>
            <a:off x="3124080" y="533520"/>
            <a:ext cx="5861160" cy="1523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TextBox 26"/>
          <p:cNvSpPr/>
          <p:nvPr/>
        </p:nvSpPr>
        <p:spPr>
          <a:xfrm>
            <a:off x="152280" y="251460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rs did your group observe in each of the black ink samp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 colors occur in the same order on all the samples? 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some ink samples not work?  Wh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8"/>
          <p:cNvSpPr/>
          <p:nvPr/>
        </p:nvSpPr>
        <p:spPr>
          <a:xfrm>
            <a:off x="152280" y="91440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the chart on your worksheet and then answer th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152280" y="838080"/>
            <a:ext cx="883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with your group to identify the pens used for each of the “Mystery Marks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est each of the Mystery Mark strips using the procedure from yester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ompare your strips to the strips hanging in the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Write the number of the pen that you think matches each of the mystery marks in the space on your worksh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ave your answers checked by the teacher.  Keep trying until you are able to identify all 6 pe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 A matches # 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 D matches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 B matches # 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 E matches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 C matches # 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 F matches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atography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0T21:12:42Z</dcterms:created>
  <dc:creator>Tracy Trimpe</dc:creator>
  <dc:description/>
  <dc:language>en-US</dc:language>
  <cp:lastModifiedBy>Tracy</cp:lastModifiedBy>
  <dcterms:modified xsi:type="dcterms:W3CDTF">2009-06-28T00:51:43Z</dcterms:modified>
  <cp:revision>88</cp:revision>
  <dc:subject/>
  <dc:title>Slide 1</dc:title>
</cp:coreProperties>
</file>