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58400" cy="73152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C767-B0B0-41F0-8C9F-C907D13F5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93760"/>
            <a:ext cx="9051840" cy="1218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06400"/>
            <a:ext cx="9051840" cy="2302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228200"/>
            <a:ext cx="9051840" cy="2302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8829-8E6F-47F9-8AA9-7A0C475A4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93760"/>
            <a:ext cx="9051840" cy="1218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06400"/>
            <a:ext cx="4417200" cy="2302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1880" y="1706400"/>
            <a:ext cx="4417200" cy="2302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228200"/>
            <a:ext cx="4417200" cy="2302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1880" y="4228200"/>
            <a:ext cx="4417200" cy="2302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F4B3-C5C5-4A09-9898-99A01F5C0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93760"/>
            <a:ext cx="9051840" cy="1218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06400"/>
            <a:ext cx="2914560" cy="2302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4000" y="1706400"/>
            <a:ext cx="2914560" cy="2302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4720" y="1706400"/>
            <a:ext cx="2914560" cy="2302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228200"/>
            <a:ext cx="2914560" cy="2302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4000" y="4228200"/>
            <a:ext cx="2914560" cy="2302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4720" y="4228200"/>
            <a:ext cx="2914560" cy="2302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C28B-3731-471B-90F6-42460DA42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93760"/>
            <a:ext cx="9051840" cy="1218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06400"/>
            <a:ext cx="90518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F5D1-6AF7-4D26-A8C3-8E1E78E4F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93760"/>
            <a:ext cx="9051840" cy="1218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06400"/>
            <a:ext cx="9051840" cy="48276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D94A-DED5-45D4-A1ED-51C59990A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93760"/>
            <a:ext cx="9051840" cy="1218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06400"/>
            <a:ext cx="4417200" cy="48276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1880" y="1706400"/>
            <a:ext cx="4417200" cy="48276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73E5-1965-46C1-BD35-D73A2B049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93760"/>
            <a:ext cx="9051840" cy="1218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38BA-FBB2-415D-A1CC-230A9D8AF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93760"/>
            <a:ext cx="905184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4C87-A184-49A7-82A1-FDB17FF4F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93760"/>
            <a:ext cx="9051840" cy="1218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06400"/>
            <a:ext cx="4417200" cy="2302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880" y="1706400"/>
            <a:ext cx="4417200" cy="48276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228200"/>
            <a:ext cx="4417200" cy="2302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395D-0C31-4EE4-A96F-BB3DE6001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93760"/>
            <a:ext cx="9051840" cy="1218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06400"/>
            <a:ext cx="4417200" cy="48276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880" y="1706400"/>
            <a:ext cx="4417200" cy="2302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1880" y="4228200"/>
            <a:ext cx="4417200" cy="2302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2084-F403-4BFF-8084-E64E48BDA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93760"/>
            <a:ext cx="9051840" cy="1218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06400"/>
            <a:ext cx="4417200" cy="2302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1880" y="1706400"/>
            <a:ext cx="4417200" cy="2302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228200"/>
            <a:ext cx="9051840" cy="2302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D0FA-6AC6-4CE2-A36E-9887EB024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93760"/>
            <a:ext cx="9051840" cy="1218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06400"/>
            <a:ext cx="9051840" cy="48276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marL="372960" indent="-3729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-30960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2" marL="1241280" indent="-24912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3" marL="1736640" indent="-24768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4" marL="2233440" indent="-2473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5" marL="2233440" indent="-2473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6" marL="2233440" indent="-2473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660720"/>
            <a:ext cx="2346120" cy="507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lstStyle>
            <a:lvl1pPr indent="0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6660720"/>
            <a:ext cx="3184560" cy="507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lstStyle>
            <a:lvl1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8640" y="6660720"/>
            <a:ext cx="2346120" cy="507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lstStyle>
            <a:lvl1pPr indent="0" algn="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fld id="{86E222F0-8CF5-4EC2-B1EA-39E2369D364E}" type="slidenum">
              <a:rPr b="0" lang="en-US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04920" y="838080"/>
            <a:ext cx="9448560" cy="358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hiller"/>
              </a:rPr>
              <a:t>Blood Basics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hiller"/>
              <a:ea typeface="Chiller"/>
            </a:endParaRPr>
          </a:p>
        </p:txBody>
      </p:sp>
      <p:sp>
        <p:nvSpPr>
          <p:cNvPr id="42" name=""/>
          <p:cNvSpPr/>
          <p:nvPr/>
        </p:nvSpPr>
        <p:spPr>
          <a:xfrm>
            <a:off x="2133720" y="5105520"/>
            <a:ext cx="4800600" cy="30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Chiller"/>
              </a:rPr>
              <a:t>Unit Review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16390" t="6667" r="16114" b="3333"/>
          <a:stretch/>
        </p:blipFill>
        <p:spPr>
          <a:xfrm>
            <a:off x="1523880" y="152280"/>
            <a:ext cx="7164360" cy="7162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343400" y="228600"/>
            <a:ext cx="2668680" cy="4572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553080" y="228600"/>
            <a:ext cx="470160" cy="42418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24080" y="533520"/>
            <a:ext cx="470160" cy="20206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553080" y="838080"/>
            <a:ext cx="2044800" cy="4572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48120" y="1168560"/>
            <a:ext cx="3009960" cy="4572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20960" y="1803240"/>
            <a:ext cx="2322720" cy="4464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35560" y="1803240"/>
            <a:ext cx="1676520" cy="4464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038480" y="2438280"/>
            <a:ext cx="2973600" cy="4460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248520" y="3062160"/>
            <a:ext cx="1714320" cy="4431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357800" y="228600"/>
            <a:ext cx="480960" cy="2971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02000" y="3683160"/>
            <a:ext cx="4813200" cy="4460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06560" y="3733920"/>
            <a:ext cx="457200" cy="32256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54560" y="3733920"/>
            <a:ext cx="457200" cy="32256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064040" y="4317840"/>
            <a:ext cx="457200" cy="10558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41600" y="4941720"/>
            <a:ext cx="2349720" cy="4176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381560" y="4978440"/>
            <a:ext cx="482400" cy="16509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064040" y="5576760"/>
            <a:ext cx="2006640" cy="4176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563840" y="5892840"/>
            <a:ext cx="1738080" cy="4204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809880" y="6211800"/>
            <a:ext cx="1955880" cy="4176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574640" y="6527880"/>
            <a:ext cx="2324160" cy="4204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078440" y="6197760"/>
            <a:ext cx="455400" cy="10555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09" dur="1" fill="hold"/>
                                  <p:tgtEl>
                                    <p:spTgt spid="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"/>
          <p:cNvGrpSpPr/>
          <p:nvPr/>
        </p:nvGrpSpPr>
        <p:grpSpPr>
          <a:xfrm>
            <a:off x="1905120" y="1523880"/>
            <a:ext cx="5943600" cy="2593800"/>
            <a:chOff x="1905120" y="1523880"/>
            <a:chExt cx="5943600" cy="2593800"/>
          </a:xfrm>
        </p:grpSpPr>
        <p:grpSp>
          <p:nvGrpSpPr>
            <p:cNvPr id="66" name=""/>
            <p:cNvGrpSpPr/>
            <p:nvPr/>
          </p:nvGrpSpPr>
          <p:grpSpPr>
            <a:xfrm>
              <a:off x="1905120" y="1523880"/>
              <a:ext cx="1599840" cy="2588040"/>
              <a:chOff x="1905120" y="1523880"/>
              <a:chExt cx="1599840" cy="2588040"/>
            </a:xfrm>
          </p:grpSpPr>
          <p:grpSp>
            <p:nvGrpSpPr>
              <p:cNvPr id="67" name=""/>
              <p:cNvGrpSpPr/>
              <p:nvPr/>
            </p:nvGrpSpPr>
            <p:grpSpPr>
              <a:xfrm>
                <a:off x="1905120" y="1523880"/>
                <a:ext cx="1599840" cy="2094840"/>
                <a:chOff x="1905120" y="1523880"/>
                <a:chExt cx="1599840" cy="2094840"/>
              </a:xfrm>
            </p:grpSpPr>
            <p:sp>
              <p:nvSpPr>
                <p:cNvPr id="68" name=""/>
                <p:cNvSpPr/>
                <p:nvPr/>
              </p:nvSpPr>
              <p:spPr>
                <a:xfrm>
                  <a:off x="1905120" y="1523880"/>
                  <a:ext cx="1599840" cy="20948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2933280" y="2222280"/>
                  <a:ext cx="343080" cy="6980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1991160" y="1611000"/>
                  <a:ext cx="257040" cy="34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2248200" y="1785600"/>
                  <a:ext cx="341280" cy="6984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2004480" y="3152880"/>
                  <a:ext cx="243360" cy="34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2248200" y="2746080"/>
                  <a:ext cx="341280" cy="6980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2860200" y="1904760"/>
                  <a:ext cx="500400" cy="412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Rh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" name=""/>
              <p:cNvSpPr/>
              <p:nvPr/>
            </p:nvSpPr>
            <p:spPr>
              <a:xfrm>
                <a:off x="1905120" y="3804120"/>
                <a:ext cx="157752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Blood Type: _____ 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" name=""/>
            <p:cNvSpPr/>
            <p:nvPr/>
          </p:nvSpPr>
          <p:spPr>
            <a:xfrm>
              <a:off x="2299320" y="2139840"/>
              <a:ext cx="228240" cy="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86920" y="2571120"/>
              <a:ext cx="22860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4038840" y="1529640"/>
              <a:ext cx="1599480" cy="2588040"/>
              <a:chOff x="4038840" y="1529640"/>
              <a:chExt cx="1599480" cy="2588040"/>
            </a:xfrm>
          </p:grpSpPr>
          <p:grpSp>
            <p:nvGrpSpPr>
              <p:cNvPr id="79" name=""/>
              <p:cNvGrpSpPr/>
              <p:nvPr/>
            </p:nvGrpSpPr>
            <p:grpSpPr>
              <a:xfrm>
                <a:off x="4038840" y="1529640"/>
                <a:ext cx="1599480" cy="2094840"/>
                <a:chOff x="4038840" y="1529640"/>
                <a:chExt cx="1599480" cy="2094840"/>
              </a:xfrm>
            </p:grpSpPr>
            <p:sp>
              <p:nvSpPr>
                <p:cNvPr id="80" name=""/>
                <p:cNvSpPr/>
                <p:nvPr/>
              </p:nvSpPr>
              <p:spPr>
                <a:xfrm>
                  <a:off x="4038840" y="1529640"/>
                  <a:ext cx="1599480" cy="20948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5067000" y="2228040"/>
                  <a:ext cx="343080" cy="6980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4124880" y="1616760"/>
                  <a:ext cx="257040" cy="34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4381920" y="1791360"/>
                  <a:ext cx="341280" cy="6984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4138200" y="3158640"/>
                  <a:ext cx="243360" cy="34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4381920" y="2751840"/>
                  <a:ext cx="341280" cy="6980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4993920" y="1910520"/>
                  <a:ext cx="500400" cy="412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Rh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7" name=""/>
              <p:cNvSpPr/>
              <p:nvPr/>
            </p:nvSpPr>
            <p:spPr>
              <a:xfrm>
                <a:off x="4038840" y="3809880"/>
                <a:ext cx="157716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Blood Type: _____ 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" name=""/>
            <p:cNvGrpSpPr/>
            <p:nvPr/>
          </p:nvGrpSpPr>
          <p:grpSpPr>
            <a:xfrm>
              <a:off x="4433040" y="3008880"/>
              <a:ext cx="228600" cy="231840"/>
              <a:chOff x="4433040" y="3008880"/>
              <a:chExt cx="228600" cy="231840"/>
            </a:xfrm>
          </p:grpSpPr>
          <p:sp>
            <p:nvSpPr>
              <p:cNvPr id="89" name=""/>
              <p:cNvSpPr/>
              <p:nvPr/>
            </p:nvSpPr>
            <p:spPr>
              <a:xfrm>
                <a:off x="4433040" y="3124800"/>
                <a:ext cx="228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>
                <a:off x="4547160" y="3008880"/>
                <a:ext cx="0" cy="231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" name=""/>
            <p:cNvSpPr/>
            <p:nvPr/>
          </p:nvSpPr>
          <p:spPr>
            <a:xfrm>
              <a:off x="4433040" y="2145600"/>
              <a:ext cx="22860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120640" y="2576880"/>
              <a:ext cx="228600" cy="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6172560" y="1523880"/>
              <a:ext cx="1599480" cy="2588040"/>
              <a:chOff x="6172560" y="1523880"/>
              <a:chExt cx="1599480" cy="2588040"/>
            </a:xfrm>
          </p:grpSpPr>
          <p:grpSp>
            <p:nvGrpSpPr>
              <p:cNvPr id="94" name=""/>
              <p:cNvGrpSpPr/>
              <p:nvPr/>
            </p:nvGrpSpPr>
            <p:grpSpPr>
              <a:xfrm>
                <a:off x="6172560" y="1523880"/>
                <a:ext cx="1599480" cy="2094840"/>
                <a:chOff x="6172560" y="1523880"/>
                <a:chExt cx="1599480" cy="2094840"/>
              </a:xfrm>
            </p:grpSpPr>
            <p:sp>
              <p:nvSpPr>
                <p:cNvPr id="95" name=""/>
                <p:cNvSpPr/>
                <p:nvPr/>
              </p:nvSpPr>
              <p:spPr>
                <a:xfrm>
                  <a:off x="6172560" y="1523880"/>
                  <a:ext cx="1599480" cy="20948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7200720" y="2222280"/>
                  <a:ext cx="343080" cy="6980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6258600" y="1611000"/>
                  <a:ext cx="257040" cy="34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6515640" y="1785600"/>
                  <a:ext cx="341280" cy="6984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6271920" y="3152880"/>
                  <a:ext cx="243360" cy="34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6515640" y="2746080"/>
                  <a:ext cx="341280" cy="6980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7127640" y="1904760"/>
                  <a:ext cx="500400" cy="412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Rh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" name=""/>
              <p:cNvSpPr/>
              <p:nvPr/>
            </p:nvSpPr>
            <p:spPr>
              <a:xfrm>
                <a:off x="6172560" y="3804120"/>
                <a:ext cx="157716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Blood Type: _____ 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6566760" y="3002760"/>
              <a:ext cx="228240" cy="231480"/>
              <a:chOff x="6566760" y="3002760"/>
              <a:chExt cx="228240" cy="231480"/>
            </a:xfrm>
          </p:grpSpPr>
          <p:sp>
            <p:nvSpPr>
              <p:cNvPr id="104" name=""/>
              <p:cNvSpPr/>
              <p:nvPr/>
            </p:nvSpPr>
            <p:spPr>
              <a:xfrm>
                <a:off x="6566760" y="3119040"/>
                <a:ext cx="2282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flipV="1">
                <a:off x="6680880" y="3002760"/>
                <a:ext cx="0" cy="231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" name=""/>
            <p:cNvSpPr/>
            <p:nvPr/>
          </p:nvSpPr>
          <p:spPr>
            <a:xfrm>
              <a:off x="7254360" y="2571120"/>
              <a:ext cx="22824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6566040" y="2016720"/>
              <a:ext cx="228240" cy="231840"/>
              <a:chOff x="6566040" y="2016720"/>
              <a:chExt cx="228240" cy="231840"/>
            </a:xfrm>
          </p:grpSpPr>
          <p:sp>
            <p:nvSpPr>
              <p:cNvPr id="108" name=""/>
              <p:cNvSpPr/>
              <p:nvPr/>
            </p:nvSpPr>
            <p:spPr>
              <a:xfrm>
                <a:off x="6566040" y="2132640"/>
                <a:ext cx="2282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flipV="1">
                <a:off x="6680160" y="2016720"/>
                <a:ext cx="0" cy="231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2298600" y="3102480"/>
              <a:ext cx="228600" cy="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590920" y="1523880"/>
              <a:ext cx="914400" cy="31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uspect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09160" y="1523880"/>
              <a:ext cx="914400" cy="31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uspect 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934320" y="1523880"/>
              <a:ext cx="914400" cy="31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uspect 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228600" y="4495680"/>
            <a:ext cx="937260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Suspect 1 were injured during the crime and needed blood, what blood types could he receive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Suspect 2 volunteered to donate blood, which blood types could receive his blood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533520"/>
            <a:ext cx="93726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. Identify the blood type of each sample given the test results.     (5 poin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= clumping, - = no clump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"/>
          <p:cNvGrpSpPr/>
          <p:nvPr/>
        </p:nvGrpSpPr>
        <p:grpSpPr>
          <a:xfrm>
            <a:off x="228600" y="284400"/>
            <a:ext cx="8632440" cy="1139400"/>
            <a:chOff x="228600" y="284400"/>
            <a:chExt cx="8632440" cy="1139400"/>
          </a:xfrm>
        </p:grpSpPr>
        <p:pic>
          <p:nvPicPr>
            <p:cNvPr id="117" name="" descr=""/>
            <p:cNvPicPr/>
            <p:nvPr/>
          </p:nvPicPr>
          <p:blipFill>
            <a:blip r:embed="rId1"/>
            <a:stretch/>
          </p:blipFill>
          <p:spPr>
            <a:xfrm>
              <a:off x="7436520" y="380520"/>
              <a:ext cx="1424520" cy="10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228600" y="284400"/>
              <a:ext cx="7207920" cy="110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2. Which of the three blood droplets shown would have been created by a wound in the lower part of the leg?  Explain. </a:t>
              </a:r>
              <a:br>
                <a:rPr sz="2200"/>
              </a:b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2 points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250920" y="5007600"/>
            <a:ext cx="9556560" cy="11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. If you find a trail of blood with droplets that are close together, what could this mean? (1 poin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168120" y="2837520"/>
            <a:ext cx="8967600" cy="770040"/>
            <a:chOff x="168120" y="2837520"/>
            <a:chExt cx="8967600" cy="770040"/>
          </a:xfrm>
        </p:grpSpPr>
        <p:pic>
          <p:nvPicPr>
            <p:cNvPr id="121" name="" descr=""/>
            <p:cNvPicPr/>
            <p:nvPr/>
          </p:nvPicPr>
          <p:blipFill>
            <a:blip r:embed="rId2"/>
            <a:stretch/>
          </p:blipFill>
          <p:spPr>
            <a:xfrm>
              <a:off x="8046360" y="2898000"/>
              <a:ext cx="1089360" cy="55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168120" y="2837520"/>
              <a:ext cx="7794000" cy="7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3. If you have a blood droplet as shown at left, what does it tell you? Explain. (2 points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9051840" cy="12193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at’s your grade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" y="1219320"/>
            <a:ext cx="434340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0 Points To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1 = 97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2 = 93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3 = 90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4 = 87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5 = 83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-6 = 80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7 = 77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8 = 73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9 = 70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10 = 67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re than 10?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’ll figure the grad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 rot="724800">
            <a:off x="4495680" y="3124080"/>
            <a:ext cx="4362480" cy="1743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effectLst>
                  <a:outerShdw dist="107932" dir="18900000" blurRad="0" rotWithShape="0">
                    <a:srgbClr val="000000">
                      <a:alpha val="50000"/>
                    </a:srgbClr>
                  </a:outerShdw>
                </a:effectLst>
                <a:latin typeface="Cooper Black"/>
              </a:rPr>
              <a:t>Questions?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cc0000"/>
              </a:solidFill>
              <a:effectLst>
                <a:outerShdw dist="107932" dir="18900000" blurRad="0" rotWithShape="0">
                  <a:srgbClr val="000000">
                    <a:alpha val="50000"/>
                  </a:srgbClr>
                </a:outerShdw>
              </a:effectLst>
              <a:latin typeface="Cooper Black"/>
              <a:ea typeface="Cooper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8T00:33:58Z</dcterms:created>
  <dc:creator>Tracy Trimpe</dc:creator>
  <dc:description/>
  <dc:language>en-US</dc:language>
  <cp:lastModifiedBy>Tracy Trimpe</cp:lastModifiedBy>
  <dcterms:modified xsi:type="dcterms:W3CDTF">2007-11-10T00:07:17Z</dcterms:modified>
  <cp:revision>11</cp:revision>
  <dc:subject/>
  <dc:title>Slide 1</dc:title>
</cp:coreProperties>
</file>