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6E4-9351-4773-BCBD-518F8995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B57-E771-471B-9F4C-F5850D14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6A2-57D6-4E46-B656-3EFB9F97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3F7-6842-42EF-A6BF-E1287A5A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3073-65F1-49CD-9581-04C6C83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2A96-8685-4AA7-BD39-F55A9CF0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E65-4360-461F-A0BA-FC27FF1F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3F0-C781-4AE4-B8DE-C531401F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611-A54B-46C1-86EB-AAA01531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C4F-33BD-42C4-97C1-F35B8882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CCE-4DE0-4AFF-81B8-18D5FBC9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D4C-DDF2-4345-B8D5-F1DA29D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890C-8802-41F9-8732-6C98C9BC9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62520" y="658332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developed by T. Trimpe 2010  http://sciencespo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04920" y="685800"/>
            <a:ext cx="8458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Cooper Black"/>
              </a:rPr>
              <a:t>Bite Mark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14600" y="3429000"/>
            <a:ext cx="6248520" cy="26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Cooper Black"/>
              </a:rPr>
              <a:t>Identific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pic>
        <p:nvPicPr>
          <p:cNvPr id="44" name="Picture 3" descr="C:\Users\tracy\AppData\Local\Microsoft\Windows\Temporary Internet Files\Content.IE5\BHCA2XZ2\MC900012912[1].wmf"/>
          <p:cNvPicPr/>
          <p:nvPr/>
        </p:nvPicPr>
        <p:blipFill>
          <a:blip r:embed="rId1"/>
          <a:stretch/>
        </p:blipFill>
        <p:spPr>
          <a:xfrm>
            <a:off x="304920" y="4114800"/>
            <a:ext cx="18604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52280" y="914400"/>
            <a:ext cx="6248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Fold the Styrofoam plate in half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Label one side MAXILLA and the other MANDI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Gently bite down on the plate to leave your bite mark im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Place a sheet of the plastic film over the impression and use a permanent marker to recreate the pattern to match that of your bite ma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–  Use a ruler to make the measurements shown and record in the table below along with any notes regarding unique characteristics you observe in the teeth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: Make an Impres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705720" y="2743200"/>
            <a:ext cx="1973160" cy="30290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23"/>
          <p:cNvGrpSpPr/>
          <p:nvPr/>
        </p:nvGrpSpPr>
        <p:grpSpPr>
          <a:xfrm>
            <a:off x="6705360" y="3962520"/>
            <a:ext cx="1905120" cy="2121120"/>
            <a:chOff x="6705360" y="3962520"/>
            <a:chExt cx="1905120" cy="2121120"/>
          </a:xfrm>
        </p:grpSpPr>
        <p:sp>
          <p:nvSpPr>
            <p:cNvPr id="49" name="TextBox 12"/>
            <p:cNvSpPr/>
            <p:nvPr/>
          </p:nvSpPr>
          <p:spPr>
            <a:xfrm>
              <a:off x="6781680" y="57153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d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Straight Arrow Connector 14"/>
            <p:cNvCxnSpPr/>
            <p:nvPr/>
          </p:nvCxnSpPr>
          <p:spPr>
            <a:xfrm>
              <a:off x="6705360" y="3962520"/>
              <a:ext cx="190548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1" name="Straight Arrow Connector 15"/>
            <p:cNvCxnSpPr/>
            <p:nvPr/>
          </p:nvCxnSpPr>
          <p:spPr>
            <a:xfrm>
              <a:off x="6705360" y="4343400"/>
              <a:ext cx="190548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2" name="Straight Arrow Connector 20"/>
            <p:cNvCxnSpPr/>
            <p:nvPr/>
          </p:nvCxnSpPr>
          <p:spPr>
            <a:xfrm>
              <a:off x="7695720" y="5867280"/>
              <a:ext cx="73260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</p:grpSp>
      <p:grpSp>
        <p:nvGrpSpPr>
          <p:cNvPr id="53" name="Group 24"/>
          <p:cNvGrpSpPr/>
          <p:nvPr/>
        </p:nvGrpSpPr>
        <p:grpSpPr>
          <a:xfrm>
            <a:off x="6781680" y="2742840"/>
            <a:ext cx="1646280" cy="3645720"/>
            <a:chOff x="6781680" y="2742840"/>
            <a:chExt cx="1646280" cy="3645720"/>
          </a:xfrm>
        </p:grpSpPr>
        <p:cxnSp>
          <p:nvCxnSpPr>
            <p:cNvPr id="54" name="Straight Arrow Connector 16"/>
            <p:cNvCxnSpPr/>
            <p:nvPr/>
          </p:nvCxnSpPr>
          <p:spPr>
            <a:xfrm flipH="1" flipV="1">
              <a:off x="7695720" y="4344480"/>
              <a:ext cx="11520" cy="126576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55" name="TextBox 18"/>
            <p:cNvSpPr/>
            <p:nvPr/>
          </p:nvSpPr>
          <p:spPr>
            <a:xfrm>
              <a:off x="6781680" y="60202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Straight Arrow Connector 19"/>
            <p:cNvCxnSpPr/>
            <p:nvPr/>
          </p:nvCxnSpPr>
          <p:spPr>
            <a:xfrm flipH="1" flipV="1">
              <a:off x="7690680" y="2742840"/>
              <a:ext cx="5400" cy="129600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57" name="Straight Arrow Connector 21"/>
            <p:cNvCxnSpPr/>
            <p:nvPr/>
          </p:nvCxnSpPr>
          <p:spPr>
            <a:xfrm>
              <a:off x="7695720" y="6170760"/>
              <a:ext cx="732600" cy="2160"/>
            </a:xfrm>
            <a:prstGeom prst="straightConnector1">
              <a:avLst/>
            </a:prstGeom>
            <a:ln w="57240">
              <a:solidFill>
                <a:srgbClr val="00b0f0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58" name="Rectangle 22"/>
          <p:cNvSpPr/>
          <p:nvPr/>
        </p:nvSpPr>
        <p:spPr>
          <a:xfrm>
            <a:off x="152280" y="6611760"/>
            <a:ext cx="48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forensicfact.files.wordpress.com/2008/05/cast_negative_resized_copy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7"/>
          <p:cNvSpPr/>
          <p:nvPr/>
        </p:nvSpPr>
        <p:spPr>
          <a:xfrm>
            <a:off x="6858000" y="914400"/>
            <a:ext cx="152388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5"/>
          <p:cNvSpPr/>
          <p:nvPr/>
        </p:nvSpPr>
        <p:spPr>
          <a:xfrm>
            <a:off x="7162920" y="990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6"/>
          <p:cNvSpPr/>
          <p:nvPr/>
        </p:nvSpPr>
        <p:spPr>
          <a:xfrm>
            <a:off x="70866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934320" y="3048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934320" y="48769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3"/>
          <p:cNvSpPr/>
          <p:nvPr/>
        </p:nvSpPr>
        <p:spPr>
          <a:xfrm>
            <a:off x="6857280" y="1676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52280" y="91440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Use the various pieces of candy to make bite mark impress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Record your observations for each one as well as provide a rating of the impression quality using poor, fair, or goo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2:  Tasty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7209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Can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1:56:01Z</dcterms:created>
  <dc:creator>Tracy Trimpe</dc:creator>
  <dc:description/>
  <dc:language>en-US</dc:language>
  <cp:lastModifiedBy>tracy</cp:lastModifiedBy>
  <dcterms:modified xsi:type="dcterms:W3CDTF">2010-10-01T23:08:06Z</dcterms:modified>
  <cp:revision>142</cp:revision>
  <dc:subject/>
  <dc:title>Slide 1</dc:title>
</cp:coreProperties>
</file>