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9EA-5D04-469D-B6A2-0386921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597-96D7-4CCF-A2BB-41AB723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359-5920-4F5A-BBAA-1366B91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C0B-0566-461A-9306-9F5D78AD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F08-A806-43C0-90FD-B73EC06D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93F-8EE3-4E68-B10E-3D8D80F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6E0-3F1B-4C81-9CCA-AE28925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E19-B99D-41A7-B601-846BF06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6AE-DF7E-40FC-95AD-6DE04E55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E8D-7BFC-40D5-A725-C3CF7C5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412-7178-4380-8C18-06F7CB0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93B-0825-41A4-A9FD-3251535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B9A-DC5B-46E3-BA88-F1C7C0A2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62520" y="658332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10 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04920" y="685800"/>
            <a:ext cx="8458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Bite Mark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14600" y="3429000"/>
            <a:ext cx="624852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Ident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44" name="Picture 3" descr="C:\Users\tracy\AppData\Local\Microsoft\Windows\Temporary Internet Files\Content.IE5\BHCA2XZ2\MC900012912[1].wmf"/>
          <p:cNvPicPr/>
          <p:nvPr/>
        </p:nvPicPr>
        <p:blipFill>
          <a:blip r:embed="rId1"/>
          <a:stretch/>
        </p:blipFill>
        <p:spPr>
          <a:xfrm>
            <a:off x="304920" y="4114800"/>
            <a:ext cx="18604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914400"/>
            <a:ext cx="6248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Fold the Styrofoam plate in half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Label one side MAXILLA and the other MANDI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Gently bite down on the plate to leave your bite mark im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Place a sheet of the plastic film over the impression and use a permanent marker to recreate the pattern to match that of your bite 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 Use a ruler to make the measurements shown and record in the table below along with any notes regarding unique characteristics you observe in the teet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: Make an Imp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705720" y="2743200"/>
            <a:ext cx="1973160" cy="30290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3"/>
          <p:cNvGrpSpPr/>
          <p:nvPr/>
        </p:nvGrpSpPr>
        <p:grpSpPr>
          <a:xfrm>
            <a:off x="6705360" y="3962520"/>
            <a:ext cx="1905120" cy="2121120"/>
            <a:chOff x="6705360" y="3962520"/>
            <a:chExt cx="1905120" cy="2121120"/>
          </a:xfrm>
        </p:grpSpPr>
        <p:sp>
          <p:nvSpPr>
            <p:cNvPr id="49" name="TextBox 12"/>
            <p:cNvSpPr/>
            <p:nvPr/>
          </p:nvSpPr>
          <p:spPr>
            <a:xfrm>
              <a:off x="6781680" y="5715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Straight Arrow Connector 14"/>
            <p:cNvCxnSpPr/>
            <p:nvPr/>
          </p:nvCxnSpPr>
          <p:spPr>
            <a:xfrm>
              <a:off x="6705360" y="3962520"/>
              <a:ext cx="190548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1" name="Straight Arrow Connector 15"/>
            <p:cNvCxnSpPr/>
            <p:nvPr/>
          </p:nvCxnSpPr>
          <p:spPr>
            <a:xfrm>
              <a:off x="6705360" y="4343400"/>
              <a:ext cx="190548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2" name="Straight Arrow Connector 20"/>
            <p:cNvCxnSpPr/>
            <p:nvPr/>
          </p:nvCxnSpPr>
          <p:spPr>
            <a:xfrm>
              <a:off x="7695720" y="5867280"/>
              <a:ext cx="73260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53" name="Group 24"/>
          <p:cNvGrpSpPr/>
          <p:nvPr/>
        </p:nvGrpSpPr>
        <p:grpSpPr>
          <a:xfrm>
            <a:off x="6781680" y="2742840"/>
            <a:ext cx="1646280" cy="3645720"/>
            <a:chOff x="6781680" y="2742840"/>
            <a:chExt cx="1646280" cy="3645720"/>
          </a:xfrm>
        </p:grpSpPr>
        <p:cxnSp>
          <p:nvCxnSpPr>
            <p:cNvPr id="54" name="Straight Arrow Connector 16"/>
            <p:cNvCxnSpPr/>
            <p:nvPr/>
          </p:nvCxnSpPr>
          <p:spPr>
            <a:xfrm flipH="1" flipV="1">
              <a:off x="7695720" y="4344480"/>
              <a:ext cx="11520" cy="126576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5" name="TextBox 18"/>
            <p:cNvSpPr/>
            <p:nvPr/>
          </p:nvSpPr>
          <p:spPr>
            <a:xfrm>
              <a:off x="6781680" y="60202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Straight Arrow Connector 19"/>
            <p:cNvCxnSpPr/>
            <p:nvPr/>
          </p:nvCxnSpPr>
          <p:spPr>
            <a:xfrm flipH="1" flipV="1">
              <a:off x="7690680" y="2742840"/>
              <a:ext cx="5400" cy="129600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7" name="Straight Arrow Connector 21"/>
            <p:cNvCxnSpPr/>
            <p:nvPr/>
          </p:nvCxnSpPr>
          <p:spPr>
            <a:xfrm>
              <a:off x="7695720" y="6170760"/>
              <a:ext cx="732600" cy="216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58" name="Rectangle 22"/>
          <p:cNvSpPr/>
          <p:nvPr/>
        </p:nvSpPr>
        <p:spPr>
          <a:xfrm>
            <a:off x="152280" y="661176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forensicfact.files.wordpress.com/2008/05/cast_negative_resized_copy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6858000" y="914400"/>
            <a:ext cx="152388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7162920" y="990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70866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9343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9343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3"/>
          <p:cNvSpPr/>
          <p:nvPr/>
        </p:nvSpPr>
        <p:spPr>
          <a:xfrm>
            <a:off x="685728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52280" y="914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Use the various pieces of candy to make bite mark impre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Record your observations for each one as well as provide a rating of the impression quality using poor, fair, or go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2:  Tas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7209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Can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1:56:01Z</dcterms:created>
  <dc:creator>Tracy Trimpe</dc:creator>
  <dc:description/>
  <dc:language>en-US</dc:language>
  <cp:lastModifiedBy>tracy</cp:lastModifiedBy>
  <dcterms:modified xsi:type="dcterms:W3CDTF">2010-10-01T23:08:06Z</dcterms:modified>
  <cp:revision>142</cp:revision>
  <dc:subject/>
  <dc:title>Slide 1</dc:title>
</cp:coreProperties>
</file>