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584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483-B789-49EB-BFEA-DFE9C636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30B-B656-45FE-A4CE-22B61C4C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724-9807-4E9D-B2BF-A6D4A95C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871-A191-44B0-B05A-3CAC82B1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AB7-E4FB-416B-B67F-5CE4CE79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1E0-E7F0-4D1E-B18B-72F6F120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1F6-114D-44D7-85B2-930B6E0F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355-9B2C-47D6-8BD3-2144329E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3760"/>
            <a:ext cx="9051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413-CA1B-4125-BEA5-A579392D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6178-5000-4E92-A929-5D20931C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227-A921-44E2-AA74-37B7C402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DA80-A41B-412D-872E-4E7EB0B2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6660720"/>
            <a:ext cx="318456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04B8-0D16-4264-9080-DDD0E7E706F6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040" y="541008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ooper Black"/>
              </a:rPr>
              <a:t>Unit 1 Review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oper Black"/>
              </a:rPr>
              <a:t>Crime Scene Basics &amp; Eyewitness Bas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62120" y="228600"/>
            <a:ext cx="8466120" cy="21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oper Black"/>
              </a:rPr>
              <a:t>Forensic Science</a:t>
            </a:r>
            <a:endParaRPr b="0" lang="en-US" sz="2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oper Black"/>
              <a:ea typeface="Cooper Black"/>
            </a:endParaRPr>
          </a:p>
        </p:txBody>
      </p:sp>
      <p:pic>
        <p:nvPicPr>
          <p:cNvPr id="43" name="Picture 5" descr="j0239447"/>
          <p:cNvPicPr/>
          <p:nvPr/>
        </p:nvPicPr>
        <p:blipFill>
          <a:blip r:embed="rId1"/>
          <a:stretch/>
        </p:blipFill>
        <p:spPr>
          <a:xfrm>
            <a:off x="3809880" y="2590920"/>
            <a:ext cx="2471760" cy="2590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5589720" y="6924600"/>
            <a:ext cx="4267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Trimpe 2006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0" descr=""/>
          <p:cNvPicPr/>
          <p:nvPr/>
        </p:nvPicPr>
        <p:blipFill>
          <a:blip r:embed="rId1"/>
          <a:srcRect l="13334" t="10418" r="12221" b="32084"/>
          <a:stretch/>
        </p:blipFill>
        <p:spPr>
          <a:xfrm>
            <a:off x="1523880" y="182520"/>
            <a:ext cx="6629400" cy="68277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4"/>
          <p:cNvSpPr/>
          <p:nvPr/>
        </p:nvSpPr>
        <p:spPr>
          <a:xfrm>
            <a:off x="3429000" y="152280"/>
            <a:ext cx="503280" cy="3886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5"/>
          <p:cNvSpPr/>
          <p:nvPr/>
        </p:nvSpPr>
        <p:spPr>
          <a:xfrm>
            <a:off x="1600200" y="533520"/>
            <a:ext cx="266688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7"/>
          <p:cNvSpPr/>
          <p:nvPr/>
        </p:nvSpPr>
        <p:spPr>
          <a:xfrm>
            <a:off x="7543800" y="2133720"/>
            <a:ext cx="2133720" cy="862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point e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lling coun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4"/>
          <p:cNvSpPr/>
          <p:nvPr/>
        </p:nvSpPr>
        <p:spPr>
          <a:xfrm>
            <a:off x="2693880" y="533520"/>
            <a:ext cx="503280" cy="2743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4"/>
          <p:cNvSpPr/>
          <p:nvPr/>
        </p:nvSpPr>
        <p:spPr>
          <a:xfrm>
            <a:off x="4545000" y="533520"/>
            <a:ext cx="503280" cy="457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5"/>
          <p:cNvSpPr/>
          <p:nvPr/>
        </p:nvSpPr>
        <p:spPr>
          <a:xfrm>
            <a:off x="4495680" y="914400"/>
            <a:ext cx="350532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5"/>
          <p:cNvSpPr/>
          <p:nvPr/>
        </p:nvSpPr>
        <p:spPr>
          <a:xfrm>
            <a:off x="4114800" y="2362320"/>
            <a:ext cx="281952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5"/>
          <p:cNvSpPr/>
          <p:nvPr/>
        </p:nvSpPr>
        <p:spPr>
          <a:xfrm>
            <a:off x="3048120" y="3478320"/>
            <a:ext cx="419076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4"/>
          <p:cNvSpPr/>
          <p:nvPr/>
        </p:nvSpPr>
        <p:spPr>
          <a:xfrm>
            <a:off x="7480440" y="3809880"/>
            <a:ext cx="502920" cy="3124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4"/>
          <p:cNvSpPr/>
          <p:nvPr/>
        </p:nvSpPr>
        <p:spPr>
          <a:xfrm>
            <a:off x="3048120" y="3505320"/>
            <a:ext cx="503280" cy="19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5"/>
          <p:cNvSpPr/>
          <p:nvPr/>
        </p:nvSpPr>
        <p:spPr>
          <a:xfrm>
            <a:off x="4545000" y="4594320"/>
            <a:ext cx="3456000" cy="53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4"/>
          <p:cNvSpPr/>
          <p:nvPr/>
        </p:nvSpPr>
        <p:spPr>
          <a:xfrm>
            <a:off x="5284800" y="4608360"/>
            <a:ext cx="503280" cy="1954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5"/>
          <p:cNvSpPr/>
          <p:nvPr/>
        </p:nvSpPr>
        <p:spPr>
          <a:xfrm>
            <a:off x="1905120" y="4952880"/>
            <a:ext cx="20574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5"/>
          <p:cNvSpPr/>
          <p:nvPr/>
        </p:nvSpPr>
        <p:spPr>
          <a:xfrm>
            <a:off x="3746520" y="5688000"/>
            <a:ext cx="20574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4"/>
          <p:cNvSpPr/>
          <p:nvPr/>
        </p:nvSpPr>
        <p:spPr>
          <a:xfrm>
            <a:off x="2313000" y="4965840"/>
            <a:ext cx="503280" cy="19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5"/>
          <p:cNvSpPr/>
          <p:nvPr/>
        </p:nvSpPr>
        <p:spPr>
          <a:xfrm>
            <a:off x="6705720" y="6059520"/>
            <a:ext cx="129528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250920" y="152280"/>
            <a:ext cx="98074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wer each question to the best of your knowl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What are the four steps used to analyze a crime scen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What type of evidence does the FBI consider to be the most valuable? 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List three ways investigators use evidence collected at a crime sc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3"/>
          <p:cNvGrpSpPr/>
          <p:nvPr/>
        </p:nvGrpSpPr>
        <p:grpSpPr>
          <a:xfrm>
            <a:off x="609480" y="3657600"/>
            <a:ext cx="7826400" cy="2289240"/>
            <a:chOff x="609480" y="3657600"/>
            <a:chExt cx="7826400" cy="2289240"/>
          </a:xfrm>
        </p:grpSpPr>
        <p:sp>
          <p:nvSpPr>
            <p:cNvPr id="64" name="Text Box 5"/>
            <p:cNvSpPr/>
            <p:nvPr/>
          </p:nvSpPr>
          <p:spPr>
            <a:xfrm>
              <a:off x="609480" y="3657600"/>
              <a:ext cx="5638680" cy="22892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y prove that a crime has been commit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stablish any key elements of a cri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nk a suspect with a crime scene or a victi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stablish the identity of a victim or susp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rroborate verbal witness testimon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xonerate the innocent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ive detectives leads to work with in the c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0"/>
            <p:cNvSpPr/>
            <p:nvPr/>
          </p:nvSpPr>
          <p:spPr>
            <a:xfrm>
              <a:off x="6857640" y="4267080"/>
              <a:ext cx="1578240" cy="1014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eed 3 way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 poi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4"/>
          <p:cNvGrpSpPr/>
          <p:nvPr/>
        </p:nvGrpSpPr>
        <p:grpSpPr>
          <a:xfrm>
            <a:off x="609480" y="1066680"/>
            <a:ext cx="7238880" cy="573120"/>
            <a:chOff x="609480" y="1066680"/>
            <a:chExt cx="7238880" cy="573120"/>
          </a:xfrm>
        </p:grpSpPr>
        <p:sp>
          <p:nvSpPr>
            <p:cNvPr id="67" name="Text Box 8"/>
            <p:cNvSpPr/>
            <p:nvPr/>
          </p:nvSpPr>
          <p:spPr>
            <a:xfrm>
              <a:off x="609480" y="1235160"/>
              <a:ext cx="5715000" cy="404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view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xamin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ocument </a:t>
              </a: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1"/>
            <p:cNvSpPr/>
            <p:nvPr/>
          </p:nvSpPr>
          <p:spPr>
            <a:xfrm>
              <a:off x="6629400" y="1066680"/>
              <a:ext cx="1218960" cy="404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poi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5"/>
          <p:cNvGrpSpPr/>
          <p:nvPr/>
        </p:nvGrpSpPr>
        <p:grpSpPr>
          <a:xfrm>
            <a:off x="7886880" y="1828800"/>
            <a:ext cx="1577880" cy="938160"/>
            <a:chOff x="7886880" y="1828800"/>
            <a:chExt cx="1577880" cy="938160"/>
          </a:xfrm>
        </p:grpSpPr>
        <p:sp>
          <p:nvSpPr>
            <p:cNvPr id="70" name="Text Box 9"/>
            <p:cNvSpPr/>
            <p:nvPr/>
          </p:nvSpPr>
          <p:spPr>
            <a:xfrm>
              <a:off x="7886880" y="1828800"/>
              <a:ext cx="1577880" cy="404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2"/>
            <p:cNvSpPr/>
            <p:nvPr/>
          </p:nvSpPr>
          <p:spPr>
            <a:xfrm>
              <a:off x="8172720" y="2362320"/>
              <a:ext cx="1006200" cy="404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 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22320" y="152280"/>
            <a:ext cx="9807480" cy="55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Write the correct letter in each blank to identify each person involved in a crime scene investig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POLICE OFFIC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CSI UN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DISTRICT ATTORN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MEDICAL EXAMI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SPECIALI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DETECTIV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What are three factors that might affect a person's ability to remember what happened during a crime or to identify a suspect?  Explain each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762120" y="5753160"/>
            <a:ext cx="7826400" cy="1319400"/>
            <a:chOff x="762120" y="5753160"/>
            <a:chExt cx="7826400" cy="1319400"/>
          </a:xfrm>
        </p:grpSpPr>
        <p:sp>
          <p:nvSpPr>
            <p:cNvPr id="74" name="Text Box 5"/>
            <p:cNvSpPr/>
            <p:nvPr/>
          </p:nvSpPr>
          <p:spPr>
            <a:xfrm>
              <a:off x="762120" y="5757840"/>
              <a:ext cx="5638680" cy="1313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sible answers include:  Age, race, drug use, outside influence, level of trauma, length of time, characteristics of a suspect (tattoos, scars, etc.), and the time of 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0"/>
            <p:cNvSpPr/>
            <p:nvPr/>
          </p:nvSpPr>
          <p:spPr>
            <a:xfrm>
              <a:off x="6705720" y="5753160"/>
              <a:ext cx="1882800" cy="131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eed 3 things + expla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 poi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2"/>
          <p:cNvSpPr/>
          <p:nvPr/>
        </p:nvSpPr>
        <p:spPr>
          <a:xfrm>
            <a:off x="3048120" y="685800"/>
            <a:ext cx="693396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ews witnesses and works with the CSI unit to investigate the 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the first to arrive at a crime scene; responsible for securing the scene and detaining persons of interest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s the preliminary cause of death at the crime scene and   conducts the autop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s to determine if any search warrants are required to proceed and obtains those warrants from a ju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called in if an expert is needed to analyze insect evidence or skeletal  re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s the crime scene in detail and collects any physical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0"/>
          <p:cNvGrpSpPr/>
          <p:nvPr/>
        </p:nvGrpSpPr>
        <p:grpSpPr>
          <a:xfrm>
            <a:off x="457200" y="631800"/>
            <a:ext cx="2602080" cy="3635280"/>
            <a:chOff x="457200" y="631800"/>
            <a:chExt cx="2602080" cy="3635280"/>
          </a:xfrm>
        </p:grpSpPr>
        <p:sp>
          <p:nvSpPr>
            <p:cNvPr id="78" name="Text Box 2"/>
            <p:cNvSpPr/>
            <p:nvPr/>
          </p:nvSpPr>
          <p:spPr>
            <a:xfrm>
              <a:off x="457200" y="2819520"/>
              <a:ext cx="1447920" cy="456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 poi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9"/>
            <p:cNvGrpSpPr/>
            <p:nvPr/>
          </p:nvGrpSpPr>
          <p:grpSpPr>
            <a:xfrm>
              <a:off x="2602080" y="631800"/>
              <a:ext cx="457200" cy="3635280"/>
              <a:chOff x="2602080" y="631800"/>
              <a:chExt cx="457200" cy="3635280"/>
            </a:xfrm>
          </p:grpSpPr>
          <p:sp>
            <p:nvSpPr>
              <p:cNvPr id="80" name="Text Box 2"/>
              <p:cNvSpPr/>
              <p:nvPr/>
            </p:nvSpPr>
            <p:spPr>
              <a:xfrm>
                <a:off x="2602080" y="631800"/>
                <a:ext cx="457200" cy="456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2"/>
              <p:cNvSpPr/>
              <p:nvPr/>
            </p:nvSpPr>
            <p:spPr>
              <a:xfrm>
                <a:off x="2602080" y="1219680"/>
                <a:ext cx="457200" cy="456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2"/>
              <p:cNvSpPr/>
              <p:nvPr/>
            </p:nvSpPr>
            <p:spPr>
              <a:xfrm>
                <a:off x="2602080" y="1905480"/>
                <a:ext cx="457200" cy="456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2"/>
              <p:cNvSpPr/>
              <p:nvPr/>
            </p:nvSpPr>
            <p:spPr>
              <a:xfrm>
                <a:off x="2602080" y="2590920"/>
                <a:ext cx="457200" cy="456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2"/>
              <p:cNvSpPr/>
              <p:nvPr/>
            </p:nvSpPr>
            <p:spPr>
              <a:xfrm>
                <a:off x="2602080" y="3200760"/>
                <a:ext cx="457200" cy="456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2"/>
              <p:cNvSpPr/>
              <p:nvPr/>
            </p:nvSpPr>
            <p:spPr>
              <a:xfrm>
                <a:off x="2602080" y="3810240"/>
                <a:ext cx="457200" cy="456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’s your grad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419720" y="1492200"/>
            <a:ext cx="274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1 = 97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2 = 94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3 = 9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4 = 89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5 = 8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6 = 8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7 = 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5"/>
          <p:cNvSpPr txBox="1"/>
          <p:nvPr/>
        </p:nvSpPr>
        <p:spPr>
          <a:xfrm rot="20943600">
            <a:off x="819000" y="4663800"/>
            <a:ext cx="3543480" cy="17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07932" dir="18900000" blurRad="0" rotWithShape="0">
                    <a:srgbClr val="ff0000">
                      <a:alpha val="50000"/>
                    </a:srgbClr>
                  </a:outerShdw>
                </a:effectLst>
                <a:latin typeface="Cooper Black"/>
              </a:rPr>
              <a:t>Questions?</a:t>
            </a:r>
            <a:endParaRPr b="0" lang="en-US" sz="2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07932" dir="18900000" blurRad="0" rotWithShape="0">
                  <a:srgbClr val="ff0000">
                    <a:alpha val="5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8600" y="1523880"/>
            <a:ext cx="4343400" cy="23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5 Points To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ss more than 14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figure the gra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934320" y="1492200"/>
            <a:ext cx="274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8 = 77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9 = 74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10 = 7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11 = 69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12 = 6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13 = 6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14 = 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20:34:25Z</dcterms:created>
  <dc:creator>Tracy Trimpe</dc:creator>
  <dc:description/>
  <dc:language>en-US</dc:language>
  <cp:lastModifiedBy>Tracy</cp:lastModifiedBy>
  <dcterms:modified xsi:type="dcterms:W3CDTF">2009-08-01T21:33:08Z</dcterms:modified>
  <cp:revision>25</cp:revision>
  <dc:subject/>
  <dc:title>Forensic Science</dc:title>
</cp:coreProperties>
</file>