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7C3-CF41-4834-8094-61DB948B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26B-DAFA-4655-894A-C385EDAF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430-1D93-4165-AECB-A27744B3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8AC-A792-4F9C-B731-382AAAA7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817-E762-4DE7-9168-6780AC8C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5FE-FEAF-4366-9891-06EE23E9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85D-9934-4832-AFFE-F346FA5F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739-7FDC-4737-8BD8-A14460CB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DEB-B2A8-467F-AFAB-E39F7882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3BA-FF2C-434F-858B-0222721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FDB-204A-4834-A7E4-81EC156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AAD-815B-4ED4-8705-E972432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0523-0EA0-477A-909F-AE683748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Stuff Wor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water Det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6" name="Picture 27" descr="MCj02869430000[1]"/>
          <p:cNvPicPr/>
          <p:nvPr/>
        </p:nvPicPr>
        <p:blipFill>
          <a:blip r:embed="rId2"/>
          <a:stretch/>
        </p:blipFill>
        <p:spPr>
          <a:xfrm>
            <a:off x="6095880" y="4267080"/>
            <a:ext cx="2051280" cy="2373480"/>
          </a:xfrm>
          <a:prstGeom prst="rect">
            <a:avLst/>
          </a:prstGeom>
          <a:ln w="0">
            <a:noFill/>
          </a:ln>
        </p:spPr>
      </p:pic>
      <p:sp>
        <p:nvSpPr>
          <p:cNvPr id="47" name="WordArt 28"/>
          <p:cNvSpPr txBox="1"/>
          <p:nvPr/>
        </p:nvSpPr>
        <p:spPr>
          <a:xfrm>
            <a:off x="609480" y="20574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Underwater CS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8436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was the cr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 body was dumped in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 person fell over the side of a boat and drown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 boat was sto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y wasn’t the “killer” worried about leaving evidence behind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 knew the evidence couldn’t be traced back to hi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 figured the water would wash away all the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gerprints are likely to remain on evidence found in the wate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the correct order for processing a water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hotograph the area, gather evidence, and record measur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Record measurements, photograph the area, and gather evide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hotograph the area, record measurements, and gather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5740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828800" y="10666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videos.howstuffworks.com/science-channel/14374-discoveries-this-week-underwater-detectives-video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5"/>
          <p:cNvSpPr/>
          <p:nvPr/>
        </p:nvSpPr>
        <p:spPr>
          <a:xfrm>
            <a:off x="457200" y="158436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was the cr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 body was dumped in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 person fell over the side of a boat and drown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 boat was sto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y wasn’t the “killer” worried about leaving evidence behind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 knew the evidence couldn’t be traced back to hi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 figured the water would wash away all the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gerprints are likely to remain on evidence found in the wate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the correct order for processing a water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hotograph the area, gather evidence, and record measur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Record measurements, photograph the area, and gather evide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hotograph the area, record measurements, and gather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57200" y="1936800"/>
            <a:ext cx="4114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57200" y="3787920"/>
            <a:ext cx="64771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741240" y="4386240"/>
            <a:ext cx="685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457200" y="6226200"/>
            <a:ext cx="7543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5:49Z</dcterms:modified>
  <cp:revision>162</cp:revision>
  <dc:subject/>
  <dc:title>Who am I?</dc:title>
</cp:coreProperties>
</file>