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4C24-0E61-4428-A3F8-37F175FA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A893-37AA-4AA9-9600-7A2E9077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C6C-83BC-45C6-8442-DF3C8377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0FD-69AB-4664-A9C3-7DE4673B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EC3-F08F-413D-8FF6-1FAF0EEA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4233-34A6-476F-814E-CB25BCD1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B107-B78F-48C2-BE90-25199D21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16D-543C-42E4-8391-64709671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C328-C8BE-4A3E-A08A-289A9799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33EE-CC80-455A-AF7F-2F0A6323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B73E-0185-4DF6-BEA2-718532DC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2208-03AC-4820-9206-ABD70681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34F5-D12D-4C1C-A634-990CF6BDB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838080" y="4876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Stuff Work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water Detec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22"/>
          <p:cNvGrpSpPr/>
          <p:nvPr/>
        </p:nvGrpSpPr>
        <p:grpSpPr>
          <a:xfrm>
            <a:off x="365040" y="304920"/>
            <a:ext cx="2606760" cy="1523880"/>
            <a:chOff x="365040" y="304920"/>
            <a:chExt cx="2606760" cy="1523880"/>
          </a:xfrm>
        </p:grpSpPr>
        <p:pic>
          <p:nvPicPr>
            <p:cNvPr id="44" name="Picture 23" descr="j0308091"/>
            <p:cNvPicPr/>
            <p:nvPr/>
          </p:nvPicPr>
          <p:blipFill>
            <a:blip r:embed="rId1"/>
            <a:stretch/>
          </p:blipFill>
          <p:spPr>
            <a:xfrm>
              <a:off x="538560" y="304920"/>
              <a:ext cx="172908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WordArt 24"/>
            <p:cNvSpPr txBox="1"/>
            <p:nvPr/>
          </p:nvSpPr>
          <p:spPr>
            <a:xfrm>
              <a:off x="365040" y="696240"/>
              <a:ext cx="2606760" cy="113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46" name="Picture 27" descr="MCj02869430000[1]"/>
          <p:cNvPicPr/>
          <p:nvPr/>
        </p:nvPicPr>
        <p:blipFill>
          <a:blip r:embed="rId2"/>
          <a:stretch/>
        </p:blipFill>
        <p:spPr>
          <a:xfrm>
            <a:off x="6095880" y="4267080"/>
            <a:ext cx="2051280" cy="2373480"/>
          </a:xfrm>
          <a:prstGeom prst="rect">
            <a:avLst/>
          </a:prstGeom>
          <a:ln w="0">
            <a:noFill/>
          </a:ln>
        </p:spPr>
      </p:pic>
      <p:sp>
        <p:nvSpPr>
          <p:cNvPr id="47" name="WordArt 28"/>
          <p:cNvSpPr txBox="1"/>
          <p:nvPr/>
        </p:nvSpPr>
        <p:spPr>
          <a:xfrm>
            <a:off x="609480" y="2057400"/>
            <a:ext cx="80010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Underwater CSI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1584360"/>
            <a:ext cx="8381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was the crim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A body was dumped in th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A person fell over the side of a boat and drowned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A boat was stol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y wasn’t the “killer” worried about leaving evidence behind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He knew the evidence couldn’t be traced back to him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He figured the water would wash away all the evid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True or Fals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gerprints are likely to remain on evidence found in the water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is the correct order for processing a water crime scen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Photograph the area, gather evidence, and record measureme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Record measurements, photograph the area, and gather eviden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Photograph the area, record measurements, and gather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057400" y="609480"/>
            <a:ext cx="6400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video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j0426068"/>
          <p:cNvPicPr/>
          <p:nvPr/>
        </p:nvPicPr>
        <p:blipFill>
          <a:blip r:embed="rId1"/>
          <a:stretch/>
        </p:blipFill>
        <p:spPr>
          <a:xfrm>
            <a:off x="762120" y="380880"/>
            <a:ext cx="1066680" cy="100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828800" y="106668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videos.howstuffworks.com/science-channel/14374-discoveries-this-week-underwater-detectives-video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5"/>
          <p:cNvSpPr/>
          <p:nvPr/>
        </p:nvSpPr>
        <p:spPr>
          <a:xfrm>
            <a:off x="457200" y="1584360"/>
            <a:ext cx="8381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was the crim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A body was dumped in th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A person fell over the side of a boat and drowned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A boat was stol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y wasn’t the “killer” worried about leaving evidence behind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He knew the evidence couldn’t be traced back to him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He figured the water would wash away all the evid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True or Fals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gerprints are likely to remain on evidence found in the water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is the correct order for processing a water crime scen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Photograph the area, gather evidence, and record measureme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Record measurements, photograph the area, and gather eviden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Photograph the area, record measurements, and gather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457200" y="1936800"/>
            <a:ext cx="411480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457200" y="3787920"/>
            <a:ext cx="647712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741240" y="4386240"/>
            <a:ext cx="68580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457200" y="6226200"/>
            <a:ext cx="754380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omm</cp:lastModifiedBy>
  <dcterms:modified xsi:type="dcterms:W3CDTF">2014-09-09T12:45:49Z</dcterms:modified>
  <cp:revision>162</cp:revision>
  <dc:subject/>
  <dc:title>Who am I?</dc:title>
</cp:coreProperties>
</file>