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E0AF5-C524-4903-926A-5F31E42DF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B0A94-C40D-485F-84A5-EBBAB56FF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5522E-451C-47C9-8078-2D166E62F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97E0F-3F48-479F-878B-68AD9B55F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C4CA4-577E-4282-970C-4737B1601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4A01D-96BE-437C-A473-4D4F34F8E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5F373-8830-4A28-891F-676B66654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70EC7-EB41-4726-8DF8-28FFF30AD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4FED2-6ADC-4912-8FCF-53924A7D5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14F89-DFF4-43E5-B584-EBDD712EB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2E12F-5C42-4DD2-AC98-8B5DA8494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2CD9F-85EE-4F40-A549-0E555B23A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0B2A3-AC7F-44EA-A6B6-0064021CC4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2"/>
          <p:cNvSpPr/>
          <p:nvPr/>
        </p:nvSpPr>
        <p:spPr>
          <a:xfrm>
            <a:off x="1219320" y="6477120"/>
            <a:ext cx="6400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. Trimpe 2008   http://sciencespot.net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15"/>
          <p:cNvSpPr/>
          <p:nvPr/>
        </p:nvSpPr>
        <p:spPr>
          <a:xfrm>
            <a:off x="838080" y="5257800"/>
            <a:ext cx="3886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ow Stuff Work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r. G Toxicology Vide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Group 22"/>
          <p:cNvGrpSpPr/>
          <p:nvPr/>
        </p:nvGrpSpPr>
        <p:grpSpPr>
          <a:xfrm>
            <a:off x="365040" y="304920"/>
            <a:ext cx="2606760" cy="1523880"/>
            <a:chOff x="365040" y="304920"/>
            <a:chExt cx="2606760" cy="1523880"/>
          </a:xfrm>
        </p:grpSpPr>
        <p:pic>
          <p:nvPicPr>
            <p:cNvPr id="44" name="Picture 23" descr="j0308091"/>
            <p:cNvPicPr/>
            <p:nvPr/>
          </p:nvPicPr>
          <p:blipFill>
            <a:blip r:embed="rId1"/>
            <a:stretch/>
          </p:blipFill>
          <p:spPr>
            <a:xfrm>
              <a:off x="538560" y="304920"/>
              <a:ext cx="1729080" cy="119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WordArt 24"/>
            <p:cNvSpPr txBox="1"/>
            <p:nvPr/>
          </p:nvSpPr>
          <p:spPr>
            <a:xfrm>
              <a:off x="365040" y="696240"/>
              <a:ext cx="2606760" cy="1132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5555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Daily CSI</a:t>
              </a:r>
              <a:endPara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46" name="WordArt 28"/>
          <p:cNvSpPr txBox="1"/>
          <p:nvPr/>
        </p:nvSpPr>
        <p:spPr>
          <a:xfrm>
            <a:off x="762120" y="2057400"/>
            <a:ext cx="8001000" cy="33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Toxicology 101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pic>
        <p:nvPicPr>
          <p:cNvPr id="47" name="Picture 29" descr="MCj02933920000[1]"/>
          <p:cNvPicPr/>
          <p:nvPr/>
        </p:nvPicPr>
        <p:blipFill>
          <a:blip r:embed="rId2"/>
          <a:stretch/>
        </p:blipFill>
        <p:spPr>
          <a:xfrm>
            <a:off x="6172200" y="4191120"/>
            <a:ext cx="1436760" cy="182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192240" y="1660680"/>
            <a:ext cx="876276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. When are samples taken for a toxicology screen?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.  At the crime scen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. At the morgu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. After the autops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. What body fluid do they test for alcohol, glucose, and other drugs?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. Blood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. Hair sample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. Sali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. What organs do they often taken fluid from for testing?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. Lung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. Bone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.  Eye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. What type of scientist is Dr. G?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. Forensic technicia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.  Medical Examiner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. Crime Scene Investiga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6"/>
          <p:cNvSpPr/>
          <p:nvPr/>
        </p:nvSpPr>
        <p:spPr>
          <a:xfrm>
            <a:off x="2133720" y="609480"/>
            <a:ext cx="64008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atch the video and then answer the ques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7" descr="j0426068"/>
          <p:cNvPicPr/>
          <p:nvPr/>
        </p:nvPicPr>
        <p:blipFill>
          <a:blip r:embed="rId1"/>
          <a:stretch/>
        </p:blipFill>
        <p:spPr>
          <a:xfrm>
            <a:off x="762120" y="380880"/>
            <a:ext cx="1066680" cy="100512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6"/>
          <p:cNvSpPr/>
          <p:nvPr/>
        </p:nvSpPr>
        <p:spPr>
          <a:xfrm>
            <a:off x="1981080" y="1066680"/>
            <a:ext cx="670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videos.howstuffworks.com/discovery-health/4883-dr-g-toxicology-video.ht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5"/>
          <p:cNvSpPr/>
          <p:nvPr/>
        </p:nvSpPr>
        <p:spPr>
          <a:xfrm>
            <a:off x="192240" y="1660680"/>
            <a:ext cx="876276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. When are samples taken for a toxicology screen?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.  At the crime scen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. At the morgu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. After the autops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. What body fluid do they test for alcohol, glucose, and other drugs?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. Blood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. Hair sample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. Sali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. What organs do they often taken fluid from for testing?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. Lung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. Bone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.  Eye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. What type of scientist is Dr. G?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. Forensic technicia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.  Medical Examiner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. Crime Scene Investiga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228600" y="609480"/>
            <a:ext cx="84582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answers are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2895480" y="2036880"/>
            <a:ext cx="2133720" cy="304560"/>
          </a:xfrm>
          <a:prstGeom prst="rect">
            <a:avLst/>
          </a:prstGeom>
          <a:noFill/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228600" y="3244680"/>
            <a:ext cx="1143000" cy="304920"/>
          </a:xfrm>
          <a:prstGeom prst="rect">
            <a:avLst/>
          </a:prstGeom>
          <a:noFill/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4"/>
          <p:cNvSpPr/>
          <p:nvPr/>
        </p:nvSpPr>
        <p:spPr>
          <a:xfrm>
            <a:off x="5638680" y="4473720"/>
            <a:ext cx="1067040" cy="304560"/>
          </a:xfrm>
          <a:prstGeom prst="rect">
            <a:avLst/>
          </a:prstGeom>
          <a:noFill/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2"/>
          <p:cNvSpPr/>
          <p:nvPr/>
        </p:nvSpPr>
        <p:spPr>
          <a:xfrm>
            <a:off x="2895480" y="5672160"/>
            <a:ext cx="2514600" cy="304920"/>
          </a:xfrm>
          <a:prstGeom prst="rect">
            <a:avLst/>
          </a:prstGeom>
          <a:noFill/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0T02:20:42Z</dcterms:created>
  <dc:creator>Tracy Trimpe</dc:creator>
  <dc:description/>
  <dc:language>en-US</dc:language>
  <cp:lastModifiedBy>Tracy Tomm</cp:lastModifiedBy>
  <dcterms:modified xsi:type="dcterms:W3CDTF">2014-09-09T12:45:15Z</dcterms:modified>
  <cp:revision>165</cp:revision>
  <dc:subject/>
  <dc:title>Who am I?</dc:title>
</cp:coreProperties>
</file>