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856-D55A-4A2D-ACDF-7E43860E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336-764E-48A9-8F15-C6CE70C8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ED4-00F3-4879-AF6C-7AD71C5B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EDC6-08B6-44B8-82EE-3B3C433D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BB7-9CE1-455D-82B5-4E0E6A17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11F-88AB-4B7F-8B5A-A03A52BD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025A-DA1D-4027-8E87-A689A1B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50A-2CCC-49E1-899A-3933528E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644-8556-4CA2-886B-EC034B1E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D11-3153-4D41-BDE2-5830C79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A1D-4409-428B-A38E-2AE6CD7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F2C-80CB-48B0-8892-7FBC3FDB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FA4E-2242-48B6-9DB5-5F2CC88AC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52578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Stuff Wor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G Toxicology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WordArt 28"/>
          <p:cNvSpPr txBox="1"/>
          <p:nvPr/>
        </p:nvSpPr>
        <p:spPr>
          <a:xfrm>
            <a:off x="762120" y="2057400"/>
            <a:ext cx="80010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oxicology 101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29" descr="MCj02933920000[1]"/>
          <p:cNvPicPr/>
          <p:nvPr/>
        </p:nvPicPr>
        <p:blipFill>
          <a:blip r:embed="rId2"/>
          <a:stretch/>
        </p:blipFill>
        <p:spPr>
          <a:xfrm>
            <a:off x="6172200" y="4191120"/>
            <a:ext cx="14367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2240" y="1660680"/>
            <a:ext cx="8762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n are samples taken for a toxicology scree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At the crime sce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t the morg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After the aut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body fluid do they test for alcohol, glucose, and other drugs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Bl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air samp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al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organs do they often taken fluid from for testin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un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Bon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Ey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of scientist is Dr. 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orensic technici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Medical Exami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rime Scene Invest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3372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981080" y="106668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videos.howstuffworks.com/discovery-health/4883-dr-g-toxicology-vide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5"/>
          <p:cNvSpPr/>
          <p:nvPr/>
        </p:nvSpPr>
        <p:spPr>
          <a:xfrm>
            <a:off x="192240" y="1660680"/>
            <a:ext cx="8762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n are samples taken for a toxicology scree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At the crime sce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t the morg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After the aut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body fluid do they test for alcohol, glucose, and other drugs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Bl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air samp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al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organs do they often taken fluid from for testin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un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Bon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Ey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of scientist is Dr. G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orensic technici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Medical Examin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rime Scene Invest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2895480" y="2036880"/>
            <a:ext cx="21337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28600" y="3244680"/>
            <a:ext cx="11430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5638680" y="4473720"/>
            <a:ext cx="106704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2895480" y="5672160"/>
            <a:ext cx="25146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5:15Z</dcterms:modified>
  <cp:revision>165</cp:revision>
  <dc:subject/>
  <dc:title>Who am I?</dc:title>
</cp:coreProperties>
</file>