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7F8-2962-4C76-B960-0C08E58F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CD2-9986-40BC-824D-367B5357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EF4-A2DD-4E07-A750-624931A3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054-1047-4018-A666-70AC9A65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3D4-16D9-4C40-91B1-61E21663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5738-5B67-4D92-9BCB-B47CF1D8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BAC-4826-4217-8197-050C4E19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BAA-C49C-4B27-A9DB-60E586A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D07-7C02-4638-BB6C-8DBC18C1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AF4-0258-48EB-A3B9-FEE514A8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6FD-7710-4D86-8F3F-76F90216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16C-71FD-4D8D-BC2E-0FD21EA2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1251-9068-4C7C-A803-968BFF8F6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0" y="64864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4876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C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Genes to Solve Cri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533520" y="1752480"/>
            <a:ext cx="8001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ower of Gen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31" descr="MCj02811360000[1]"/>
          <p:cNvPicPr/>
          <p:nvPr/>
        </p:nvPicPr>
        <p:blipFill>
          <a:blip r:embed="rId2"/>
          <a:stretch/>
        </p:blipFill>
        <p:spPr>
          <a:xfrm>
            <a:off x="5943600" y="4419720"/>
            <a:ext cx="22860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8436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did DNA start to be an important tool in forensic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188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196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980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type of evidence does the FBI consider its most powerful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inger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program is used to match DNA samples to possible contributor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OD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F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 C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it called when the program makes a match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Hot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Cold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ead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How many criminals have been convicted based on this softwar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3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9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,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01924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981080" y="1066680"/>
            <a:ext cx="647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videos.howstuffworks.com/tlc/29325-understanding-using-genes-to-help-solve-crimes-video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6"/>
          <p:cNvSpPr/>
          <p:nvPr/>
        </p:nvSpPr>
        <p:spPr>
          <a:xfrm>
            <a:off x="457200" y="158436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n did DNA start to be an important tool in forensic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188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1960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980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type of evidence does the FBI consider its most powerful too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inger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Bl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program is used to match DNA samples to possible contributor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OD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FI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NA C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is it called when the program makes a match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Hot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Cold H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Dead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How many criminals have been convicted based on this software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3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9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1,5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5943600" y="1947960"/>
            <a:ext cx="11430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5932440" y="2863800"/>
            <a:ext cx="10666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57200" y="3765600"/>
            <a:ext cx="1295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3048120" y="4691160"/>
            <a:ext cx="16002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5607000"/>
            <a:ext cx="9907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4:43Z</dcterms:modified>
  <cp:revision>168</cp:revision>
  <dc:subject/>
  <dc:title>Who am I?</dc:title>
</cp:coreProperties>
</file>