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85D-487A-4424-BDB0-DC569C29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3A3-DB2B-48B5-A478-A348287E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353-3F80-4E47-AA7F-EAEAB8C6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B87-AA67-4B16-BC04-4E659230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A5F-FCFF-4712-B381-1B03F896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BE0-1007-43B2-89E9-BBC1E890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CB2-554E-4C36-939D-39B94583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3EA-1020-42AD-9B47-59708BC3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B38-9B59-48BD-A3FD-42168B38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261A-702B-4DEA-BC03-7BF0302B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32F-84EE-4570-945C-521E123B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53F-47A0-4150-84A1-C720DB91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58F6-D1F9-45BD-9ADB-674FDEE71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0" y="64864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838080" y="48769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LC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Genes to Solve Cr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4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6" name="WordArt 28"/>
          <p:cNvSpPr txBox="1"/>
          <p:nvPr/>
        </p:nvSpPr>
        <p:spPr>
          <a:xfrm>
            <a:off x="533520" y="1752480"/>
            <a:ext cx="8001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ower of Gene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47" name="Picture 31" descr="MCj02811360000[1]"/>
          <p:cNvPicPr/>
          <p:nvPr/>
        </p:nvPicPr>
        <p:blipFill>
          <a:blip r:embed="rId2"/>
          <a:stretch/>
        </p:blipFill>
        <p:spPr>
          <a:xfrm>
            <a:off x="5943600" y="4419720"/>
            <a:ext cx="228600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58436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n did DNA start to be an important tool in forensic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1880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1960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1980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type of evidence does the FBI consider its most powerful tool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Fingerpri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Bloo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program is used to match DNA samples to possible contributor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OD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F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DNA Cod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is it called when the program makes a match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Hot H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Cold H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Dead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How many criminals have been convicted based on this softwar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3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9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1,5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019240" y="609480"/>
            <a:ext cx="640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/>
          <p:cNvPicPr/>
          <p:nvPr/>
        </p:nvPicPr>
        <p:blipFill>
          <a:blip r:embed="rId1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981080" y="1066680"/>
            <a:ext cx="647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videos.howstuffworks.com/tlc/29325-understanding-using-genes-to-help-solve-crimes-video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6"/>
          <p:cNvSpPr/>
          <p:nvPr/>
        </p:nvSpPr>
        <p:spPr>
          <a:xfrm>
            <a:off x="457200" y="158436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n did DNA start to be an important tool in forensic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1880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1960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1980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type of evidence does the FBI consider its most powerful tool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Fingerpri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Bloo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program is used to match DNA samples to possible contributor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OD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F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DNA Cod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is it called when the program makes a match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Hot H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Cold H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Dead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How many criminals have been convicted based on this softwar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3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9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1,5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5943600" y="1947960"/>
            <a:ext cx="114300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5932440" y="2863800"/>
            <a:ext cx="10666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457200" y="3765600"/>
            <a:ext cx="12952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3048120" y="4691160"/>
            <a:ext cx="160020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457200" y="5607000"/>
            <a:ext cx="99072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44:43Z</dcterms:modified>
  <cp:revision>168</cp:revision>
  <dc:subject/>
  <dc:title>Who am I?</dc:title>
</cp:coreProperties>
</file>