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2DF-8799-4133-AA51-1EB94A8C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0E7-FC1C-4782-868A-918D1864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726-BECD-4F15-A087-85E2B5C5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838-1F26-4E11-9564-D59895A8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91A-516B-4F52-9368-C6366024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EE8-6FE5-4F77-A528-259A0B25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071-EF76-472B-925C-FDCCA184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82D-F490-40E3-B395-CDA60631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2BD-FB30-4940-9129-6CBA2CAE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7E5-6C20-4ED7-A7E3-E8431371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AE1-032D-42EA-B3DA-B58CD3D8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120-5C50-428D-B136-94B9074C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651B-A558-4B86-942E-EAED822FC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9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83808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Tube Vide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nsic Entom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4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" name="WordArt 28"/>
          <p:cNvSpPr txBox="1"/>
          <p:nvPr/>
        </p:nvSpPr>
        <p:spPr>
          <a:xfrm>
            <a:off x="228600" y="2057400"/>
            <a:ext cx="8763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Maggots &amp; Murder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47" name="Picture 29" descr=""/>
          <p:cNvPicPr/>
          <p:nvPr/>
        </p:nvPicPr>
        <p:blipFill>
          <a:blip r:embed="rId2"/>
          <a:stretch/>
        </p:blipFill>
        <p:spPr>
          <a:xfrm>
            <a:off x="5715000" y="4343400"/>
            <a:ext cx="22795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04920" y="1584360"/>
            <a:ext cx="8534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type of scientist studies insects and their use in a cr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Forensic Anthropolog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Forensic Psych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Forensic Entom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was the “body” the students discovered in the car’s trunk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Shee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Pi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y do the maggots leave the corpse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To find more fo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To lay egg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To pu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True or False? Insects found on a body may show signs of drugs or poison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Complete this statement:  Believe the story _______ __________ 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81080" y="609480"/>
            <a:ext cx="640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/>
          <p:cNvPicPr/>
          <p:nvPr/>
        </p:nvPicPr>
        <p:blipFill>
          <a:blip r:embed="rId1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1905120" y="10666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youtube.com/watch?v=dntO3YANo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04920" y="1584360"/>
            <a:ext cx="8534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type of scientist studies insects and their use in a cr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Forensic Anthropolog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Forensic Psych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Forensic Entom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was the “body” the students discovered in the car’s trunk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Shee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Pi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y do the maggots leave the corpse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To find more fo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To lay egg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To pu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True or False? Insects found on a body may show signs of drugs or poison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Complete this statement:  Believe the story ____ __________ 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53880" y="2563920"/>
            <a:ext cx="284652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3048120" y="3487680"/>
            <a:ext cx="8380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5803920" y="4392720"/>
            <a:ext cx="158760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609480" y="5002200"/>
            <a:ext cx="5922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257800" y="5562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 EVIDENCE  T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43:50Z</dcterms:modified>
  <cp:revision>167</cp:revision>
  <dc:subject/>
  <dc:title>Who am I?</dc:title>
</cp:coreProperties>
</file>