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31E-8213-4A66-985F-63555DF9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56D-0ECF-4D7C-B06E-9F3001F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D66-6571-4BCA-8162-7D6734A3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221-9A04-4B7D-A5C0-E5FFD7DB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617-0C2B-45BB-B9DC-53089F06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268-8005-454C-AD93-C3C57CE9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3C4-18A0-4D6B-AFCC-93D46A6E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EC5-5402-4CC6-BB43-D67008F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CBF-93A9-442A-BA51-1C28958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D1A-8A36-458E-9B58-A407F8B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BFE-31E3-4EE7-BFCF-614324A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873-CA30-4783-BFAB-DF83AF3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CBF6-6350-4800-8BB1-284C4419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9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83808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Tube Vide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nsic Entom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4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6" name="WordArt 28"/>
          <p:cNvSpPr txBox="1"/>
          <p:nvPr/>
        </p:nvSpPr>
        <p:spPr>
          <a:xfrm>
            <a:off x="228600" y="2057400"/>
            <a:ext cx="87631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Maggots &amp; Murder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47" name="Picture 29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22795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04920" y="158436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ype of scientist studies insects and their use in a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Anthropolog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Forensic Psyc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orensic Entom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was the “body” the students discovered in the car’s trun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Shee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i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y do the maggots leave the corp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 find more f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o lay eg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To pu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 Insects found on a body may show signs of drugs or poison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Complete this statement:  Believe the story _______ __________ 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60948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/>
          <p:cNvPicPr/>
          <p:nvPr/>
        </p:nvPicPr>
        <p:blipFill>
          <a:blip r:embed="rId1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905120" y="10666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youtube.com/watch?v=dntO3YANo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04920" y="1584360"/>
            <a:ext cx="853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type of scientist studies insects and their use in a cr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Forensic Anthropolog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 Forensic Psych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Forensic Entom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was the “body” the students discovered in the car’s trunk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 Shee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Pi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u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y do the maggots leave the corpse?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To find more fo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o lay egg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To pu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rue or False? Insects found on a body may show signs of drugs or poison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Complete this statement:  Believe the story ____ __________ 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53880" y="2563920"/>
            <a:ext cx="28465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048120" y="3487680"/>
            <a:ext cx="8380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5803920" y="4392720"/>
            <a:ext cx="158760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609480" y="5002200"/>
            <a:ext cx="59220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2578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 EVIDENCE  T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3:50Z</dcterms:modified>
  <cp:revision>167</cp:revision>
  <dc:subject/>
  <dc:title>Who am I?</dc:title>
</cp:coreProperties>
</file>