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6CA-D1EA-429C-917C-E0758100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5A1-32C0-4D37-B547-A90D96BC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A7F-F4B8-42AF-9E71-A78DED9B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533-62DB-4375-AD25-773CB3FB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CAA-41BA-4389-ADDE-65DAFFB1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0F3-E183-4AC1-BC3A-2313A1C5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4D3-6821-4388-BC4A-6BA74DED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CBC-6277-4098-9D8E-DFECB151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9D2-0AF7-4B5D-99A6-3945744C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B89-15E1-4AEF-AB28-0CEECDB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DC3-E857-41E8-8693-2A11E9D2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476-94E2-47DB-843C-A5A8AE3C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7F93-85B8-4157-804D-C19C211EC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kcSkADVMIM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www.youtube.com/watch?v=FkcSkADVMI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609480" y="1905120"/>
            <a:ext cx="8001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Latent Prin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1066680" y="48769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glu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25" descr="MCj02869570000[1]"/>
          <p:cNvPicPr/>
          <p:nvPr/>
        </p:nvPicPr>
        <p:blipFill>
          <a:blip r:embed="rId2"/>
          <a:stretch/>
        </p:blipFill>
        <p:spPr>
          <a:xfrm>
            <a:off x="6019920" y="4343400"/>
            <a:ext cx="23940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52388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is the name of the activator used during the proces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ot Pri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ot Stuf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ot 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During fuming the super glue heats up and attaches to _____ _____ in the fingerprin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k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mino Acid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he evidence is placed in a super glue _____  to develop the prin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hamb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Tub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color is the fingerprint after it develop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R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Whi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Ye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45720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2438280" y="91440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FkcSkADVM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9"/>
          <p:cNvSpPr/>
          <p:nvPr/>
        </p:nvSpPr>
        <p:spPr>
          <a:xfrm>
            <a:off x="457200" y="152388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is the name of the activator used during the proces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ot Pri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ot Stuf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ot 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During fuming the super glue heats up and attaches to _____ _____ in the fingerprin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k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mino Acid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he evidence is placed in a super glue _____  to develop the prin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hamb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Tub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color is the fingerprint after it develop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R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Whi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Ye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5889600" y="1882800"/>
            <a:ext cx="151452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3189240" y="3406680"/>
            <a:ext cx="19162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57200" y="4648320"/>
            <a:ext cx="15238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124080" y="5834160"/>
            <a:ext cx="12193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0:32Z</dcterms:modified>
  <cp:revision>145</cp:revision>
  <dc:subject/>
  <dc:title>Who am I?</dc:title>
</cp:coreProperties>
</file>