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887-E81B-48AA-BAF3-31F064AD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7DA-55E0-483A-BED7-4D02D659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39C-5F0F-40F9-93EE-BC2097E6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417-EDAC-4FEC-86A9-CFA0D74E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ABA-5178-4BA5-B2D7-D340F6C3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275-27F5-4CE5-B6A3-AD062B4E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CDB-7458-46A2-B2DF-818967D5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7B8-4C42-4D08-B4D7-FBDC8C62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3B3-7BC5-4215-AC6D-8D4EBB6E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A3A-C577-4016-9325-2FB4ABC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94D-0A06-4811-A5C2-33EA8458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BFF-182C-445E-A20E-96E84E97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77EE-53CF-4086-B84D-656C1413A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kcSkADVMIM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www.youtube.com/watch?v=FkcSkADVMI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609480" y="1905120"/>
            <a:ext cx="8001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Latent Print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1066680" y="48769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me 36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glu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2"/>
          <p:cNvGrpSpPr/>
          <p:nvPr/>
        </p:nvGrpSpPr>
        <p:grpSpPr>
          <a:xfrm>
            <a:off x="365040" y="304920"/>
            <a:ext cx="2606760" cy="1523880"/>
            <a:chOff x="365040" y="304920"/>
            <a:chExt cx="2606760" cy="1523880"/>
          </a:xfrm>
        </p:grpSpPr>
        <p:pic>
          <p:nvPicPr>
            <p:cNvPr id="45" name="Picture 23" descr="j0308091"/>
            <p:cNvPicPr/>
            <p:nvPr/>
          </p:nvPicPr>
          <p:blipFill>
            <a:blip r:embed="rId1"/>
            <a:stretch/>
          </p:blipFill>
          <p:spPr>
            <a:xfrm>
              <a:off x="538560" y="304920"/>
              <a:ext cx="1729080" cy="11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24"/>
            <p:cNvSpPr txBox="1"/>
            <p:nvPr/>
          </p:nvSpPr>
          <p:spPr>
            <a:xfrm>
              <a:off x="365040" y="696240"/>
              <a:ext cx="2606760" cy="113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47" name="Picture 25" descr="MCj02869570000[1]"/>
          <p:cNvPicPr/>
          <p:nvPr/>
        </p:nvPicPr>
        <p:blipFill>
          <a:blip r:embed="rId2"/>
          <a:stretch/>
        </p:blipFill>
        <p:spPr>
          <a:xfrm>
            <a:off x="6019920" y="4343400"/>
            <a:ext cx="23940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52388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is the name of the activator used during the proces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ot Pri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ot Stuf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ot 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During fuming the super glue heats up and attaches to _____ _____ in the fingerprin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k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mino Acid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he evidence is placed in a super glue _____  to develop the prin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hamb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Tub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color is the fingerprint after it develop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R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Whi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Ye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981080" y="457200"/>
            <a:ext cx="640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video and then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j0426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80880"/>
            <a:ext cx="1066680" cy="1005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2438280" y="914400"/>
            <a:ext cx="556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FkcSkADVM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9"/>
          <p:cNvSpPr/>
          <p:nvPr/>
        </p:nvSpPr>
        <p:spPr>
          <a:xfrm>
            <a:off x="457200" y="152388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is the name of the activator used during the proces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Hot Print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Hot Stuf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Hot 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During fuming the super glue heats up and attaches to _____ _____ in the fingerprin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Sk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Amino Acid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he evidence is placed in a super glue _____  to develop the prin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Chamb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Tub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What color is the fingerprint after it develops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 R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. Whi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. Ye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5889600" y="1882800"/>
            <a:ext cx="151452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3189240" y="3406680"/>
            <a:ext cx="1916280" cy="30492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57200" y="4648320"/>
            <a:ext cx="152388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3124080" y="5834160"/>
            <a:ext cx="1219320" cy="3045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omm</cp:lastModifiedBy>
  <dcterms:modified xsi:type="dcterms:W3CDTF">2014-09-09T12:40:32Z</dcterms:modified>
  <cp:revision>145</cp:revision>
  <dc:subject/>
  <dc:title>Who am I?</dc:title>
</cp:coreProperties>
</file>