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30F-9683-4DA3-836C-3D7D2C0F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4C0-2B04-479D-BC4F-41FF0387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28A-0FD8-4CB1-B5FC-5406F8F6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35A-8063-44A3-86F4-29C55B19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414-A91F-4E68-AB8F-6D82F651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F33-D956-4400-9509-0A9ACA99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B67-AF54-4BDE-A227-B83A3FB0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FB8-38DA-4ABD-A0DE-0E1AD89A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910-2006-44FB-BA0C-C61D61CF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40B-17E8-4994-B7E9-351A937F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BD2-3C72-4466-B51A-DBCD0FF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E0C-E0B6-435E-9A0A-BFB21A68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8CED-0523-4382-B446-A1CC7089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838080" y="1676520"/>
            <a:ext cx="7772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Micro Evid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30" descr="MCj04108590000[1]"/>
          <p:cNvPicPr/>
          <p:nvPr/>
        </p:nvPicPr>
        <p:blipFill>
          <a:blip r:embed="rId2"/>
          <a:stretch/>
        </p:blipFill>
        <p:spPr>
          <a:xfrm>
            <a:off x="5791320" y="4572000"/>
            <a:ext cx="19047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was the metal fragment foun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On a shi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On a sho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On a pair of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canning electron microscope can ____________ a very small sample and determine what materials make it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the special microscope work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t creates an image with a beam of electron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t creates an image using lights and mirrors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It creates an image by taking a digital image and enlarging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metal was the fragmen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lumi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Ste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71880" y="380880"/>
            <a:ext cx="64008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81080" y="83808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Link: http://www.aetv.com/crime-360/video/forensic-tools-electron-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9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was the metal fragment foun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On a shi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On a sho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On a pair of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canning electron microscope can ____________ a very small sample and determine what it materials make it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the special microscope work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t creates an image using a beam of electron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t creates an image using lights and mirrors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It creates an image by taking a digital image and enlarging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metal was the fragmen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lumi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Ste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47840" y="1806480"/>
            <a:ext cx="16858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79520" y="3951360"/>
            <a:ext cx="533376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200400" y="5464080"/>
            <a:ext cx="16002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487692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agn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7:07Z</dcterms:modified>
  <cp:revision>165</cp:revision>
  <dc:subject/>
  <dc:title>Who am I?</dc:title>
</cp:coreProperties>
</file>