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51AE-67E1-4AC3-A1B0-14DFFAA99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DE53-F065-4F0D-BCD8-3F424F348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6CE8-9ED2-441D-B14B-E638D99A8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CE1F-4F79-423C-96E1-F64E34045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920F-0BCE-41C8-8D66-59D1EAAB1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990A-D02E-486A-B97E-E8A3BE1F5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F8FB-7A6A-406C-80ED-85DB32E22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4303-9007-4121-9293-8D3AB854B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CC8E-2B72-411C-A39A-E9EC740D4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B0F7-0E5B-46DC-985D-5A3EBD8A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CFDF-6782-4E2F-BFEF-E654AC87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2E5F-3EF5-4E8D-84DD-61A8E1D2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C786C-2A8A-4E62-B72D-E4F04C39DB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0"/>
          <p:cNvSpPr txBox="1"/>
          <p:nvPr/>
        </p:nvSpPr>
        <p:spPr>
          <a:xfrm>
            <a:off x="838080" y="1676520"/>
            <a:ext cx="777240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Micro Evidenc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5"/>
          <p:cNvSpPr/>
          <p:nvPr/>
        </p:nvSpPr>
        <p:spPr>
          <a:xfrm>
            <a:off x="838080" y="51814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ime 360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22"/>
          <p:cNvGrpSpPr/>
          <p:nvPr/>
        </p:nvGrpSpPr>
        <p:grpSpPr>
          <a:xfrm>
            <a:off x="365040" y="304920"/>
            <a:ext cx="2606760" cy="1523880"/>
            <a:chOff x="365040" y="304920"/>
            <a:chExt cx="2606760" cy="1523880"/>
          </a:xfrm>
        </p:grpSpPr>
        <p:pic>
          <p:nvPicPr>
            <p:cNvPr id="45" name="Picture 23" descr="j0308091"/>
            <p:cNvPicPr/>
            <p:nvPr/>
          </p:nvPicPr>
          <p:blipFill>
            <a:blip r:embed="rId1"/>
            <a:stretch/>
          </p:blipFill>
          <p:spPr>
            <a:xfrm>
              <a:off x="538560" y="304920"/>
              <a:ext cx="1729080" cy="119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WordArt 24"/>
            <p:cNvSpPr txBox="1"/>
            <p:nvPr/>
          </p:nvSpPr>
          <p:spPr>
            <a:xfrm>
              <a:off x="365040" y="696240"/>
              <a:ext cx="2606760" cy="113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pic>
        <p:nvPicPr>
          <p:cNvPr id="47" name="Picture 30" descr="MCj04108590000[1]"/>
          <p:cNvPicPr/>
          <p:nvPr/>
        </p:nvPicPr>
        <p:blipFill>
          <a:blip r:embed="rId2"/>
          <a:stretch/>
        </p:blipFill>
        <p:spPr>
          <a:xfrm>
            <a:off x="5791320" y="4572000"/>
            <a:ext cx="190476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457200" y="1447920"/>
            <a:ext cx="8381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Where was the metal fragment found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 On a shir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On a sho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On a pair of p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Fill in the missing information in this state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scanning electron microscope can ____________ a very small sample and determine what materials make it u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How does the special microscope work?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It creates an image with a beam of electrons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It creates an image using lights and mirrors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It creates an image by taking a digital image and enlarging i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What type of metal was the fragment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Lea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Aluminu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 Steel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2171880" y="380880"/>
            <a:ext cx="640080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atch the video and then answer th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7" descr="j0426068"/>
          <p:cNvPicPr/>
          <p:nvPr/>
        </p:nvPicPr>
        <p:blipFill>
          <a:blip r:embed="rId1"/>
          <a:stretch/>
        </p:blipFill>
        <p:spPr>
          <a:xfrm>
            <a:off x="762120" y="380880"/>
            <a:ext cx="1066680" cy="10051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1981080" y="838080"/>
            <a:ext cx="6782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deo Link: http://www.aetv.com/crime-360/video/forensic-tools-electron-microsc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9"/>
          <p:cNvSpPr/>
          <p:nvPr/>
        </p:nvSpPr>
        <p:spPr>
          <a:xfrm>
            <a:off x="457200" y="1447920"/>
            <a:ext cx="8381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Where was the metal fragment found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 On a shir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On a sho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On a pair of p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Fill in the missing information in this state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scanning electron microscope can ____________ a very small sample and determine what it materials make it u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How does the special microscope work?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It creates an image using a beam of electrons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It creates an image using lights and mirrors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It creates an image by taking a digital image and enlarging i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What type of metal was the fragment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Lea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Aluminu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 Steel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228600" y="609480"/>
            <a:ext cx="845820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447840" y="1806480"/>
            <a:ext cx="1685880" cy="30492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3"/>
          <p:cNvSpPr/>
          <p:nvPr/>
        </p:nvSpPr>
        <p:spPr>
          <a:xfrm>
            <a:off x="479520" y="3951360"/>
            <a:ext cx="5333760" cy="30456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3200400" y="5464080"/>
            <a:ext cx="1600200" cy="30492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6"/>
          <p:cNvSpPr/>
          <p:nvPr/>
        </p:nvSpPr>
        <p:spPr>
          <a:xfrm>
            <a:off x="4876920" y="26668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magnif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omm</cp:lastModifiedBy>
  <dcterms:modified xsi:type="dcterms:W3CDTF">2014-09-09T12:37:07Z</dcterms:modified>
  <cp:revision>165</cp:revision>
  <dc:subject/>
  <dc:title>Who am I?</dc:title>
</cp:coreProperties>
</file>