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99E-E0FE-44C6-A890-01C7B018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33D-5155-43FC-AB93-17C77B4F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47B-8202-41F5-9D96-FCFB4176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391-5BF8-4B36-9731-780F1874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8F9-F177-47EA-9E8E-4C5B326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3FD-3E66-4CD5-ACC9-0C2DB73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137-8CAC-407C-BC9D-8B7FF7B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CA2-BF43-4123-AE8D-F668F893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5F2-2456-41AD-9358-CFEBB39F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50A-6386-4418-9A9F-E0083CF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F56-1F50-4D23-A063-98993A9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1D0-139E-4C87-8244-0A82E82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E33A-502D-4860-BC6B-0FEBF825F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486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514600" y="5181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gitive Ap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609480" y="20574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rime Buster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35" descr="MCj0324780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623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160020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does the detective wor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ichmond, 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, 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hicago,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long as he been with the Fugitive Task Forc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2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4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oes he do as part of the Fugitive Task For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vestigates crimes committed by past crimina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Gets the warrants for the homicide detect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ocates and apprehends people who have war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ich of the following criminals would he not take into custod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urder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rsonis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arking Vio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ssume people will be cooperative when they are taken into cust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81080" y="106668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nk.aetv.com/services/link/bcpid1459183602/bclid1463262306/bctid1473689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9"/>
          <p:cNvSpPr/>
          <p:nvPr/>
        </p:nvSpPr>
        <p:spPr>
          <a:xfrm>
            <a:off x="304920" y="160020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does the detective wor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ichmond, 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, 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hicago,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long as he been with the Fugitive Task Forc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2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4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oes he do as part of the Fugitive Task For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vestigates crimes committed by past crimina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Gets the warrants for the homicide detect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ocates and apprehends people who have war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ich of the following criminals would he not take into custod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urder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rsonis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arking Vio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ssume people will be cooperative when they are taken into cust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04920" y="1959120"/>
            <a:ext cx="213336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48120" y="2862360"/>
            <a:ext cx="12952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04920" y="4419720"/>
            <a:ext cx="60958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800680" y="5311800"/>
            <a:ext cx="2438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1589040" y="5921280"/>
            <a:ext cx="6094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0:10Z</dcterms:modified>
  <cp:revision>178</cp:revision>
  <dc:subject/>
  <dc:title>Who am I?</dc:title>
</cp:coreProperties>
</file>