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2980-5126-46E6-A08E-928CF7F6B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3295-AB75-47AA-83EB-912B7B37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99A7-F3A4-459D-A6A6-8CC4F5BFB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9EB8-C75E-4E34-8B2B-6AB641BE5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51BA-7911-4023-B1DD-507E099D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6EEB-F42C-477B-9307-71D348D3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7519-AF2D-4974-A4BD-FA2257BF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9D43-61D1-4B92-8086-9E66F27B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89E2-7F23-44CD-B1EB-2F8CD494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B629-256C-4CE3-8BE3-0D87F652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EBF6-435C-4E83-90BA-2F10928C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C1B3-DB2D-4384-9BC6-6AAC6792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7653-7EDA-4316-A242-EEC51FF3F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0" y="648648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2514600" y="51814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ime 36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gitive Appreh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22"/>
          <p:cNvGrpSpPr/>
          <p:nvPr/>
        </p:nvGrpSpPr>
        <p:grpSpPr>
          <a:xfrm>
            <a:off x="365040" y="304920"/>
            <a:ext cx="2606760" cy="1523880"/>
            <a:chOff x="365040" y="304920"/>
            <a:chExt cx="2606760" cy="1523880"/>
          </a:xfrm>
        </p:grpSpPr>
        <p:pic>
          <p:nvPicPr>
            <p:cNvPr id="44" name="Picture 23" descr="j0308091"/>
            <p:cNvPicPr/>
            <p:nvPr/>
          </p:nvPicPr>
          <p:blipFill>
            <a:blip r:embed="rId1"/>
            <a:stretch/>
          </p:blipFill>
          <p:spPr>
            <a:xfrm>
              <a:off x="538560" y="304920"/>
              <a:ext cx="1729080" cy="119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WordArt 24"/>
            <p:cNvSpPr txBox="1"/>
            <p:nvPr/>
          </p:nvSpPr>
          <p:spPr>
            <a:xfrm>
              <a:off x="365040" y="696240"/>
              <a:ext cx="2606760" cy="113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6" name="WordArt 28"/>
          <p:cNvSpPr txBox="1"/>
          <p:nvPr/>
        </p:nvSpPr>
        <p:spPr>
          <a:xfrm>
            <a:off x="609480" y="2057400"/>
            <a:ext cx="80010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rime Buster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47" name="Picture 35" descr="MCj0324780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6232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04920" y="1600200"/>
            <a:ext cx="8534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ere does the detective work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Richmond, V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New York, N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Chicago, 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How long as he been with the Fugitive Task Forc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2 yea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4 yea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6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at does he do as part of the Fugitive Task For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Investigates crimes committed by past criminal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Gets the warrants for the homicide detectiv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Locates and apprehends people who have warr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 Which of the following criminals would he not take into custody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Murdere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Arsonist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Parking Viol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 True or Fals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y assume people will be cooperative when they are taken into cust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981080" y="609480"/>
            <a:ext cx="6400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ch the video and then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7" descr="j0426068"/>
          <p:cNvPicPr/>
          <p:nvPr/>
        </p:nvPicPr>
        <p:blipFill>
          <a:blip r:embed="rId1"/>
          <a:stretch/>
        </p:blipFill>
        <p:spPr>
          <a:xfrm>
            <a:off x="762120" y="380880"/>
            <a:ext cx="1066680" cy="10051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981080" y="1066680"/>
            <a:ext cx="632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link.aetv.com/services/link/bcpid1459183602/bclid1463262306/bctid14736891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9"/>
          <p:cNvSpPr/>
          <p:nvPr/>
        </p:nvSpPr>
        <p:spPr>
          <a:xfrm>
            <a:off x="304920" y="1600200"/>
            <a:ext cx="8534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ere does the detective work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Richmond, V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New York, N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Chicago, 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How long as he been with the Fugitive Task Forc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2 yea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4 yea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6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at does he do as part of the Fugitive Task For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Investigates crimes committed by past criminal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Gets the warrants for the homicide detectiv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Locates and apprehends people who have warr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 Which of the following criminals would he not take into custody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Murdere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Arsonist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Parking Viol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 True or Fals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y assume people will be cooperative when they are taken into cust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609480"/>
            <a:ext cx="8458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04920" y="1959120"/>
            <a:ext cx="213336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3048120" y="2862360"/>
            <a:ext cx="129528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304920" y="4419720"/>
            <a:ext cx="609588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2"/>
          <p:cNvSpPr/>
          <p:nvPr/>
        </p:nvSpPr>
        <p:spPr>
          <a:xfrm>
            <a:off x="5800680" y="5311800"/>
            <a:ext cx="243828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0"/>
          <p:cNvSpPr/>
          <p:nvPr/>
        </p:nvSpPr>
        <p:spPr>
          <a:xfrm>
            <a:off x="1589040" y="5921280"/>
            <a:ext cx="60948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omm</cp:lastModifiedBy>
  <dcterms:modified xsi:type="dcterms:W3CDTF">2014-09-09T12:40:10Z</dcterms:modified>
  <cp:revision>178</cp:revision>
  <dc:subject/>
  <dc:title>Who am I?</dc:title>
</cp:coreProperties>
</file>