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76A-5AC4-411B-8733-F70ADB46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793E-F244-4185-8091-DF119D47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2E9-CF10-4645-8C95-7D1A8860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4AC-EB62-4449-B4BD-79C661DF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B59-9787-4A73-82CB-A5D3EC70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1CC-D279-4AAC-BF92-8CE52566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C62-4DF2-4404-851E-444E57AA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D243-A107-46F5-8B49-63EE15E6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963-C920-43F6-BF32-2B88AE8E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D08-C5CB-4251-80A6-769CD189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CB3-43FE-4DDB-8966-2B6F638F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EE9-974D-4220-B351-796A3FE7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FAE2-9C78-48E5-9DAD-2FD2323A7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838080" y="1676520"/>
            <a:ext cx="77724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55a747"/>
                </a:solidFill>
                <a:latin typeface="Arial Black"/>
              </a:rPr>
              <a:t>Buggy Evid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55a747"/>
              </a:solidFill>
              <a:latin typeface="Arial Black"/>
              <a:ea typeface="Arial Black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838080" y="51814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me 36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nsic Entomolog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5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7" name="Picture 31" descr="MCj01973850000[1]"/>
          <p:cNvPicPr/>
          <p:nvPr/>
        </p:nvPicPr>
        <p:blipFill>
          <a:blip r:embed="rId2"/>
          <a:stretch/>
        </p:blipFill>
        <p:spPr>
          <a:xfrm>
            <a:off x="5715000" y="4419720"/>
            <a:ext cx="269244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447920"/>
            <a:ext cx="8381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does a forensic entomologist study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Wor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Insec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Sp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Fill in the missing information in this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entomologist needs to know the type of fly ____________ and the _________ of the larva in order to help the investigat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can a blowfly help an investigation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Helps investigators determine the time of dea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Helps investigators determine how a person was kill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Helps investigators determine what the person ate at his/her last m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stage of a fly’s life cycle are maggot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Adul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Pup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Larv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In what kingdom are maggots classifi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Pla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Anima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Fun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209680" y="457200"/>
            <a:ext cx="6400800" cy="459720"/>
          </a:xfrm>
          <a:prstGeom prst="rect">
            <a:avLst/>
          </a:prstGeom>
          <a:solidFill>
            <a:srgbClr val="55a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/>
          <p:cNvPicPr/>
          <p:nvPr/>
        </p:nvPicPr>
        <p:blipFill>
          <a:blip r:embed="rId1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1752480" y="914400"/>
            <a:ext cx="73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Link: http://www.aetv.com/crime-360/video/forensic-tools-forensic-entom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4"/>
          <p:cNvSpPr/>
          <p:nvPr/>
        </p:nvSpPr>
        <p:spPr>
          <a:xfrm>
            <a:off x="457200" y="1447920"/>
            <a:ext cx="83818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What does a forensic entomologist study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  Worm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. Insec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. Sp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Fill in the missing information in this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entomologist needs to know the type of fly ____________ and the _________ of the larva in order to help the investigat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can a blowfly help an investigation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Helps investigators determine the time of dea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Helps investigators determine how a person was kill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Helps investigators determine what the person ate at his/her last m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stage of a fly’s life cycle are maggot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Adul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Pup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Larv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In what kingdom are maggots classifi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Pla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Anima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Fun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55a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124080" y="1752480"/>
            <a:ext cx="13050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57200" y="3884760"/>
            <a:ext cx="563868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5943600" y="5397480"/>
            <a:ext cx="121932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3200400" y="6334200"/>
            <a:ext cx="144792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8"/>
          <p:cNvGrpSpPr/>
          <p:nvPr/>
        </p:nvGrpSpPr>
        <p:grpSpPr>
          <a:xfrm>
            <a:off x="533520" y="2577960"/>
            <a:ext cx="6269040" cy="703800"/>
            <a:chOff x="533520" y="2577960"/>
            <a:chExt cx="6269040" cy="703800"/>
          </a:xfrm>
        </p:grpSpPr>
        <p:sp>
          <p:nvSpPr>
            <p:cNvPr id="59" name="Text Box 26"/>
            <p:cNvSpPr/>
            <p:nvPr/>
          </p:nvSpPr>
          <p:spPr>
            <a:xfrm>
              <a:off x="5735520" y="2577960"/>
              <a:ext cx="106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7"/>
            <p:cNvSpPr/>
            <p:nvPr/>
          </p:nvSpPr>
          <p:spPr>
            <a:xfrm>
              <a:off x="533520" y="28828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37:49Z</dcterms:modified>
  <cp:revision>167</cp:revision>
  <dc:subject/>
  <dc:title>Who am I?</dc:title>
</cp:coreProperties>
</file>