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34F5-BDD2-48C7-9A43-A93CA63C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77F-A25B-4A8A-9F2E-A8C72EBC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4172-593C-462D-A5A2-81329030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F449-743F-4B5B-AC2F-7DB3DEF5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9D0E-F831-43B0-B577-4C837B79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187A-1F15-48B4-872E-C12105B9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219E-869B-4C8F-9388-0A20155F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1A5-2833-4B31-A9C5-1A57E58A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1A4B-7DDC-456C-A276-C2226FBF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5F52-551B-4963-AB7A-23DF3815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B48F-2ABA-4644-B6C7-DB094EDD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E9DE-35C8-40C2-B178-59FC5AB2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310A-9239-4EC6-9B42-B7EDC2809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838080" y="1676520"/>
            <a:ext cx="777240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55a747"/>
                </a:solidFill>
                <a:latin typeface="Arial Black"/>
              </a:rPr>
              <a:t>Buggy Evid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55a747"/>
              </a:solidFill>
              <a:latin typeface="Arial Black"/>
              <a:ea typeface="Arial Black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838080" y="51814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ime 36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nsic Entomolog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2"/>
          <p:cNvGrpSpPr/>
          <p:nvPr/>
        </p:nvGrpSpPr>
        <p:grpSpPr>
          <a:xfrm>
            <a:off x="365040" y="304920"/>
            <a:ext cx="2606760" cy="1523880"/>
            <a:chOff x="365040" y="304920"/>
            <a:chExt cx="2606760" cy="1523880"/>
          </a:xfrm>
        </p:grpSpPr>
        <p:pic>
          <p:nvPicPr>
            <p:cNvPr id="45" name="Picture 23" descr="j0308091"/>
            <p:cNvPicPr/>
            <p:nvPr/>
          </p:nvPicPr>
          <p:blipFill>
            <a:blip r:embed="rId1"/>
            <a:stretch/>
          </p:blipFill>
          <p:spPr>
            <a:xfrm>
              <a:off x="538560" y="304920"/>
              <a:ext cx="1729080" cy="11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WordArt 24"/>
            <p:cNvSpPr txBox="1"/>
            <p:nvPr/>
          </p:nvSpPr>
          <p:spPr>
            <a:xfrm>
              <a:off x="365040" y="696240"/>
              <a:ext cx="2606760" cy="113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47" name="Picture 31" descr="MCj01973850000[1]"/>
          <p:cNvPicPr/>
          <p:nvPr/>
        </p:nvPicPr>
        <p:blipFill>
          <a:blip r:embed="rId2"/>
          <a:stretch/>
        </p:blipFill>
        <p:spPr>
          <a:xfrm>
            <a:off x="5715000" y="4419720"/>
            <a:ext cx="269244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1447920"/>
            <a:ext cx="8381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at does a forensic entomologist study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Worm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Insec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Sp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Fill in the missing information in this stat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entomologist needs to know the type of fly ____________ and the _________ of the larva in order to help the investigato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How can a blowfly help an investigation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Helps investigators determine the time of deat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Helps investigators determine how a person was kill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Helps investigators determine what the person ate at his/her last m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stage of a fly’s life cycle are maggots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Adul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Pup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 Larv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In what kingdom are maggots classifi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Plan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 Animal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Fun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209680" y="457200"/>
            <a:ext cx="6400800" cy="459720"/>
          </a:xfrm>
          <a:prstGeom prst="rect">
            <a:avLst/>
          </a:prstGeom>
          <a:solidFill>
            <a:srgbClr val="55a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 the video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j0426068"/>
          <p:cNvPicPr/>
          <p:nvPr/>
        </p:nvPicPr>
        <p:blipFill>
          <a:blip r:embed="rId1"/>
          <a:stretch/>
        </p:blipFill>
        <p:spPr>
          <a:xfrm>
            <a:off x="762120" y="380880"/>
            <a:ext cx="1066680" cy="1005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1752480" y="914400"/>
            <a:ext cx="731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Link: http://www.aetv.com/crime-360/video/forensic-tools-forensic-entom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4"/>
          <p:cNvSpPr/>
          <p:nvPr/>
        </p:nvSpPr>
        <p:spPr>
          <a:xfrm>
            <a:off x="457200" y="1447920"/>
            <a:ext cx="83818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What does a forensic entomologist study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.  Worm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. Insect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. Sp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Fill in the missing information in this stat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entomologist needs to know the type of fly ____________ and the _________ of the larva in order to help the investigato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How can a blowfly help an investigation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Helps investigators determine the time of deat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Helps investigators determine how a person was kill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Helps investigators determine what the person ate at his/her last m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stage of a fly’s life cycle are maggots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Adul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Pup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 Larv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In what kingdom are maggots classifi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Plan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 Animal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Fun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609480"/>
            <a:ext cx="8458200" cy="459720"/>
          </a:xfrm>
          <a:prstGeom prst="rect">
            <a:avLst/>
          </a:prstGeom>
          <a:solidFill>
            <a:srgbClr val="55a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124080" y="1752480"/>
            <a:ext cx="130500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457200" y="3884760"/>
            <a:ext cx="563868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5943600" y="5397480"/>
            <a:ext cx="121932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5"/>
          <p:cNvSpPr/>
          <p:nvPr/>
        </p:nvSpPr>
        <p:spPr>
          <a:xfrm>
            <a:off x="3200400" y="6334200"/>
            <a:ext cx="144792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28"/>
          <p:cNvGrpSpPr/>
          <p:nvPr/>
        </p:nvGrpSpPr>
        <p:grpSpPr>
          <a:xfrm>
            <a:off x="533520" y="2577960"/>
            <a:ext cx="6269040" cy="703800"/>
            <a:chOff x="533520" y="2577960"/>
            <a:chExt cx="6269040" cy="703800"/>
          </a:xfrm>
        </p:grpSpPr>
        <p:sp>
          <p:nvSpPr>
            <p:cNvPr id="59" name="Text Box 26"/>
            <p:cNvSpPr/>
            <p:nvPr/>
          </p:nvSpPr>
          <p:spPr>
            <a:xfrm>
              <a:off x="5735520" y="2577960"/>
              <a:ext cx="106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Times New Roman"/>
                </a:rPr>
                <a:t>spe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27"/>
            <p:cNvSpPr/>
            <p:nvPr/>
          </p:nvSpPr>
          <p:spPr>
            <a:xfrm>
              <a:off x="533520" y="28828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Times New Roman"/>
                </a:rPr>
                <a:t>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omm</cp:lastModifiedBy>
  <dcterms:modified xsi:type="dcterms:W3CDTF">2014-09-09T12:37:49Z</dcterms:modified>
  <cp:revision>167</cp:revision>
  <dc:subject/>
  <dc:title>Who am I?</dc:title>
</cp:coreProperties>
</file>