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4D5-2A42-433A-B7F2-804768D1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48D-4F80-41FF-B85D-44DFCCAD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E76-B1B0-4628-9816-40108BDD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4C3F-2B98-4C5D-8B0E-80375910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722-7071-421E-9052-5B8BBC7F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4A03-24F5-4D36-8087-57FBBF08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4EA-2AEE-4AB2-A6FE-2B57A172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42B8-E88B-4DA2-B47C-EDF7DF79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A7A-28AE-41C1-A19F-1B3A0468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2085-E113-4461-BCCB-6E93CC4D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5BC-CD28-4B69-9ACF-C3D71905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3C37-2053-490B-8E48-B795A198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DF8C-89AA-4E85-AD63-5A6E0F632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838080" y="51814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me 36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ug Tes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4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46" name="Picture 34" descr="MCj02809900000[1]"/>
          <p:cNvPicPr/>
          <p:nvPr/>
        </p:nvPicPr>
        <p:blipFill>
          <a:blip r:embed="rId2"/>
          <a:stretch/>
        </p:blipFill>
        <p:spPr>
          <a:xfrm>
            <a:off x="5867280" y="4267080"/>
            <a:ext cx="2138400" cy="2297160"/>
          </a:xfrm>
          <a:prstGeom prst="rect">
            <a:avLst/>
          </a:prstGeom>
          <a:ln w="0">
            <a:noFill/>
          </a:ln>
        </p:spPr>
      </p:pic>
      <p:sp>
        <p:nvSpPr>
          <p:cNvPr id="47" name="WordArt 10"/>
          <p:cNvSpPr txBox="1"/>
          <p:nvPr/>
        </p:nvSpPr>
        <p:spPr>
          <a:xfrm>
            <a:off x="717480" y="1905120"/>
            <a:ext cx="77724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What is it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166068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kit do investigators use to identify a type of drug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Mark I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Nark I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Dark 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True or Fals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stigators taste a drug sample to identify what it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color would morphine or heroin turn after the reaction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Blac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Brow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Pur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How long did the investigator have to agitate the sampl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12 second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20 second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60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What type of drug was the test sample?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Morphine or Hero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B. Ecstas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C. Amphetamine or Me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981080" y="609480"/>
            <a:ext cx="64008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/>
          <p:cNvPicPr/>
          <p:nvPr/>
        </p:nvPicPr>
        <p:blipFill>
          <a:blip r:embed="rId1"/>
          <a:stretch/>
        </p:blipFill>
        <p:spPr>
          <a:xfrm>
            <a:off x="685800" y="380880"/>
            <a:ext cx="106668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1981080" y="106668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Link: http://www.aetv.com/crime-360/video/drug-reagent-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4"/>
          <p:cNvSpPr/>
          <p:nvPr/>
        </p:nvSpPr>
        <p:spPr>
          <a:xfrm>
            <a:off x="457200" y="166068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kit do investigators use to identify a type of drug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Mark I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Nark I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Dark 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True or Fals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stigators taste a drug sample to identify what it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color would morphine or heroin turn after the reaction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Blac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Brow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Pur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How long did the investigator have to agitate the sampl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12 second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20 second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60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What type of drug was the test sample?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Morphine or Hero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B. Ecstas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C. Amphetamine or Me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200400" y="2014560"/>
            <a:ext cx="13716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5921280" y="3854520"/>
            <a:ext cx="129564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490680" y="4778280"/>
            <a:ext cx="16002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2"/>
          <p:cNvSpPr/>
          <p:nvPr/>
        </p:nvSpPr>
        <p:spPr>
          <a:xfrm>
            <a:off x="1676520" y="2633760"/>
            <a:ext cx="62064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3"/>
          <p:cNvSpPr/>
          <p:nvPr/>
        </p:nvSpPr>
        <p:spPr>
          <a:xfrm>
            <a:off x="5334120" y="5683320"/>
            <a:ext cx="304776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omm</cp:lastModifiedBy>
  <dcterms:modified xsi:type="dcterms:W3CDTF">2014-09-09T12:36:32Z</dcterms:modified>
  <cp:revision>174</cp:revision>
  <dc:subject/>
  <dc:title>Who am I?</dc:title>
</cp:coreProperties>
</file>