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6E6-F539-4327-91BF-B0A12D3D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EDE-2837-434A-B5EB-38EEA5F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98E-C1A9-4091-B535-08E0933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7F1-5985-4998-8FEF-86C2D367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CE4-C754-45B4-8B4D-263B033F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A8F-0A7E-4516-BB0C-B9A8DBC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0BA-F8EA-45BD-ABE3-5C719958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AF3-C1A3-438D-B443-D06745AB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F49-6900-4022-BC5B-DCEA1590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69CA-0B18-419C-B4BA-56A4F2D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1FB-C13D-4C78-8EB8-117DB38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C47-6C5E-4BB6-A885-FEEEC91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E0F-6168-4271-A353-8440670A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ug Test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6" name="Picture 34" descr="MCj02809900000[1]"/>
          <p:cNvPicPr/>
          <p:nvPr/>
        </p:nvPicPr>
        <p:blipFill>
          <a:blip r:embed="rId2"/>
          <a:stretch/>
        </p:blipFill>
        <p:spPr>
          <a:xfrm>
            <a:off x="5867280" y="4267080"/>
            <a:ext cx="2138400" cy="2297160"/>
          </a:xfrm>
          <a:prstGeom prst="rect">
            <a:avLst/>
          </a:prstGeom>
          <a:ln w="0">
            <a:noFill/>
          </a:ln>
        </p:spPr>
      </p:pic>
      <p:sp>
        <p:nvSpPr>
          <p:cNvPr id="47" name="WordArt 10"/>
          <p:cNvSpPr txBox="1"/>
          <p:nvPr/>
        </p:nvSpPr>
        <p:spPr>
          <a:xfrm>
            <a:off x="717480" y="19051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66068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kit do investigators use to identify a type of dru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ark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ors taste a drug sample to identify what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color would morphine or heroin turn after the reacti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r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How long did the investigator have to agitate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2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0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type of drug was the test sampl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orphine or Hero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Ecstas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C. Amphetamine or M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10666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drug-reagent-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4"/>
          <p:cNvSpPr/>
          <p:nvPr/>
        </p:nvSpPr>
        <p:spPr>
          <a:xfrm>
            <a:off x="457200" y="166068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kit do investigators use to identify a type of dru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ark I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ark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igators taste a drug sample to identify what it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color would morphine or heroin turn after the reactio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r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ur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How long did the investigator have to agitate the sampl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12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20 secon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type of drug was the test sample?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orphine or Hero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B. Ecstas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C. Amphetamine or Me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200400" y="2014560"/>
            <a:ext cx="13716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921280" y="3854520"/>
            <a:ext cx="12956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90680" y="4778280"/>
            <a:ext cx="1600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2"/>
          <p:cNvSpPr/>
          <p:nvPr/>
        </p:nvSpPr>
        <p:spPr>
          <a:xfrm>
            <a:off x="1676520" y="2633760"/>
            <a:ext cx="6206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5334120" y="5683320"/>
            <a:ext cx="30477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6:32Z</dcterms:modified>
  <cp:revision>174</cp:revision>
  <dc:subject/>
  <dc:title>Who am I?</dc:title>
</cp:coreProperties>
</file>