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466-8E8A-4F1C-8D01-26F66D33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5D4-2759-437F-91AC-153692C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6B9-D946-4AF1-B5D4-88178554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F1F-18D9-4569-AF2F-C437A53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B04-60A9-44D0-8CCB-CA4940EC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214-3D9D-4EA5-926D-82728F4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49B-EC38-45FB-96DA-73E273C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6E0-284E-42B0-BB81-1E4D5DC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910-0C10-4B7C-BF7F-B77A9060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B75-E969-4087-BFDB-0298CCA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B0A-A2A6-4BA5-835F-93C3300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850-A453-4E9A-8F83-5E09F85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ACE-37CC-4CE4-A477-0845B13F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tv.com/crime-360/video/dna-testing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aetv.com/crime-360/video/dna-testin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DNA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A Extra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3" descr="MCj03797930000[1]"/>
          <p:cNvPicPr/>
          <p:nvPr/>
        </p:nvPicPr>
        <p:blipFill>
          <a:blip r:embed="rId2"/>
          <a:stretch/>
        </p:blipFill>
        <p:spPr>
          <a:xfrm>
            <a:off x="6019920" y="4495680"/>
            <a:ext cx="1778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esting for DNA, investigators must use all of the sample to make sure they get an accurat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re do we find DNA in a cel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ll membr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Vacuo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long does the sample sit in the heat bloc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 ho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nstrument is used to spin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ntrifug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Extraction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Wash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ich layer would we find DNA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p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Middle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Bottom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533520"/>
            <a:ext cx="64008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rcRect l="9027" t="45373" r="80558" b="32410"/>
          <a:stretch/>
        </p:blipFill>
        <p:spPr>
          <a:xfrm>
            <a:off x="7467480" y="5334120"/>
            <a:ext cx="80964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981080" y="98748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Video Link: http://www.aetv.com/crime-360/video/dna-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"/>
          <p:cNvSpPr/>
          <p:nvPr/>
        </p:nvSpPr>
        <p:spPr>
          <a:xfrm>
            <a:off x="45720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esting for DNA, investigators must use all of the sample to make sure they get an accurat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re do we find DNA in a cel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ll membr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Vacuo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long does the sample sit in the heat bloc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 ho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nstrument is used to spin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ntrifu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Extraction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Wash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ich layer would we find DNA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p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Middle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Bottom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654200" y="1481040"/>
            <a:ext cx="631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3200400" y="3951360"/>
            <a:ext cx="12952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57200" y="4854600"/>
            <a:ext cx="1752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1" descr=""/>
          <p:cNvPicPr/>
          <p:nvPr/>
        </p:nvPicPr>
        <p:blipFill>
          <a:blip r:embed="rId1"/>
          <a:srcRect l="9027" t="45373" r="80558" b="32410"/>
          <a:stretch/>
        </p:blipFill>
        <p:spPr>
          <a:xfrm>
            <a:off x="7467480" y="5334120"/>
            <a:ext cx="80964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2"/>
          <p:cNvSpPr/>
          <p:nvPr/>
        </p:nvSpPr>
        <p:spPr>
          <a:xfrm>
            <a:off x="5986440" y="301464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457200" y="579132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5:39Z</dcterms:modified>
  <cp:revision>172</cp:revision>
  <dc:subject/>
  <dc:title>Who am I?</dc:title>
</cp:coreProperties>
</file>