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AD5-3AF6-47F3-872C-16821198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386E-5F69-47A1-8345-43D38448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540E-62C2-4CD8-954F-63163BDC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84AE-98D7-4737-A23B-549B5988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BBD9-2EC5-4344-A913-FFD65EAA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1408-9AC3-4C14-8CD5-58B3AE94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A6E-E30B-4869-B3BA-169F2029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1A0-389E-43F7-B297-2C73598D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743-CE0E-4FD1-BDD5-D22E003E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A7B5-DAC3-4331-896D-28A33ED4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B0C-276D-48E3-B273-F0C6F686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4F9-D560-48C1-BE1C-CEFA14BE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A613-E160-484E-A37A-575433DEE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etv.com/crime-360/video/dna-testing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hyperlink" Target="http://www.aetv.com/crime-360/video/dna-testing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838080" y="1905120"/>
            <a:ext cx="77724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 Black"/>
              </a:rPr>
              <a:t>DNA Evid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 Black"/>
              <a:ea typeface="Arial Black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838080" y="51814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me 36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NA Extrac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5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47" name="Picture 33" descr="MCj03797930000[1]"/>
          <p:cNvPicPr/>
          <p:nvPr/>
        </p:nvPicPr>
        <p:blipFill>
          <a:blip r:embed="rId2"/>
          <a:stretch/>
        </p:blipFill>
        <p:spPr>
          <a:xfrm>
            <a:off x="6019920" y="4495680"/>
            <a:ext cx="1778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1447920"/>
            <a:ext cx="8381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True or Fals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n testing for DNA, investigators must use all of the sample to make sure they get an accurate te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ere do we find DNA in a cell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Cell membra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Vacuol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How long does the sample sit in the heat block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1 hou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2 hou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3 ho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instrument is used to spin the sampl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Centrifug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Extraction Tub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Washing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In which layer would we find DNA?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Top lay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B. Middle lay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Bottom lay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81080" y="533520"/>
            <a:ext cx="640080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"/>
          <p:cNvPicPr/>
          <p:nvPr/>
        </p:nvPicPr>
        <p:blipFill>
          <a:blip r:embed="rId3"/>
          <a:srcRect l="9027" t="45373" r="80558" b="32410"/>
          <a:stretch/>
        </p:blipFill>
        <p:spPr>
          <a:xfrm>
            <a:off x="7467480" y="5334120"/>
            <a:ext cx="809640" cy="1295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981080" y="987480"/>
            <a:ext cx="632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Video Link: http://www.aetv.com/crime-360/video/dna-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0"/>
          <p:cNvSpPr/>
          <p:nvPr/>
        </p:nvSpPr>
        <p:spPr>
          <a:xfrm>
            <a:off x="457200" y="1447920"/>
            <a:ext cx="8381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True or Fals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n testing for DNA, investigators must use all of the sample to make sure they get an accurate te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ere do we find DNA in a cell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Cell membra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Vacuol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How long does the sample sit in the heat block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1 hou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2 hou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3 ho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instrument is used to spin the sampl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Centrifug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Extraction Tub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Washing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In which layer would we find DNA?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Top lay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B. Middle lay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Bottom lay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654200" y="1481040"/>
            <a:ext cx="6318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3200400" y="3951360"/>
            <a:ext cx="129528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457200" y="4854600"/>
            <a:ext cx="17524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1" descr=""/>
          <p:cNvPicPr/>
          <p:nvPr/>
        </p:nvPicPr>
        <p:blipFill>
          <a:blip r:embed="rId1"/>
          <a:srcRect l="9027" t="45373" r="80558" b="32410"/>
          <a:stretch/>
        </p:blipFill>
        <p:spPr>
          <a:xfrm>
            <a:off x="7467480" y="5334120"/>
            <a:ext cx="809640" cy="1295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2"/>
          <p:cNvSpPr/>
          <p:nvPr/>
        </p:nvSpPr>
        <p:spPr>
          <a:xfrm>
            <a:off x="5986440" y="3014640"/>
            <a:ext cx="12952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3"/>
          <p:cNvSpPr/>
          <p:nvPr/>
        </p:nvSpPr>
        <p:spPr>
          <a:xfrm>
            <a:off x="457200" y="5791320"/>
            <a:ext cx="160020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35:39Z</dcterms:modified>
  <cp:revision>172</cp:revision>
  <dc:subject/>
  <dc:title>Who am I?</dc:title>
</cp:coreProperties>
</file>