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B43-99B3-40FB-96D9-C28609CE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DAF1-BBE5-4E5C-8F49-FDAB1089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52E6-0C0A-4C11-964B-7F05308A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0C4-B0C6-47C7-B478-073509ED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520-23B2-4973-B275-9C2BA3B3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D64-50C1-4117-BDEB-C61C1947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F6EF-272B-48E8-BDEE-CE36045A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B79-6D5E-4154-B932-A6DA3AA4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435B-E470-4212-B6D1-EFE5BFFE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7990-400A-4F5A-9390-653776CB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062-F43B-4DAB-80F3-B10D94D7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3D1-8FEE-4A2A-8C4C-A62FEAE8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60CE-396C-4AC3-A1B7-ABD82DBF0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0zIqJEG83g" TargetMode="External"/><Relationship Id="rId2" Type="http://schemas.openxmlformats.org/officeDocument/2006/relationships/hyperlink" Target="http://www.youtube.com/watch?v=L0zIqJEG83g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762120" y="1600200"/>
            <a:ext cx="80010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D Crime Scen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4114800" y="5257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me 360 - 3D Imag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2"/>
          <p:cNvGrpSpPr/>
          <p:nvPr/>
        </p:nvGrpSpPr>
        <p:grpSpPr>
          <a:xfrm>
            <a:off x="365040" y="304920"/>
            <a:ext cx="2606760" cy="1523880"/>
            <a:chOff x="365040" y="304920"/>
            <a:chExt cx="2606760" cy="1523880"/>
          </a:xfrm>
        </p:grpSpPr>
        <p:pic>
          <p:nvPicPr>
            <p:cNvPr id="45" name="Picture 23" descr="j0308091"/>
            <p:cNvPicPr/>
            <p:nvPr/>
          </p:nvPicPr>
          <p:blipFill>
            <a:blip r:embed="rId1"/>
            <a:stretch/>
          </p:blipFill>
          <p:spPr>
            <a:xfrm>
              <a:off x="538560" y="304920"/>
              <a:ext cx="172908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WordArt 24"/>
            <p:cNvSpPr txBox="1"/>
            <p:nvPr/>
          </p:nvSpPr>
          <p:spPr>
            <a:xfrm>
              <a:off x="365040" y="696240"/>
              <a:ext cx="2606760" cy="113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47" name="Picture 27" descr="MCj02869430000[1]"/>
          <p:cNvPicPr/>
          <p:nvPr/>
        </p:nvPicPr>
        <p:blipFill>
          <a:blip r:embed="rId2"/>
          <a:stretch/>
        </p:blipFill>
        <p:spPr>
          <a:xfrm>
            <a:off x="1295280" y="4343400"/>
            <a:ext cx="185436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1523880"/>
            <a:ext cx="8381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tool is used to help investigators create a 3D crime scen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Digital Camer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Las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Cell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is the name of the tool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Leic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Lasertr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Light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Complete this statement:  The crime scene is critical, as it is wher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Your investigation start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your evidence can be found.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Your lead begins and end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Complete this statement: If you compare the scanner to a photo, you can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See more details of the crime scene with the photograph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See more details of the crime scene with the 3D image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See the same details in either one,  but the photograph is better in cou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981080" y="380880"/>
            <a:ext cx="6400800" cy="784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video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deo Link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youtube.com/watch?v=L0zIqJEG83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j042606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380880"/>
            <a:ext cx="106668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0"/>
          <p:cNvSpPr/>
          <p:nvPr/>
        </p:nvSpPr>
        <p:spPr>
          <a:xfrm>
            <a:off x="457200" y="1523880"/>
            <a:ext cx="8381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tool is used to help investigators create a 3D crime scen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Digital Camer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Las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Cell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is the name of the tool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Leic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Lasertr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Light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Complete this statement:  The crime scene is critical, as it is wher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Your investigation end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All your evidence can be found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Your lead begins and end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Complete this statement: If you compare the scanner to a photo, you can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See more details of the crime scene with the photograph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See more details of the crime scene with the 3D image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See the same details in either one,  but the photograph is better in cou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3200400" y="1871640"/>
            <a:ext cx="106668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457200" y="2819520"/>
            <a:ext cx="114300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457200" y="4300560"/>
            <a:ext cx="342900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457200" y="5845320"/>
            <a:ext cx="632448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</cp:lastModifiedBy>
  <dcterms:modified xsi:type="dcterms:W3CDTF">2010-09-20T14:46:03Z</dcterms:modified>
  <cp:revision>150</cp:revision>
  <dc:subject/>
  <dc:title>Who am I?</dc:title>
</cp:coreProperties>
</file>