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EC2-B365-43CE-A8CB-D8B12270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072-7CA6-4148-BF43-F67CDE8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D29-8B74-4FDB-AF73-77E37AB8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351-7164-4B98-B09A-9C0698DD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DD4-FA59-4B13-A1FF-8BD41C5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208-308B-4B6B-8591-5C45DF08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1C7-036E-48F0-98B4-1781453E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B31-8F7D-43DC-BBBF-F38AA18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48B-F606-4AEC-85EF-DBFEFBA0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6C9-60F8-4F27-8D0B-1FA258CB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359-287D-47C1-AB72-CBE3D25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F63-6B8E-4686-AC6C-D04423B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3E88-CAE1-4B5C-B742-0EDF80AE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0zIqJEG83g" TargetMode="External"/><Relationship Id="rId2" Type="http://schemas.openxmlformats.org/officeDocument/2006/relationships/hyperlink" Target="http://www.youtube.com/watch?v=L0zIqJEG83g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62120" y="16002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D Crime Sce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11480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 - 3D Im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7" descr="MCj02869430000[1]"/>
          <p:cNvPicPr/>
          <p:nvPr/>
        </p:nvPicPr>
        <p:blipFill>
          <a:blip r:embed="rId2"/>
          <a:stretch/>
        </p:blipFill>
        <p:spPr>
          <a:xfrm>
            <a:off x="1295280" y="4343400"/>
            <a:ext cx="18543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238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ool is used to help investigators create a 3D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Digital Came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name of the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ight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mplete this statement:  The crime scene is critical, as it is whe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Your investigation star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your evidence can be found.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our lead begins and end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Complete this statement: If you compare the scanner to a photo, you ca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ee more details of the crime scene with the photograph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See more details of the crime scene with the 3D im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ee the same details in either one,  but the photograph is better in cou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380880"/>
            <a:ext cx="6400800" cy="78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 Link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L0zIqJEG8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0"/>
          <p:cNvSpPr/>
          <p:nvPr/>
        </p:nvSpPr>
        <p:spPr>
          <a:xfrm>
            <a:off x="457200" y="15238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ool is used to help investigators create a 3D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Digital Came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name of the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ight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mplete this statement:  The crime scene is critical, as it is whe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Your investigation end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l your evidence can be foun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our lead begins and end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Complete this statement: If you compare the scanner to a photo, you ca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ee more details of the crime scene with the photograph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See more details of the crime scene with the 3D im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ee the same details in either one,  but the photograph is better in cou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200400" y="1871640"/>
            <a:ext cx="10666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57200" y="2819520"/>
            <a:ext cx="11430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4300560"/>
            <a:ext cx="3429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57200" y="5845320"/>
            <a:ext cx="6324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20T14:46:03Z</dcterms:modified>
  <cp:revision>150</cp:revision>
  <dc:subject/>
  <dc:title>Who am I?</dc:title>
</cp:coreProperties>
</file>