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1F9-B244-44A1-9739-608E92C1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D74D-C29B-4951-A4BE-25C0D93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107-E324-44E6-8176-91F94506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467-B392-433B-AAD3-6309F93E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F3ED-2DC6-4327-9BCF-D27CD599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683-1474-459D-A133-8ED4571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B6E-593D-4BB5-908D-42DC64AB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027-E006-4CC0-969B-EB858A18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B8F-A6E9-4592-B0E1-145BCFD1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7A2-BA8E-4F49-8BF4-B3A24DC8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F64-3A51-424F-B957-3925D4DF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82F-DAC3-4D2E-BC8C-139968E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9AA6-266E-427C-B898-547BC9A6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fGc4PaLB-ek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s://www.youtube.com/watch?v=fGc4PaLB-ek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609480" y="1905120"/>
            <a:ext cx="8001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Effec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erson Coop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I Effect – Hairs &amp; Fi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27" descr="MCj02869430000[1]"/>
          <p:cNvPicPr/>
          <p:nvPr/>
        </p:nvPicPr>
        <p:blipFill>
          <a:blip r:embed="rId2"/>
          <a:stretch/>
        </p:blipFill>
        <p:spPr>
          <a:xfrm>
            <a:off x="6095880" y="4267080"/>
            <a:ext cx="20512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8436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crime lab did the reporter visi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Chicag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as Ve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How many hairs did the investigator use to help in getting a conviction in the kidnapping/homicide ca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crime labs tend to be darker to make it easier to see evidenc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easy to match any hair found at a crime scene to a specific per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must be present in a hair sample to test for nuclear DNA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haf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Cutic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45720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81080" y="9144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eo Link: https://www.youtube.com/watch?v=fGc4PaLB-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1"/>
          <p:cNvSpPr/>
          <p:nvPr/>
        </p:nvSpPr>
        <p:spPr>
          <a:xfrm>
            <a:off x="457200" y="158436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crime lab did the reporter visi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Chicag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as Ve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How many hairs did the investigator use to help in getting a conviction in the kidnapping/homicide ca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rue or Fal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 crime labs tend to be darker to make it easier to see evidence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easy to match any hair found at a crime scene to a specific per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must be present in a hair sample to test for nuclear DNA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haf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Cutic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200400" y="194796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57200" y="3166920"/>
            <a:ext cx="6094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1676520" y="3787920"/>
            <a:ext cx="6094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676520" y="4691160"/>
            <a:ext cx="6094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954760" y="5900760"/>
            <a:ext cx="9907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9:00Z</dcterms:modified>
  <cp:revision>156</cp:revision>
  <dc:subject/>
  <dc:title>Who am I?</dc:title>
</cp:coreProperties>
</file>