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388-6EA0-4113-80A8-6D52B3DB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B38-F103-451D-AB08-7C126B32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9AE-C795-48DB-B343-EE6D1E84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0EE-DE59-4612-99EB-5121CE09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F81-504E-4C32-AB51-C53179CE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8D1-65A4-4FDE-A4D2-9D6E857F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F62-809C-47F6-A549-145FA7F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092-B1CA-45D1-A27D-F5511CF6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321-F71F-4C0E-A59C-76C61563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9A5-71FC-4B94-9E72-2C9F89B2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874-3790-47C4-B503-0DAE6579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AAE-D07A-4208-BC05-28BB0F04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A4DF-E420-435E-9D29-6B186E105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Gc4PaLB-ek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s://www.youtube.com/watch?v=fGc4PaLB-ek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609480" y="1905120"/>
            <a:ext cx="8001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SI Effec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3808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erson Coop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I Effect – Hairs &amp; Fi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27" descr="MCj02869430000[1]"/>
          <p:cNvPicPr/>
          <p:nvPr/>
        </p:nvPicPr>
        <p:blipFill>
          <a:blip r:embed="rId2"/>
          <a:stretch/>
        </p:blipFill>
        <p:spPr>
          <a:xfrm>
            <a:off x="6095880" y="4267080"/>
            <a:ext cx="20512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58436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crime lab did the reporter visi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Chicag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ew Y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as Ve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How many hairs did the investigator use to help in getting a conviction in the kidnapping/homicide ca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rue or Fal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 crime labs tend to be darker to make it easier to see evidenc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easy to match any hair found at a crime scene to a specific per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must be present in a hair sample to test for nuclear DNA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haf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Cutic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45720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981080" y="9144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deo Link: https://www.youtube.com/watch?v=fGc4PaLB-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1"/>
          <p:cNvSpPr/>
          <p:nvPr/>
        </p:nvSpPr>
        <p:spPr>
          <a:xfrm>
            <a:off x="457200" y="158436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crime lab did the reporter visi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Chicag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ew Y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as Ve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How many hairs did the investigator use to help in getting a conviction in the kidnapping/homicide ca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rue or Fal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 crime labs tend to be darker to make it easier to see evidenc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easy to match any hair found at a crime scene to a specific per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must be present in a hair sample to test for nuclear DNA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haf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Cutic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200400" y="1947960"/>
            <a:ext cx="16002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57200" y="3166920"/>
            <a:ext cx="6094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1676520" y="3787920"/>
            <a:ext cx="6094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676520" y="4691160"/>
            <a:ext cx="6094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954760" y="5900760"/>
            <a:ext cx="99072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39:00Z</dcterms:modified>
  <cp:revision>156</cp:revision>
  <dc:subject/>
  <dc:title>Who am I?</dc:title>
</cp:coreProperties>
</file>