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8E49-37BA-4F13-B3FA-C16CC4FF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CCF-11E2-4388-8EA8-0B747AEB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C6F-981C-4024-96E8-C51173AE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D73-8319-4A52-9E5B-BDEA6E8F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453-3F8D-45E3-B814-62283355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162-8E6F-4C55-857A-3E8163A6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B89-9062-49DF-B8B0-72CA468F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C3B-3FFD-47BE-8AB0-25674CE2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F92-EBA5-4F14-A370-1CAB473E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736-CBE8-4593-BCA6-5E6E6771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64E-3A80-4672-B61C-E0CF2F75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5AC-28DA-4A87-83BD-2AA4C978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E9AC-329A-4E64-B793-17AF370B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102200" y="6248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77004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What are the three basic types of fingerpri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animal has fingerprints similar to hum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are the four blood ty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do we call the study of gunshots and bull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system used by the FBI compiles DNA of known criminals all over the US and can be used to match DNA samples found at a crime sce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What system is a database of fingerpr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770040"/>
            <a:ext cx="8458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What are the three basic types of fingerpri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animal has fingerprints similar to hum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are the four blood ty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do we call the study of gunshots and bull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system used by the FBI compiles DNA of known criminals all over the US and can be used to match DNA samples found at a crime sce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What system is a database of fingerpr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049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rch, loop,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amp; who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15238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Ko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286000"/>
            <a:ext cx="19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, B, AB,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29718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all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85800" y="486720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DIS (Combined DNA Index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5880" y="5715000"/>
            <a:ext cx="78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FIS (Automated Fingerprint Identification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5T15:18:49Z</dcterms:modified>
  <cp:revision>69</cp:revision>
  <dc:subject/>
  <dc:title>Slide 1</dc:title>
</cp:coreProperties>
</file>