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FD2-8A25-4495-BE2F-5F66FE7E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36C-730B-4765-AE9A-72FADB46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E5D-3C89-4BBE-A791-BEBA9BC9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514-DFBB-4D69-BCD6-F9309D7E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F72-CE49-45CD-934E-E20FB9A2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3C5-FAFC-4414-8CB6-6E2B3847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B8A-1D3E-48A0-A507-157A73E3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1D5-6308-45CC-9847-4BC3BD45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3C9-9640-4037-B0B9-A6001B0A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75E-6837-4C38-BAE7-79EB9112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3D5-28CB-4FFA-9D33-8E9E5394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A56-E20E-45BD-929D-621AE55E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2201-CF88-4C51-94F1-B05FF1270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102200" y="6248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77004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What are the three basic types of fingerpri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animal has fingerprints similar to hum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are the four blood ty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do we call the study of gunshots and bull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system used by the FBI compiles DNA of known criminals all over the US and can be used to match DNA samples found at a crime sce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What system is a database of fingerpr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770040"/>
            <a:ext cx="8458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What are the three basic types of fingerpri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animal has fingerprints similar to hum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are the four blood ty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do we call the study of gunshots and bull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system used by the FBI compiles DNA of known criminals all over the US and can be used to match DNA samples found at a crime sce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What system is a database of fingerpr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049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rch, loop,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amp; who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15238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o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286000"/>
            <a:ext cx="19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, B, AB,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29718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all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5800" y="486720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DIS (Combined DNA Index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5880" y="5715000"/>
            <a:ext cx="78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FIS (Automated Fingerprint Identification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5T15:18:49Z</dcterms:modified>
  <cp:revision>69</cp:revision>
  <dc:subject/>
  <dc:title>Slide 1</dc:title>
</cp:coreProperties>
</file>