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2A4-135C-4E83-8A4B-F5E3B18E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40E-1B05-462F-9AB6-81C4F2B6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BFD-F1F2-4733-B14B-F7859AA9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1B1-4A78-4CFB-B062-7875F43B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DBE-4C41-4541-ACC0-5AD043AD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9BF-508F-4FDC-AE78-48B4753C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2BF-28D1-43AA-AA3D-3005F48A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429-9144-4B18-A50B-B44D441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24F-E3AF-4ABF-8094-BB1AED49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730-2AA9-4635-ADC4-48FADA3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1CC-37CC-4D09-A2EA-8102C2C8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E7A-FE8E-45F0-9A55-6C36CA8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C542-94C6-4CA5-8A83-09A7764E5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6248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3683160"/>
            <a:ext cx="87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en identifying victims of disasters, such as plane and train crashes, approximately 93 percent of identifications are made on the basis of which characterist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keletal characteristic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DN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ental rec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Personal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440" y="548640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en two objects touch, there is a transfer of material from one to the other. This trace evidence is the basis of forensic science. What is the idea known 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Murphy's Law of Conta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Locard's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Forensic L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ertillon's Principle of Trans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440" y="68580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DNA (deoxyribonucleic acid) is the genetic material in our cells which controls heredity. Which of the following statements is not tr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NA can show a person's gender but not their age or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Only identical twins will have identical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Red blood cells are the best source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2489040"/>
            <a:ext cx="875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ir Alec Jeffreys developed the first DNA profiling test. Its first use to solve a crime occurred in England. In which year did this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967           B. 1974            C. 1986              D.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5120" y="2489040"/>
            <a:ext cx="875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ir Alec Jeffreys developed the first DNA profiling test. Its first use to solve a crime occurred in England. In which year did this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967           B. 1974            C. 1986              D.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3683160"/>
            <a:ext cx="87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When identifying victims of disasters, such as plane and train crashes, approximately 93 percent of identifications are made on the basis of which characterist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Skeletal characteristic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DNA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Dental rec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Personal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440" y="548640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en two objects touch, there is a transfer of material from one to the other. This trace evidence is the basis of forensic science. What is the idea known 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Murphy's Law of Conta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Locard's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Forensic La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ertillon's Principle of Trans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68580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DNA (deoxyribonucleic acid) is the genetic material in our cells which controls heredity. Which of the following statements is not tr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NA can show a person's gender but not their age or 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Only identical twins will have identical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Red blood cells are the best source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14200" y="1905120"/>
            <a:ext cx="49672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124080"/>
            <a:ext cx="106668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952880"/>
            <a:ext cx="198108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6095880"/>
            <a:ext cx="228600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5:13:32Z</dcterms:modified>
  <cp:revision>53</cp:revision>
  <dc:subject/>
  <dc:title>Slide 1</dc:title>
</cp:coreProperties>
</file>