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143-CF6B-4F27-A328-9D473432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ED5-2C4C-49CF-A1BB-6D65BA2F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4AC-C267-4062-9540-C2F95B56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B77-ABD9-4BAC-AC90-7E2358F6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510-6711-4A06-A8AC-972B908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F2B-4122-4FC2-8F3D-8174E5CB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571-7C46-45E6-B0A8-C441DB08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079-8A8C-4FDC-8BCB-90AE0312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CDC-85EF-415B-8094-3C385383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0F3-ACFE-4924-835C-F4BE0D1D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A8E-A22D-400C-A0B9-56BF1426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6BB-60F7-449E-8C0A-90D1D35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6AE-E431-4A6F-BC97-82BA13F7A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102200" y="6248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3683160"/>
            <a:ext cx="87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en identifying victims of disasters, such as plane and train crashes, approximately 93 percent of identifications are made on the basis of which characterist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keletal characteristic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DNA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ental rec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Personal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440" y="548640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en two objects touch, there is a transfer of material from one to the other. This trace evidence is the basis of forensic science. What is the idea known 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Murphy's Law of Conta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Locard's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Forensic L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ertillon's Principle of Trans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440" y="68580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DNA (deoxyribonucleic acid) is the genetic material in our cells which controls heredity. Which of the following statements is not tr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NA can show a person's gender but not their age or 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Only identical twins will have identical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Red blood cells are the best source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2489040"/>
            <a:ext cx="875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Sir Alec Jeffreys developed the first DNA profiling test. Its first use to solve a crime occurred in England. In which year did this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967           B. 1974            C. 1986              D.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5120" y="2489040"/>
            <a:ext cx="875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Sir Alec Jeffreys developed the first DNA profiling test. Its first use to solve a crime occurred in England. In which year did this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967           B. 1974            C. 1986              D.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3683160"/>
            <a:ext cx="87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en identifying victims of disasters, such as plane and train crashes, approximately 93 percent of identifications are made on the basis of which characterist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keletal characteristic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DNA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ental rec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Personal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440" y="548640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en two objects touch, there is a transfer of material from one to the other. This trace evidence is the basis of forensic science. What is the idea known 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Murphy's Law of Conta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Locard's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Forensic L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ertillon's Principle of Trans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68580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DNA (deoxyribonucleic acid) is the genetic material in our cells which controls heredity. Which of the following statements is not tr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NA can show a person's gender but not their age or 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Only identical twins will have identical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Red blood cells are the best source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214200" y="1905120"/>
            <a:ext cx="496728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3124080"/>
            <a:ext cx="106668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952880"/>
            <a:ext cx="198108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6095880"/>
            <a:ext cx="228600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5T15:13:32Z</dcterms:modified>
  <cp:revision>53</cp:revision>
  <dc:subject/>
  <dc:title>Slide 1</dc:title>
</cp:coreProperties>
</file>