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04B-E97A-4300-BB75-8A177BC2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1DD-3C7E-4847-AA61-190D978E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D40-6982-4963-8594-0B0A85BB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7FA-78D6-4FDE-9AB3-CBA8AD8C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60E-5B37-4D18-9B77-7F5B54CC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607-D68E-423A-80A7-8629EF98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CDE-4017-4532-B22F-9E45FE7C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1B1-76E7-4FCC-97F3-346DF350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CBB-10CF-475F-9796-25E4DD15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554-C06B-472E-A506-416A56C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A72-E177-4343-811B-4812E5FD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C79-3E8A-4F64-9E6F-2409A198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4D19-A765-4166-B18E-23AAA55BE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04920"/>
            <a:ext cx="2819160" cy="2057040"/>
            <a:chOff x="304920" y="304920"/>
            <a:chExt cx="2819160" cy="2057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492480" y="304920"/>
              <a:ext cx="1869840" cy="16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 txBox="1"/>
            <p:nvPr/>
          </p:nvSpPr>
          <p:spPr>
            <a:xfrm>
              <a:off x="304920" y="833040"/>
              <a:ext cx="2819160" cy="15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ily CSI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4102200" y="62485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de Forensic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080" y="64771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6 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248000" cy="440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25146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rivia Challenge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76212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we call the study of gunshots and bull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Ammunitions       B. Ballistics        C. Projectiles        D.  B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15892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What does the abbreviation GSR refer to in forensic sc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cene Re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Gold Spectrum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Gunshot Resid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General Surve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Ques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60640"/>
            <a:ext cx="84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rue or False: A fingerprint brush uses lion's mane hai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95288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What is involuntary manslaught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illing someone on 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Killing somebody cause you feel lik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illing someone because you're jeal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Killing someone without meaning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762120"/>
            <a:ext cx="861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we call the study of gunshots and bull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Ammunitions       B. Ballistics        C. Projectiles        D.  B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1430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What does the abbreviation GSR refer to in forensic sc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cene Re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Gold Spectrum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Gunshot Resid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General Surve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2286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nsw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828960"/>
            <a:ext cx="84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True or False: A fingerprint brush uses lion's mane hair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90536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What is involuntary manslaughter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illing someone on purp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Killing somebody cause you feel lik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illing someone because you're jeal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Killing someone without meaning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111320"/>
            <a:ext cx="1841400" cy="336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781360"/>
            <a:ext cx="2413080" cy="336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175440"/>
            <a:ext cx="4572000" cy="3366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87600" y="3809880"/>
            <a:ext cx="7099200" cy="1724760"/>
            <a:chOff x="1587600" y="3809880"/>
            <a:chExt cx="7099200" cy="1724760"/>
          </a:xfrm>
        </p:grpSpPr>
        <p:sp>
          <p:nvSpPr>
            <p:cNvPr id="63" name=""/>
            <p:cNvSpPr/>
            <p:nvPr/>
          </p:nvSpPr>
          <p:spPr>
            <a:xfrm>
              <a:off x="1587600" y="3809880"/>
              <a:ext cx="863640" cy="42552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57800" y="4343400"/>
              <a:ext cx="34290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st fingerprint brushes use camel’s hair to brush off dust and find prints.  Many today are also made from artificial fiber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17:04:17Z</dcterms:created>
  <dc:creator>Tracy Trimpe</dc:creator>
  <dc:description/>
  <dc:language>en-US</dc:language>
  <cp:lastModifiedBy>Tracy Trimpe</cp:lastModifiedBy>
  <dcterms:modified xsi:type="dcterms:W3CDTF">2008-11-25T15:07:35Z</dcterms:modified>
  <cp:revision>49</cp:revision>
  <dc:subject/>
  <dc:title>Slide 1</dc:title>
</cp:coreProperties>
</file>