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ABD-A6A8-4252-9A0A-61CB9684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FFF-0ABB-4CB6-A828-152AAADF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2D2-1FB1-4E38-8882-594F3F2E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716-80C5-4B41-8DBE-69582AD3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102-ADB9-4A09-9C8B-DBCC2676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251-8E45-4D02-9A0C-765688D8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12A-D17B-422D-B78D-23049A59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647-E810-489A-9281-B85B3892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622-EFAE-4FF4-AAC8-FB08CD3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533-166D-4B51-A8E7-F3D13D3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E91-DB7F-465E-A35E-33D5E876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29C-07FD-4332-91C7-F969117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D94E-EB70-478D-AF1D-05412C2C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21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the study of gunshots and bull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Ammunitions       B. Ballistics        C. Projectiles        D.  B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5892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at does the abbreviation GSR refer to in forensic sc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cene 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Gold Spectrum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Gunshot Resid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General Surve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60640"/>
            <a:ext cx="84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rue or False: A fingerprint brush uses lion's mane hai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95288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What is involuntary manslaught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illing someone on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Killing somebody cause you feel lik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illing someone because you're jeal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Killing someone without meaning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7621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the study of gunshots and bull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Ammunitions       B. Ballistics        C. Projectiles        D.  B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1430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at does the abbreviation GSR refer to in forensic sc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cene 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Gold Spectrum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Gunshot Resid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General Surve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28960"/>
            <a:ext cx="84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rue or False: A fingerprint brush uses lion's mane hai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9053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What is involuntary manslaught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illing someone on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Killing somebody cause you feel lik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illing someone because you're jeal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Killing someone without meaning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111320"/>
            <a:ext cx="1841400" cy="336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781360"/>
            <a:ext cx="2413080" cy="336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175440"/>
            <a:ext cx="4572000" cy="336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87600" y="3809880"/>
            <a:ext cx="7099200" cy="1724760"/>
            <a:chOff x="1587600" y="3809880"/>
            <a:chExt cx="7099200" cy="1724760"/>
          </a:xfrm>
        </p:grpSpPr>
        <p:sp>
          <p:nvSpPr>
            <p:cNvPr id="63" name=""/>
            <p:cNvSpPr/>
            <p:nvPr/>
          </p:nvSpPr>
          <p:spPr>
            <a:xfrm>
              <a:off x="1587600" y="3809880"/>
              <a:ext cx="863640" cy="42552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57800" y="4343400"/>
              <a:ext cx="34290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st fingerprint brushes use camel’s hair to brush off dust and find prints.  Many today are also made from artificial fi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07:35Z</dcterms:modified>
  <cp:revision>49</cp:revision>
  <dc:subject/>
  <dc:title>Slide 1</dc:title>
</cp:coreProperties>
</file>