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924-3091-4291-8F56-A8642983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6E6-8CA9-4758-8FAE-F042FFED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169-2D9C-472D-8C24-63314246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2F8-2AAA-4975-BE53-A104D867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570-7337-449B-BB3D-515DA61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AA3-4A53-443B-AB16-4703708B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65B-2109-4687-9F6A-F458D24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0CC-56B3-4E8E-884A-91D9E0D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038-4DBE-469F-AF8C-F117274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AFD-8404-48C4-9E59-B070BC0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4C4-8EAB-4B2B-84DE-1266115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ED4-A52E-47DB-9D99-9DC3DD3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D4BB-BE94-4217-ADBB-CB1EDBF4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2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does the term "forensic" mean in Lat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efore the forum    B. Beside the forum    C. After the forum   D.  For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862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In forensics, criminologists use AFIS to search an online database for fingerprint matches. What does AFIS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utomated Foot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ctual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utomated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uto Fingerprint Intellige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06224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re are two types of wounds people can get when they are shot. What are the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Entry wound, Exit w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Valid wound, Invalid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ig wound, Small w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nter wound, Exit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13560"/>
            <a:ext cx="8458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is chemical can be used to detect blood, even if it's been wiped from a su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Ninhydrin     B. Luminol      C.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. Cyan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762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does the term "forensic" mean in Lat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efore the forum    B. Beside the forum    C. After the forum   D.  For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62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In forensics, criminologists use AFIS to search an online database for fingerprint matches. What does AFIS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utomated Foot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ctual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utomated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uto Fingerprint Intellige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6224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re are two types of wounds people can get when they are shot. What are the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Entry wound, Exit w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Valid wound, Invalid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ig wound, Small w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nter wound, Exit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13560"/>
            <a:ext cx="8458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is chemical can be used to detect blood, even if it's been wiped from a su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Ninhydrin     B. Luminol      C.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. Cyan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0120" y="1009800"/>
            <a:ext cx="21844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2921040"/>
            <a:ext cx="49402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95760"/>
            <a:ext cx="304812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48520"/>
            <a:ext cx="12956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00:36Z</dcterms:modified>
  <cp:revision>38</cp:revision>
  <dc:subject/>
  <dc:title>Slide 1</dc:title>
</cp:coreProperties>
</file>