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535B-27F5-44D8-BE54-864E158B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C4C-065A-4F74-B93C-F7A81921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061-147C-43BE-B498-316F345A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B29-7677-47F1-8439-08C94E68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DA3-3D65-48BC-9ECD-C99585CA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E33-5996-45FA-8115-74FB939E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AC2-2145-4FE6-8A51-DBA1290A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00D-759D-4F7C-984F-CEA42A6F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5A2-E004-425E-9B83-09AA278E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1D6-47E7-4ECC-97CD-56034C5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CCF-3A17-48D6-8D09-F565E25D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856-62A8-4989-8593-18E74BC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42BE-CB13-4040-A259-0E1F814B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6248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7621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What does the term "forensic" mean in Lat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Before the forum    B. Beside the forum    C. After the forum   D.  For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862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In forensics, criminologists use AFIS to search an online database for fingerprint matches. What does AFIS stan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utomated Foot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ctual Finger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utomated Finger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uto Fingerprint Intelligenc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062240"/>
            <a:ext cx="84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re are two types of wounds people can get when they are shot. What are the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Entry wound, Exit wou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Valid wound, Invalid w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Big wound, Small w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Enter wound, Exit w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713560"/>
            <a:ext cx="8458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his chemical can be used to detect blood, even if it's been wiped from a su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Ninhydrin     B. Luminol      C.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. Cyan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7621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What does the term "forensic" mean in Lat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Before the forum    B. Beside the forum    C. After the forum   D.  For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62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In forensics, criminologists use AFIS to search an online database for fingerprint matches. What does AFIS stan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utomated Foot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ctual Finger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utomated Fingerprint Identific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uto Fingerprint Intelligenc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062240"/>
            <a:ext cx="847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re are two types of wounds people can get when they are shot. What are the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Entry wound, Exit wou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Valid wound, Invalid w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Big wound, Small w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Enter wound, Exit w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713560"/>
            <a:ext cx="8458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his chemical can be used to detect blood, even if it's been wiped from a su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Ninhydrin     B. Luminol      C.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. Cyan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0120" y="1009800"/>
            <a:ext cx="21844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7520" y="2921040"/>
            <a:ext cx="49402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95760"/>
            <a:ext cx="304812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6248520"/>
            <a:ext cx="129564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5:00:36Z</dcterms:modified>
  <cp:revision>38</cp:revision>
  <dc:subject/>
  <dc:title>Slide 1</dc:title>
</cp:coreProperties>
</file>