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31C-FA65-4710-8517-150F3758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47B-A369-4391-B537-99C13702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F8F-D69B-4548-AD9C-4D8AB68B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169-5754-4C21-BA2B-FC4A990F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1CC-4A9F-4D5C-972E-A5D6A9F7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C17-46A5-4165-9B2D-71282190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5F9-6254-4182-B544-5096AB82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D01-EFB5-4308-AC20-CBA3280F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9F6-EA10-4935-A15E-0446427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1A5-95A5-4E8B-9322-B1FB25B7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32C-E538-45D9-969A-4C1CB09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511-96BA-4157-A3B7-9622C5C6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EAE-C6F6-43FE-9846-05BEC743D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4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Text Box 5"/>
          <p:cNvSpPr/>
          <p:nvPr/>
        </p:nvSpPr>
        <p:spPr>
          <a:xfrm>
            <a:off x="4102200" y="58928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dd00744_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8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380880" y="762120"/>
            <a:ext cx="8477280" cy="5717520"/>
            <a:chOff x="380880" y="762120"/>
            <a:chExt cx="8477280" cy="5717520"/>
          </a:xfrm>
        </p:grpSpPr>
        <p:sp>
          <p:nvSpPr>
            <p:cNvPr id="51" name="Text Box 4"/>
            <p:cNvSpPr/>
            <p:nvPr/>
          </p:nvSpPr>
          <p:spPr>
            <a:xfrm>
              <a:off x="380880" y="762120"/>
              <a:ext cx="8382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function of the ridges on our fingers which create fingerprints?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They enable us to grasp object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 They provide insulation for the tissues under the sk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They help us to identify individual human being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380880" y="2373480"/>
              <a:ext cx="838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At what age do human beings acquire fingerprints?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At three month's ges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At bi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 At six month’s ges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. At three months of 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380880" y="3436920"/>
              <a:ext cx="838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What is the minimum number of matching points required to identify an unknown latent print in the United States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12          B. 16           C. 32           D. There is no minim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380880" y="4498920"/>
              <a:ext cx="8477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In 1910, Thomas Jennings became the first person in the United States of America to be convicted on fingerprint evidence. What was his crim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Kidnapping         B. Forgery         C. Bootlegging          D. Mu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380880" y="5562720"/>
              <a:ext cx="845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 Who was responsible for starting the first national fingerprint register in America in the 1920'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Herbert Hoover    B. Calvin Coolidge    C. J Edgar Hoover    D. August Voll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380880" y="762120"/>
            <a:ext cx="8477280" cy="5717520"/>
            <a:chOff x="380880" y="762120"/>
            <a:chExt cx="8477280" cy="5717520"/>
          </a:xfrm>
        </p:grpSpPr>
        <p:sp>
          <p:nvSpPr>
            <p:cNvPr id="58" name="Text Box 4"/>
            <p:cNvSpPr/>
            <p:nvPr/>
          </p:nvSpPr>
          <p:spPr>
            <a:xfrm>
              <a:off x="380880" y="762120"/>
              <a:ext cx="8382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function of the ridges on our fingers which create fingerprints?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They enable us to grasp object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 They provide insulation for the tissues under the sk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They help us to identify individual human being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0880" y="2373480"/>
              <a:ext cx="838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At what age do human beings acquire fingerprints?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At three month's ges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At bi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 At six month’s ges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. At three months of 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380880" y="3436920"/>
              <a:ext cx="838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What is the minimum number of matching points required to identify an unknown latent print in the United States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12          B. 16           C. 32           D. There is no minim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380880" y="4498920"/>
              <a:ext cx="8477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In 1910, Thomas Jennings became the first person in the United States of America to be convicted on fingerprint evidence. What was his crim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Kidnapping         B. Forgery         C. Bootlegging          D. Mu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380880" y="5562720"/>
              <a:ext cx="845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 Who was responsible for starting the first national fingerprint register in America in the 1920'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Herbert Hoover    B. Calvin Coolidge    C. J. Edgar Hoover    D. August Voll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9"/>
          <p:cNvSpPr/>
          <p:nvPr/>
        </p:nvSpPr>
        <p:spPr>
          <a:xfrm>
            <a:off x="380880" y="1295280"/>
            <a:ext cx="373392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80880" y="2657520"/>
            <a:ext cx="312444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051440" y="3975120"/>
            <a:ext cx="26668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987720" y="5029200"/>
            <a:ext cx="175284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6"/>
          <p:cNvGrpSpPr/>
          <p:nvPr/>
        </p:nvGrpSpPr>
        <p:grpSpPr>
          <a:xfrm>
            <a:off x="4572000" y="4952880"/>
            <a:ext cx="4038480" cy="1562400"/>
            <a:chOff x="4572000" y="4952880"/>
            <a:chExt cx="4038480" cy="1562400"/>
          </a:xfrm>
        </p:grpSpPr>
        <p:sp>
          <p:nvSpPr>
            <p:cNvPr id="68" name="Rectangle 13"/>
            <p:cNvSpPr/>
            <p:nvPr/>
          </p:nvSpPr>
          <p:spPr>
            <a:xfrm>
              <a:off x="4572000" y="6134040"/>
              <a:ext cx="2133720" cy="38124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800600" y="4952880"/>
              <a:ext cx="3809880" cy="1067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 was director of the FBI for almost 48 years (1924 until his death in 1972). The FBI's fingerprint data base is the largest one in the world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1-13T23:27:26Z</dcterms:modified>
  <cp:revision>31</cp:revision>
  <dc:subject/>
  <dc:title>Slide 1</dc:title>
</cp:coreProperties>
</file>