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86A-9D1C-4411-9254-694E2570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AC2-944B-41B7-82CE-C66191B1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E7E-284A-418C-99BD-6A7A3208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043-116D-4037-A0BA-885E9CC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872-C055-4BFD-890B-28B10630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27F-85CC-4595-898F-77697440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2C6-9EDD-4AFC-A435-F87BB6B2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02E-6187-437C-8008-976DE04A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ECE-1068-4431-97F8-41747B8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479-AE37-4B5B-AC54-7B345CD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125-19D7-4F36-82F2-19F017F6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EEF-BEA0-4608-9F3E-D8CD588A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D83E-BBD2-4AEE-9B11-4E10B98AC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WordArt 4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Text Box 5"/>
          <p:cNvSpPr/>
          <p:nvPr/>
        </p:nvSpPr>
        <p:spPr>
          <a:xfrm>
            <a:off x="4102200" y="58928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dd00744_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8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50" name="Group 12"/>
          <p:cNvGrpSpPr/>
          <p:nvPr/>
        </p:nvGrpSpPr>
        <p:grpSpPr>
          <a:xfrm>
            <a:off x="380880" y="762120"/>
            <a:ext cx="8477280" cy="5717520"/>
            <a:chOff x="380880" y="762120"/>
            <a:chExt cx="8477280" cy="5717520"/>
          </a:xfrm>
        </p:grpSpPr>
        <p:sp>
          <p:nvSpPr>
            <p:cNvPr id="51" name="Text Box 4"/>
            <p:cNvSpPr/>
            <p:nvPr/>
          </p:nvSpPr>
          <p:spPr>
            <a:xfrm>
              <a:off x="380880" y="762120"/>
              <a:ext cx="8382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function of the ridges on our fingers which creat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They enable us to grasp object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They provide insulation for the tissues under the sk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They help us to identify individual human being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380880" y="237348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At what age do human beings acquir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At three month'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At bi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At six month’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. At three months of 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380880" y="343692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What is the minimum number of matching points required to identify an unknown latent print in the United States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12          B. 16           C. 32           D. There is no min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380880" y="4498920"/>
              <a:ext cx="8477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In 1910, Thomas Jennings became the first person in the United States of America to be convicted on fingerprint evidence. What was his crim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Kidnapping         B. Forgery         C. Bootlegging          D. Mu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380880" y="5562720"/>
              <a:ext cx="845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 Who was responsible for starting the first national fingerprint register in America in the 1920'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Herbert Hoover    B. Calvin Coolidge    C. J Edgar Hoover    D. August Voll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380880" y="762120"/>
            <a:ext cx="8477280" cy="5717520"/>
            <a:chOff x="380880" y="762120"/>
            <a:chExt cx="8477280" cy="5717520"/>
          </a:xfrm>
        </p:grpSpPr>
        <p:sp>
          <p:nvSpPr>
            <p:cNvPr id="58" name="Text Box 4"/>
            <p:cNvSpPr/>
            <p:nvPr/>
          </p:nvSpPr>
          <p:spPr>
            <a:xfrm>
              <a:off x="380880" y="762120"/>
              <a:ext cx="8382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function of the ridges on our fingers which creat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They enable us to grasp object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They provide insulation for the tissues under the sk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They help us to identify individual human being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0880" y="237348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At what age do human beings acquire fingerprints?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At three month'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. At bi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 At six month’s gest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. At three months of 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380880" y="3436920"/>
              <a:ext cx="838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What is the minimum number of matching points required to identify an unknown latent print in the United States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 12          B. 16           C. 32           D. There is no minim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380880" y="4498920"/>
              <a:ext cx="8477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In 1910, Thomas Jennings became the first person in the United States of America to be convicted on fingerprint evidence. What was his crim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Kidnapping         B. Forgery         C. Bootlegging          D. Mu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380880" y="5562720"/>
              <a:ext cx="845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 Who was responsible for starting the first national fingerprint register in America in the 1920'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. Herbert Hoover    B. Calvin Coolidge    C. J. Edgar Hoover    D. August Voll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9"/>
          <p:cNvSpPr/>
          <p:nvPr/>
        </p:nvSpPr>
        <p:spPr>
          <a:xfrm>
            <a:off x="380880" y="1295280"/>
            <a:ext cx="3733920" cy="38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80880" y="2657520"/>
            <a:ext cx="31244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051440" y="3975120"/>
            <a:ext cx="266688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987720" y="5029200"/>
            <a:ext cx="1752840" cy="3808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6"/>
          <p:cNvGrpSpPr/>
          <p:nvPr/>
        </p:nvGrpSpPr>
        <p:grpSpPr>
          <a:xfrm>
            <a:off x="4572000" y="4952880"/>
            <a:ext cx="4038480" cy="1562400"/>
            <a:chOff x="4572000" y="4952880"/>
            <a:chExt cx="4038480" cy="1562400"/>
          </a:xfrm>
        </p:grpSpPr>
        <p:sp>
          <p:nvSpPr>
            <p:cNvPr id="68" name="Rectangle 13"/>
            <p:cNvSpPr/>
            <p:nvPr/>
          </p:nvSpPr>
          <p:spPr>
            <a:xfrm>
              <a:off x="4572000" y="6134040"/>
              <a:ext cx="2133720" cy="38124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800600" y="4952880"/>
              <a:ext cx="3809880" cy="1067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 was director of the FBI for almost 48 years (1924 until his death in 1972). The FBI's fingerprint data base is the largest one in the world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1-13T23:27:26Z</dcterms:modified>
  <cp:revision>31</cp:revision>
  <dc:subject/>
  <dc:title>Slide 1</dc:title>
</cp:coreProperties>
</file>