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139-4984-40FD-A751-DD693706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5CB-768E-432A-AAA3-97648DA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286-CAF6-4177-9BAD-F3274FBB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C1B-3FC8-4230-A862-AAAEE5C5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F70-1203-4177-9DEE-6B4F2BF6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8FA-6CEA-499B-AE3E-52E0403A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5A0-C9F8-4A46-A64F-F3D53DC0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03E-D844-41CE-9344-2D6B9575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839-2A7B-4FE0-B0FC-0C2E6A8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A2D-F9C2-4E36-ACAF-426BDB4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C62-1EA1-4F62-AD50-A591C51F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357-B983-47BA-8FD9-A535992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A51-0E96-4244-8FBC-176A19DA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589284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81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is the name given to the study of fingerprin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actyloscopy      B. Palynology      C. Entomology     D. Tri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17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at causes fingerprints to be left behind when we touch th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alt produced by our sweat gl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Moisture in the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tural oils in the s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Dust on the things we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20" y="29480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ich of the following is NOT one of the 3 basic types of fingerprint patterns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ops          B. Whorls          C. Arches          D. Spi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4038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Which animal is said to have fingerprints virtually indistinguishable from those of human be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Panda        B. raccoon        C. koala         D. l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541008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Who is generally recognized as being the first person to use fingerprints as a means of ident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phonse Bertill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Dr Henry Fau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ir William Hersch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Sir Edward 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81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is the name given to the study of fingerprin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actyloscopy      B. Palynology      C. Entomology     D. Tri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17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at causes fingerprints to be left behind when we touch th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alt produced by our sweat gl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Moisture in the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tural oils in the s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Dust on the things we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8120" y="29480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ich of the following is NOT one of the 3 basic types of fingerprint patterns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ops          B. Whorls          C. Arches          D. Spi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4038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Which animal is said to have fingerprints virtually indistinguishable from those of human be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panda        B. raccoon        C. koala         D. l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541008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Who is generally recognized as being the first person to use fingerprints as a means of ident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phonse Bertill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Dr Henry Fau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ir William Hersch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Sir Edward 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4600" y="1066680"/>
            <a:ext cx="18414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4600" y="2286000"/>
            <a:ext cx="26794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479760"/>
            <a:ext cx="121932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03440" y="4572000"/>
            <a:ext cx="10796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4600" y="5791320"/>
            <a:ext cx="8089920" cy="838080"/>
            <a:chOff x="444600" y="5791320"/>
            <a:chExt cx="8089920" cy="838080"/>
          </a:xfrm>
        </p:grpSpPr>
        <p:sp>
          <p:nvSpPr>
            <p:cNvPr id="66" name=""/>
            <p:cNvSpPr/>
            <p:nvPr/>
          </p:nvSpPr>
          <p:spPr>
            <a:xfrm>
              <a:off x="444600" y="6248520"/>
              <a:ext cx="2527200" cy="38088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5791320"/>
              <a:ext cx="495324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 was a government administrator in colonial India and began using fingerprints in July 1858 to identify illiterate prisoners and workers in Indi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4:57:59Z</dcterms:modified>
  <cp:revision>22</cp:revision>
  <dc:subject/>
  <dc:title>Slide 1</dc:title>
</cp:coreProperties>
</file>