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3C2-74A2-46CA-9E03-25BA05E2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079-BD47-4B61-B668-28633E3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897-27B5-4E40-BE77-0506BC0A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547-08FF-4D53-8080-8AFBF67C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AD7-69F2-49C0-827E-0A4320D2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FA7-9C61-4660-A3C1-47E6FF7C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62C0-F726-4CFE-876A-67618D19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002-CF4E-490D-B122-8B4194DE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593-487F-4606-9977-D56129D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CA8-B8C5-4D05-BDEE-9EB3AC6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508-5E49-444B-92DB-FDDCEDC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CC2D-0EEB-45C3-836E-507FEB7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BAAE-DA09-4F8C-9306-4C61EA22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589284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81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is the name given to the study of fingerprin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actyloscopy      B. Palynology      C. Entomology     D. Tri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17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at causes fingerprints to be left behind when we touch th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alt produced by our sweat gl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Moisture in the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tural oils in the s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Dust on the things we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20" y="29480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ich of the following is NOT one of the 3 basic types of fingerprint patterns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ops          B. Whorls          C. Arches          D. Spi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38120" y="4038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Which animal is said to have fingerprints virtually indistinguishable from those of human be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Panda        B. raccoon        C. koala         D. l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541008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Who is generally recognized as being the first person to use fingerprints as a means of ident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phonse Bertill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Dr Henry Fau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ir William Hersch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Sir Edward 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381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is the name given to the study of fingerprint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actyloscopy      B. Palynology      C. Entomology     D. Tric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17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What causes fingerprints to be left behind when we touch th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alt produced by our sweat gla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Moisture in the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Natural oils in the sk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Dust on the things we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8120" y="294804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Which of the following is NOT one of the 3 basic types of fingerprint patterns?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ops          B. Whorls          C. Arches          D. Spi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40384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Which animal is said to have fingerprints virtually indistinguishable from those of human being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panda        B. raccoon        C. koala         D. lem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8120" y="541008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Who is generally recognized as being the first person to use fingerprints as a means of identifi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lphonse Bertill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Dr Henry Fau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Sir William Hersch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Sir Edward 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4600" y="1066680"/>
            <a:ext cx="18414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4600" y="2286000"/>
            <a:ext cx="26794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479760"/>
            <a:ext cx="121932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03440" y="4572000"/>
            <a:ext cx="10796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4600" y="5791320"/>
            <a:ext cx="8089920" cy="838080"/>
            <a:chOff x="444600" y="5791320"/>
            <a:chExt cx="8089920" cy="838080"/>
          </a:xfrm>
        </p:grpSpPr>
        <p:sp>
          <p:nvSpPr>
            <p:cNvPr id="66" name=""/>
            <p:cNvSpPr/>
            <p:nvPr/>
          </p:nvSpPr>
          <p:spPr>
            <a:xfrm>
              <a:off x="444600" y="6248520"/>
              <a:ext cx="2527200" cy="38088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5791320"/>
              <a:ext cx="4953240" cy="82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 was a government administrator in colonial India and began using fingerprints in July 1858 to identify illiterate prisoners and workers in Indi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4:57:59Z</dcterms:modified>
  <cp:revision>22</cp:revision>
  <dc:subject/>
  <dc:title>Slide 1</dc:title>
</cp:coreProperties>
</file>