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B90A9-7FDA-4CA6-830A-A384F97A8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3CB03-BD27-4D2E-A201-3D8337FC3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4416C-49C3-4801-8F72-F7FAA88E9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730B0-B061-440E-8E2D-09F656875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EC2D-FB83-4A09-83D7-4449F332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6176-9D10-4E02-8D52-55A6F0598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B47AA-C050-4EA4-BD7C-52D7BC19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8F5D7-CE85-4D0E-9095-14E54C34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080C-532D-4B4A-9376-E96E78A5F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2EA8-B50E-4E71-813E-EDAC2D70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EDCC-9918-4ACB-B767-35B88EC23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63F1D-2F00-4740-BD08-38E2ADDAD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D8A2-1EBA-4081-AEDE-70B36C3C2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5892840"/>
            <a:ext cx="4876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2</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19040" y="762120"/>
            <a:ext cx="815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50" name=""/>
          <p:cNvSpPr/>
          <p:nvPr/>
        </p:nvSpPr>
        <p:spPr>
          <a:xfrm>
            <a:off x="419040" y="2357280"/>
            <a:ext cx="815364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51" name=""/>
          <p:cNvSpPr/>
          <p:nvPr/>
        </p:nvSpPr>
        <p:spPr>
          <a:xfrm>
            <a:off x="419040" y="340344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52"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53" name=""/>
          <p:cNvSpPr/>
          <p:nvPr/>
        </p:nvSpPr>
        <p:spPr>
          <a:xfrm>
            <a:off x="419040" y="47242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9040" y="762120"/>
            <a:ext cx="815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55" name=""/>
          <p:cNvSpPr/>
          <p:nvPr/>
        </p:nvSpPr>
        <p:spPr>
          <a:xfrm>
            <a:off x="419040" y="2357280"/>
            <a:ext cx="815364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56" name=""/>
          <p:cNvSpPr/>
          <p:nvPr/>
        </p:nvSpPr>
        <p:spPr>
          <a:xfrm>
            <a:off x="419040" y="340344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57"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419040" y="47242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grpSp>
        <p:nvGrpSpPr>
          <p:cNvPr id="59" name=""/>
          <p:cNvGrpSpPr/>
          <p:nvPr/>
        </p:nvGrpSpPr>
        <p:grpSpPr>
          <a:xfrm>
            <a:off x="3124080" y="533520"/>
            <a:ext cx="5346720" cy="1676160"/>
            <a:chOff x="3124080" y="533520"/>
            <a:chExt cx="5346720" cy="1676160"/>
          </a:xfrm>
        </p:grpSpPr>
        <p:sp>
          <p:nvSpPr>
            <p:cNvPr id="60" name=""/>
            <p:cNvSpPr/>
            <p:nvPr/>
          </p:nvSpPr>
          <p:spPr>
            <a:xfrm>
              <a:off x="6180120" y="1828800"/>
              <a:ext cx="1744560" cy="380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124080" y="533520"/>
              <a:ext cx="534672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fficial name of the body farm is the Tennessee Anthropological Research Facility (TARF) but some of Bass’s colleagues call it the Bass Anthropological Research Facility or BARF. </a:t>
              </a:r>
              <a:endParaRPr b="0" lang="en-US" sz="1800" spc="-1" strike="noStrike">
                <a:solidFill>
                  <a:srgbClr val="000000"/>
                </a:solidFill>
                <a:latin typeface="Arial"/>
              </a:endParaRPr>
            </a:p>
          </p:txBody>
        </p:sp>
      </p:grpSp>
      <p:sp>
        <p:nvSpPr>
          <p:cNvPr id="62" name=""/>
          <p:cNvSpPr/>
          <p:nvPr/>
        </p:nvSpPr>
        <p:spPr>
          <a:xfrm>
            <a:off x="457200" y="2612880"/>
            <a:ext cx="243828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029200" y="4224240"/>
            <a:ext cx="32004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819520" y="4876920"/>
            <a:ext cx="5397480" cy="1882800"/>
            <a:chOff x="2819520" y="4876920"/>
            <a:chExt cx="5397480" cy="1882800"/>
          </a:xfrm>
        </p:grpSpPr>
        <p:sp>
          <p:nvSpPr>
            <p:cNvPr id="65" name=""/>
            <p:cNvSpPr/>
            <p:nvPr/>
          </p:nvSpPr>
          <p:spPr>
            <a:xfrm>
              <a:off x="4114800" y="6400800"/>
              <a:ext cx="3200400" cy="3589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19520" y="4876920"/>
              <a:ext cx="53974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made legal history because it was the first time a body was identified without fingerprints or dental records. It belonged to a petty criminal called William Henry Moseley.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4:57:04Z</dcterms:modified>
  <cp:revision>17</cp:revision>
  <dc:subject/>
  <dc:title>Slide 1</dc:title>
</cp:coreProperties>
</file>