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0FB-D9ED-4CF1-9C6D-E499FD7B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04E-6FBD-48A4-9E9D-2D01BE02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46F-3C53-45ED-9718-50BC09D9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0CB-5B62-43BE-8B57-9C23839E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B5F-11C1-4BD2-AF17-3C4C3953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B1A-B04D-4478-AEE1-CA3A3FFE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47D-DBDB-48C4-BF0E-22555188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225-7E74-4F84-B3E7-5C79819C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683-729D-4195-9668-3FE78687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EE5-2A70-4320-9B53-EA484899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E00-679C-4E7E-9E51-BBE50C0C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DF6-8680-46F4-B126-003D56D1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1A7C-4078-44B2-8B6F-4E3FEDD81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143000" y="5105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ng Masterpi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62485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152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#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3600" y="1219320"/>
            <a:ext cx="1616040" cy="1838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09480" y="2209680"/>
            <a:ext cx="80773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 Black"/>
              </a:rPr>
              <a:t>Can you solve i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14400" y="228600"/>
            <a:ext cx="7162920" cy="3809880"/>
            <a:chOff x="914400" y="228600"/>
            <a:chExt cx="7162920" cy="38098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914400" y="228600"/>
              <a:ext cx="443808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5324760" y="228600"/>
              <a:ext cx="2752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380880" y="41911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inting by a world-renowned artist was stolen from the Forest Museum. The missing masterpiece is now in Kopy Kat's studio. The feline forger has already painted a copy of the artwork. Which one does Slylock Fox suspect is the original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5791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nt:  What is different about the ow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6500880"/>
            <a:ext cx="525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http://www.slylockfox.com/arcade/BrainBogglers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2133720"/>
            <a:ext cx="8382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wl cannot move its eyes from side to sid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ust turn its head to see in other direc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nting with the eyes pointed straight ahead is the orig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7680" y="38088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olutio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8T02:47:41Z</dcterms:modified>
  <cp:revision>80</cp:revision>
  <dc:subject/>
  <dc:title>Slide 1</dc:title>
</cp:coreProperties>
</file>