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DC1-1019-49AD-B271-29E7959E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C65-4736-4E96-85C2-9DA8446E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F4B-8DAD-43D1-9C94-35EEC4A1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739-CD68-4CFA-908E-D616AF31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4B4-FCAB-4415-97E5-DA64A768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2FE-3955-48D1-BA94-4919E1F9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752-850D-46A3-9837-791A588D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5BB-A13F-4A3B-B303-B73B79D8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1A2-A7EA-4A3B-825D-98E10AAC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E05-E3F1-4829-94D8-FBC8DC4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ABB-7902-4954-A3A6-4483C9EF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A30-12D5-4EEE-85A8-2FD7D4F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C2C3-0DB6-4044-947A-A124092A9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143000" y="5105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ng Master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6248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52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#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1219320"/>
            <a:ext cx="1616040" cy="1838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2209680"/>
            <a:ext cx="80773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Arial Black"/>
              </a:rPr>
              <a:t>Can you solve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14400" y="228600"/>
            <a:ext cx="7162920" cy="3809880"/>
            <a:chOff x="914400" y="228600"/>
            <a:chExt cx="7162920" cy="38098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914400" y="228600"/>
              <a:ext cx="443808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5324760" y="228600"/>
              <a:ext cx="2752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380880" y="419112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inting by a world-renowned artist was stolen from the Forest Museum. The missing masterpiece is now in Kopy Kat's studio. The feline forger has already painted a copy of the artwork. Which one does Slylock Fox suspect is the original pain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791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nt:  What is different about the ow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6500880"/>
            <a:ext cx="525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slylockfox.com/arcade/BrainBogglers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13372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wl cannot move its eyes from side to sid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turn its head to see in other direc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ting with the eyes pointed straight ahead is the orig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7680" y="38088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lution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8T02:47:41Z</dcterms:modified>
  <cp:revision>80</cp:revision>
  <dc:subject/>
  <dc:title>Slide 1</dc:title>
</cp:coreProperties>
</file>