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D7149-4249-4886-BD32-39E7F85A0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4ECB1-C9D1-4376-AD2B-8AF71D320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E1E2C-1CAD-42CE-A931-C9A27ACD7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00708-4196-4532-9361-5B53B2B22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168ED-D73F-436B-8196-4F0C5864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32318-F147-4B41-9AA1-DFA13ADAC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EA959-ABC7-4ED8-BBFF-E04E72CBA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A69B7-93D9-413B-80F0-2CFA966A6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B1D2E-1265-4BBF-932A-70140561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AAC0D-0134-4D24-897E-BBC36052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BCCA7-AA84-42CC-A000-948DB6D09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2B49-ACBF-4D52-9696-878C29D41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6A5F-182E-45D7-AB7C-FCD9B6306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ger Danger</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7</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457200"/>
            <a:ext cx="87631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was sitting in his hotel room reading a book, when he heard a knock at the door, and the sound of someone trying the door handle. He opened the door, where he saw a man whom he had never seen befo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said, "I'm terribly sorry ... I thought this was my room. Wrong floor, I guess." He then walked off down the hall toward the elevato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went back into his room, thought about what had just happened, and then phoned the front desk, suggesting they call the police, since the man at the door had obviously been a thie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was David so sure the man had been a thief?</a:t>
            </a:r>
            <a:endParaRPr b="0" lang="en-US" sz="24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213372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 had knocked first. He wouldn't have </a:t>
            </a:r>
            <a:br>
              <a:rPr sz="2800"/>
            </a:br>
            <a:r>
              <a:rPr b="0" lang="en-US" sz="2800" spc="-1" strike="noStrike">
                <a:solidFill>
                  <a:srgbClr val="000000"/>
                </a:solidFill>
                <a:latin typeface="Times New Roman"/>
              </a:rPr>
              <a:t>done that if he'd thought it was his room.</a:t>
            </a:r>
            <a:endParaRPr b="0" lang="en-US" sz="2800" spc="-1" strike="noStrike">
              <a:solidFill>
                <a:srgbClr val="000000"/>
              </a:solidFill>
              <a:latin typeface="Arial"/>
            </a:endParaRPr>
          </a:p>
        </p:txBody>
      </p:sp>
      <p:sp>
        <p:nvSpPr>
          <p:cNvPr id="53"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41:01Z</dcterms:modified>
  <cp:revision>76</cp:revision>
  <dc:subject/>
  <dc:title>Slide 1</dc:title>
</cp:coreProperties>
</file>