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62884-8373-4E4D-958A-78D274776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D87C5-078E-4F43-824E-2ADB04C07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0B6C3-884A-4EEF-A6EE-8DDFB8A29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D71AF-4706-4F12-94EE-D5B56E062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174D5-76E0-402C-8629-780D1E234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374E3-F7BE-4D1F-B669-95D819296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CB622-16DD-4760-9F20-00B8A5558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D18A5-5C65-4166-8ED7-37E4FA956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F9E1E-8507-4284-ADE7-5FBCF63B0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F2E67-EA46-403F-8A60-8F93A8480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3D5BA-37BC-4567-B575-4CE9787C6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E176C-23C5-4645-8074-A46AD8C57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B03C-327B-4DF9-9259-B1F52EE690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920" y="304920"/>
            <a:ext cx="2819160" cy="2057040"/>
            <a:chOff x="304920" y="304920"/>
            <a:chExt cx="2819160" cy="2057040"/>
          </a:xfrm>
        </p:grpSpPr>
        <p:pic>
          <p:nvPicPr>
            <p:cNvPr id="42" name="" descr=""/>
            <p:cNvPicPr/>
            <p:nvPr/>
          </p:nvPicPr>
          <p:blipFill>
            <a:blip r:embed="rId1"/>
            <a:stretch/>
          </p:blipFill>
          <p:spPr>
            <a:xfrm>
              <a:off x="492480" y="304920"/>
              <a:ext cx="1869840" cy="1606680"/>
            </a:xfrm>
            <a:prstGeom prst="rect">
              <a:avLst/>
            </a:prstGeom>
            <a:ln w="0">
              <a:noFill/>
            </a:ln>
          </p:spPr>
        </p:pic>
        <p:sp>
          <p:nvSpPr>
            <p:cNvPr id="43" name=""/>
            <p:cNvSpPr txBox="1"/>
            <p:nvPr/>
          </p:nvSpPr>
          <p:spPr>
            <a:xfrm>
              <a:off x="304920" y="833040"/>
              <a:ext cx="28191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44" name=""/>
          <p:cNvSpPr/>
          <p:nvPr/>
        </p:nvSpPr>
        <p:spPr>
          <a:xfrm>
            <a:off x="1143000" y="5105520"/>
            <a:ext cx="6705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roken Window</a:t>
            </a:r>
            <a:endParaRPr b="0" lang="en-US" sz="4400" spc="-1" strike="noStrike">
              <a:solidFill>
                <a:srgbClr val="000000"/>
              </a:solidFill>
              <a:latin typeface="Arial"/>
            </a:endParaRPr>
          </a:p>
        </p:txBody>
      </p:sp>
      <p:sp>
        <p:nvSpPr>
          <p:cNvPr id="45" name=""/>
          <p:cNvSpPr/>
          <p:nvPr/>
        </p:nvSpPr>
        <p:spPr>
          <a:xfrm>
            <a:off x="4267080" y="6248520"/>
            <a:ext cx="4724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46" name=""/>
          <p:cNvSpPr/>
          <p:nvPr/>
        </p:nvSpPr>
        <p:spPr>
          <a:xfrm>
            <a:off x="127080" y="647712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
        <p:nvSpPr>
          <p:cNvPr id="47" name=""/>
          <p:cNvSpPr/>
          <p:nvPr/>
        </p:nvSpPr>
        <p:spPr>
          <a:xfrm>
            <a:off x="6858000" y="15228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e #6</a:t>
            </a:r>
            <a:endParaRPr b="0" lang="en-US" sz="1600" spc="-1" strike="noStrike">
              <a:solidFill>
                <a:srgbClr val="000000"/>
              </a:solidFill>
              <a:latin typeface="Arial"/>
            </a:endParaRPr>
          </a:p>
        </p:txBody>
      </p:sp>
      <p:pic>
        <p:nvPicPr>
          <p:cNvPr id="48" name="" descr=""/>
          <p:cNvPicPr/>
          <p:nvPr/>
        </p:nvPicPr>
        <p:blipFill>
          <a:blip r:embed="rId2"/>
          <a:stretch/>
        </p:blipFill>
        <p:spPr>
          <a:xfrm>
            <a:off x="5943600" y="1219320"/>
            <a:ext cx="1616040" cy="1838160"/>
          </a:xfrm>
          <a:prstGeom prst="rect">
            <a:avLst/>
          </a:prstGeom>
          <a:ln w="0">
            <a:noFill/>
          </a:ln>
        </p:spPr>
      </p:pic>
      <p:sp>
        <p:nvSpPr>
          <p:cNvPr id="49" name=""/>
          <p:cNvSpPr txBox="1"/>
          <p:nvPr/>
        </p:nvSpPr>
        <p:spPr>
          <a:xfrm>
            <a:off x="609480" y="2209680"/>
            <a:ext cx="80773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990099"/>
                </a:solidFill>
                <a:latin typeface="Arial Black"/>
              </a:rPr>
              <a:t>Can you solve it?</a:t>
            </a:r>
            <a:endParaRPr b="0" lang="en-US" sz="1800" spc="1" strike="noStrike">
              <a:ln w="28440">
                <a:solidFill>
                  <a:srgbClr val="000000"/>
                </a:solidFill>
                <a:miter/>
              </a:ln>
              <a:solidFill>
                <a:srgbClr val="990099"/>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90440" y="174600"/>
            <a:ext cx="8763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evening as Max was out walking, Mrs. Zenitt called his name. He hurried across the street. She was standing in her front yard, but she guided him around to the back. "I was watching TV in the living room," she told him, "and I heard a crash. Just look!" She pointed to her back porch window. "Someone threw a rock through it. It's broken into a dozen pie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you know who did it?" he ask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he replied, “He ran off, but I think maybe it was David Loring. We had a spat the other day because I told his parents he had to stop using my yard as a short cut. But I wouldn't accuse him of breaking a window without more pro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l talk to him," Max said.</a:t>
            </a:r>
            <a:endParaRPr b="0" lang="en-US" sz="2400" spc="-1" strike="noStrike">
              <a:solidFill>
                <a:srgbClr val="000000"/>
              </a:solidFill>
              <a:latin typeface="Arial"/>
            </a:endParaRPr>
          </a:p>
        </p:txBody>
      </p:sp>
      <p:sp>
        <p:nvSpPr>
          <p:cNvPr id="51" name=""/>
          <p:cNvSpPr/>
          <p:nvPr/>
        </p:nvSpPr>
        <p:spPr>
          <a:xfrm>
            <a:off x="152280" y="647712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kids.mysterynet.com/quicksol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90440" y="174600"/>
            <a:ext cx="876312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found David panting as he bounced a basketball under the light on his garage. "Did you just run from Mrs. Zenitt's?" Max asked. "Did you break her window?"</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vid shook his head. "No. I'm all out of breath because I've been out here shooting baskets. I don't know anything about a broken porch window."</a:t>
            </a: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e not telling the truth," Max sai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did Max figure it 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 y="2133720"/>
            <a:ext cx="86868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knew David was not telling the truth because he said "porch window." Max had not mentioned which of Mrs. Zenitt's windows had been broken. "This case was a real pane, but the solution was as clear as glass," Max told Nina later.</a:t>
            </a:r>
            <a:endParaRPr b="0" lang="en-US" sz="2400" spc="-1" strike="noStrike">
              <a:solidFill>
                <a:srgbClr val="000000"/>
              </a:solidFill>
              <a:latin typeface="Arial"/>
            </a:endParaRPr>
          </a:p>
        </p:txBody>
      </p:sp>
      <p:sp>
        <p:nvSpPr>
          <p:cNvPr id="54" name=""/>
          <p:cNvSpPr txBox="1"/>
          <p:nvPr/>
        </p:nvSpPr>
        <p:spPr>
          <a:xfrm>
            <a:off x="2857680" y="380880"/>
            <a:ext cx="3429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8-11-28T02:38:41Z</dcterms:modified>
  <cp:revision>76</cp:revision>
  <dc:subject/>
  <dc:title>Slide 1</dc:title>
</cp:coreProperties>
</file>