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5BEEE-864E-4D25-8AAF-1E10315C3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F17E-EF6A-42BF-9C8B-A7E2F80F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DAC92-07AD-4612-9EE9-4724CA1D4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93271-6AB5-4CF3-B4D8-AA3404F9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FF2B-99F8-40A9-A640-876A7E2C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19A5-ABBA-40FE-8513-045BDF29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89CD1-519D-4A77-8983-D790E6A62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4800B-D068-4DBA-A0C2-FE2592165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A6B9-ACA3-4F7B-A7B2-CCE21E3A3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D9440-5AA5-4183-8191-231A690E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E6DE-1DB5-4B5A-9E60-7A3E6602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D4C4-C518-45FE-BF47-4D54039AE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7DB1-64EB-4420-B4FC-E81D7B6FF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prised Visitor</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5</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228600"/>
            <a:ext cx="8763120" cy="576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ck in the courthouse ahead of Max showed six o'clock. As it began chiming, he noticed a tall man with a briefcase walking towards him. The man turned around, looked at the clock, and then quickened his steps. He took an envelope and dropped it in a mailbox as he continued on. Max moved faster, too. Miss Fritz had invited him for dinner. He didn't want to be lat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400" spc="-1" strike="noStrike">
                <a:solidFill>
                  <a:srgbClr val="000000"/>
                </a:solidFill>
                <a:latin typeface="Times New Roman"/>
              </a:rPr>
              <a:t>"I'm glad you could come," Harborville's oldest music teacher said. "I've made a lovely salad for us." She gestured Max to a chair. "Good thing I prepared ahead. A surprise visitor just lef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visited?" Max aske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400" spc="-1" strike="noStrike">
                <a:solidFill>
                  <a:srgbClr val="000000"/>
                </a:solidFill>
                <a:latin typeface="Times New Roman"/>
              </a:rPr>
              <a:t>"A teacher from Harborville's School for the Deaf,” she replied. “He was totally deaf himself; poor man, but he could read lips perfectly. He had the loveliest penmanship when he wanted to tell me something." </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457200"/>
            <a:ext cx="8763120" cy="527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he here?" he aske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said, "Well, evidently the school is low on funds. I was glad to help out. I had just cashed my social security check so I was able to give him five hundred dolla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Did he just leave?” he asked. “Was he a tall man with a brief case?" </a:t>
            </a:r>
            <a:br>
              <a:rPr sz="2400"/>
            </a:br>
            <a:br>
              <a:rPr sz="2400"/>
            </a:br>
            <a:r>
              <a:rPr b="0" lang="en-US" sz="2400" spc="-1" strike="noStrike">
                <a:solidFill>
                  <a:srgbClr val="000000"/>
                </a:solidFill>
                <a:latin typeface="Times New Roman"/>
              </a:rPr>
              <a:t>"Yes," she replie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We'd better phone the police. I think that man was a phony. I know for sure he wasn't totally deaf."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21337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was behind the man as he was walking, so he could not have seen it. He turned around at the sound of the chimes, so he obviously heard them.</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4:27Z</dcterms:modified>
  <cp:revision>73</cp:revision>
  <dc:subject/>
  <dc:title>Slide 1</dc:title>
</cp:coreProperties>
</file>