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FC4B0-F686-4C50-9244-8B61B3A7D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8BD29-8126-42F9-9D7B-A38491E4A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16AB9-E245-4FBD-8C44-FDB8673FB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07C2A-25E3-4F04-A699-00E7C5805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DDD20-E2C2-4424-900C-CF99F58D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6C731-8EA8-43DC-9C54-5E246D888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FCEBF-A656-4FFA-878C-A0A94C8D2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E65D-B405-4481-8B44-462DD7C7B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63C05-E812-4506-B4D4-BDA1189C4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6EE49-4399-4EB1-BB0E-1CBFC111E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3252C-218D-4CD9-9B34-F9975EECF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960F1-7E47-46CE-8FED-1FB805D17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F9EC-8C66-46F2-8A51-C291950AE3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prised Visitor</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5</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228600"/>
            <a:ext cx="8763120" cy="576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ock in the courthouse ahead of Max showed six o'clock. As it began chiming, he noticed a tall man with a briefcase walking towards him. The man turned around, looked at the clock, and then quickened his steps. He took an envelope and dropped it in a mailbox as he continued on. Max moved faster, too. Miss Fritz had invited him for dinner. He didn't want to be lat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400" spc="-1" strike="noStrike">
                <a:solidFill>
                  <a:srgbClr val="000000"/>
                </a:solidFill>
                <a:latin typeface="Times New Roman"/>
              </a:rPr>
              <a:t>"I'm glad you could come," Harborville's oldest music teacher said. "I've made a lovely salad for us." She gestured Max to a chair. "Good thing I prepared ahead. A surprise visitor just lef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visited?" Max aske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400" spc="-1" strike="noStrike">
                <a:solidFill>
                  <a:srgbClr val="000000"/>
                </a:solidFill>
                <a:latin typeface="Times New Roman"/>
              </a:rPr>
              <a:t>"A teacher from Harborville's School for the Deaf,” she replied. “He was totally deaf himself; poor man, but he could read lips perfectly. He had the loveliest penmanship when he wanted to tell me something." </a:t>
            </a:r>
            <a:endParaRPr b="0" lang="en-US" sz="24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457200"/>
            <a:ext cx="8763120" cy="527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was he here?" he aske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said, "Well, evidently the school is low on funds. I was glad to help out. I had just cashed my social security check so I was able to give him five hundred dollar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Did he just leave?” he asked. “Was he a tall man with a brief case?" </a:t>
            </a:r>
            <a:br>
              <a:rPr sz="2400"/>
            </a:br>
            <a:br>
              <a:rPr sz="2400"/>
            </a:br>
            <a:r>
              <a:rPr b="0" lang="en-US" sz="2400" spc="-1" strike="noStrike">
                <a:solidFill>
                  <a:srgbClr val="000000"/>
                </a:solidFill>
                <a:latin typeface="Times New Roman"/>
              </a:rPr>
              <a:t>"Yes," she replied.</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We'd better phone the police. I think that man was a phony. I know for sure he wasn't totally deaf."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213372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was behind the man as he was walking, so he could not have seen it. He turned around at the sound of the chimes, so he obviously heard them.</a:t>
            </a:r>
            <a:endParaRPr b="0" lang="en-US" sz="2400" spc="-1" strike="noStrike">
              <a:solidFill>
                <a:srgbClr val="000000"/>
              </a:solidFill>
              <a:latin typeface="Arial"/>
            </a:endParaRPr>
          </a:p>
        </p:txBody>
      </p:sp>
      <p:sp>
        <p:nvSpPr>
          <p:cNvPr id="54"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34:27Z</dcterms:modified>
  <cp:revision>73</cp:revision>
  <dc:subject/>
  <dc:title>Slide 1</dc:title>
</cp:coreProperties>
</file>