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DF391-CA6E-485F-9984-1D4B02F8B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CA638-2198-45D2-8A71-B3A16EA15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3AB69-D12D-46C6-B102-C0980A9D1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6CE8C-DDB4-4756-B373-16DA38F62F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E9B08-50C8-4035-882A-B3EC01AF7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98A9B-8C39-4906-8E3C-213CFBC7A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49C81-0A7A-4C75-B3D9-7F73E476C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A1BFA-CB87-4D7F-ADEB-2DCAF5048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5A87-7960-4FB9-A41A-5296D4AC9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FFF1-37F2-45DD-A9BA-69372A5D8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BC54-951D-4C7C-B1EC-97F8CA33F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51359-3B1C-43AD-9DE6-09684B263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F193-CAD7-4158-BA5C-F76144175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stery Footprints</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4</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380880"/>
            <a:ext cx="87631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aturday morning Nina saw the three musketeers in the mall. Jenny, Brittany, and Mitzi called themselves by that name because they always were togethe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ve been shopping for sandals," Jenny told Nina. "But I have such a wide foot nothing seems to fit. We've been looking everywhe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And it's been slow going," Mitzi added. "On account of Brittany's-" "I know," Nina said looking at Brittany, "I heard you sprained your ankle in gym yesterday. Does it still hurt a lo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It's okay as long as I move really slowly," Brittany told her. "We're going to get ice cream at the Just Desserts Shop now. Want to join us?"  "Better not,” Nina said, “ Max is meeting me at home. See you later." </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304920"/>
            <a:ext cx="861084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na was taking a short cut through Harborville's city park when she saw Mr. Hansen kneeling beside a new sidewalk. The city maintenance man frowned as she drew closer. "Somebody jumped right in the middle here while the cement was still wet," he said, pointing at two narrow footprints embedded in the concrete. "Now I'll have to rip out this section and re-do it. Sure can't leave the sidewalk looking like this!"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idea of who did it?" Nina asked.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kid over there on the slide said that girls named Brittany, Mitzi, and Jenny were the only ones near here. But he doesn't know which one ruined my sidewalk."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who did it," Nina declare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How did Nina figure it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2133720"/>
            <a:ext cx="73152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tprints were narrow. Jenny had wide feet. Because of her sprained ankle, Brittany would not have jumped. Since Mitzi was the only one left, she had to be the guilty one. </a:t>
            </a:r>
            <a:endParaRPr b="0" lang="en-US" sz="2400" spc="-1" strike="noStrike">
              <a:solidFill>
                <a:srgbClr val="000000"/>
              </a:solidFill>
              <a:latin typeface="Arial"/>
            </a:endParaRPr>
          </a:p>
        </p:txBody>
      </p:sp>
      <p:sp>
        <p:nvSpPr>
          <p:cNvPr id="54"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31:46Z</dcterms:modified>
  <cp:revision>72</cp:revision>
  <dc:subject/>
  <dc:title>Slide 1</dc:title>
</cp:coreProperties>
</file>