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733-EF5C-4F42-A882-B7111596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4BA-7B12-4D49-AFBF-F9A6CDA6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5A0-7BC2-4143-AA61-5C52920B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9957-8D35-4623-86F1-E6AF1B86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29F-0B23-4C2A-80B1-DE417707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1EC-3960-41EE-84A7-3794273F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D71-2D59-4BA8-9715-90665C0B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989-F48E-4C1E-BA53-F1015CA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0F1-C370-4696-A09B-C56B05E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5D0-CD41-4AB8-B331-D66B9C5C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C3E-8A62-421E-8F10-58ECD709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386-3EB0-4239-A5E4-F089641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19C0-2B47-4042-8B94-FC9217E8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143000" y="5105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sh To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248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52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1219320"/>
            <a:ext cx="1616040" cy="183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2209680"/>
            <a:ext cx="8077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Can you solve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66920" y="579132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nt:  Notice the bones in the tr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7656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considerate slob dumped trash on Rachel Rabbit's la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f these two suspects is guilty. Slylock Fox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dence that may identify the loathsome litterb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650960" y="228600"/>
            <a:ext cx="6267240" cy="3276360"/>
            <a:chOff x="1650960" y="228600"/>
            <a:chExt cx="6267240" cy="32763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650960" y="228600"/>
              <a:ext cx="292212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491000" y="228600"/>
              <a:ext cx="3427200" cy="32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17520" y="5181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Slylock observe to help him identify the trash tos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5008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slylockfox.com/arcade/BrainBoggler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85768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luti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507960" y="198108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ylock found bones in the tr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ull is an herbivore and only eats pla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ccoon is an omnivore and eats both plants and animals.  The raccoon is the trash tos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24:13Z</dcterms:modified>
  <cp:revision>71</cp:revision>
  <dc:subject/>
  <dc:title>Slide 1</dc:title>
</cp:coreProperties>
</file>