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133-01A9-4FFE-A384-B7E60CB8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8A9-BEA4-48A4-867E-C5190947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D0C-6872-465F-8B30-EA069A42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78C-DD92-482C-A5AE-E855D83A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FD4-95B7-4E0B-9B2F-26C011F1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8E9-B2A2-401A-B6E7-9D0A369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186-5754-4871-A452-AC871018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8CA-5EC0-41B0-9D51-6BB13D29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DFE-C3AC-4B1C-B2BC-4AC1E70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6FD-8B37-485C-A2E1-A57B7ABA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DB9-5125-4CFD-B42B-4D6F828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046-B9F5-4318-88EB-7DA7C27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278E-C79B-41AC-8557-5824DD0B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143000" y="5105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sh To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248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152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1219320"/>
            <a:ext cx="1616040" cy="1838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2209680"/>
            <a:ext cx="8077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Can you solve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66920" y="5791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t:  Notice the bones in the tr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765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considerate slob dumped trash on Rachel Rabbit's la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of these two suspects is guilty. Slylock Fox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dence that may identify the loathsome litterb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50960" y="228600"/>
            <a:ext cx="6267240" cy="3276360"/>
            <a:chOff x="1650960" y="228600"/>
            <a:chExt cx="6267240" cy="32763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650960" y="228600"/>
              <a:ext cx="292212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491000" y="228600"/>
              <a:ext cx="3427200" cy="32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17520" y="5181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Slylock observe to help him identify the trash tos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50088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slylockfox.com/arcade/BrainBoggler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85768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luti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507960" y="198108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ylock found bones in the tra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ull is an herbivore and only eats pla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ccoon is an omnivore and eats both plants and animals.  The raccoon is the trash tos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24:13Z</dcterms:modified>
  <cp:revision>71</cp:revision>
  <dc:subject/>
  <dc:title>Slide 1</dc:title>
</cp:coreProperties>
</file>