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044FB-1886-48A1-BD63-4E2C2E015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7FF7A-FF22-47CD-A911-C3BC8972C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A7437-F68F-4F5E-BCC8-87522D83E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2982C-88B0-43B1-B704-DB8333789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2040D-4485-4036-A593-71E9EDCE8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4C473-D4FB-44C3-80D3-024C6D7C8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6B31D-585F-4F87-AE60-6BBC64A4D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3052B-CF2D-4731-89B3-6086409E5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706B3-05BF-4483-BBB8-067B42A30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397B6-3C82-417F-9FE1-26322ED7F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3B376-47AB-465F-940B-4711CFC92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A55E4-CCA4-4219-927B-299064C43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05E2-E813-49F6-B0B1-0CC3C8F29B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495288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cident</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1</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447920" y="380880"/>
            <a:ext cx="5638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Case Summary</a:t>
            </a:r>
            <a:endParaRPr b="0" lang="en-US" sz="1800" spc="1" strike="noStrike">
              <a:ln w="25560">
                <a:solidFill>
                  <a:srgbClr val="000000"/>
                </a:solidFill>
                <a:miter/>
              </a:ln>
              <a:solidFill>
                <a:srgbClr val="ffff00"/>
              </a:solidFill>
              <a:latin typeface="Arial Black"/>
              <a:ea typeface="Arial Black"/>
            </a:endParaRPr>
          </a:p>
        </p:txBody>
      </p:sp>
      <p:sp>
        <p:nvSpPr>
          <p:cNvPr id="51" name=""/>
          <p:cNvSpPr/>
          <p:nvPr/>
        </p:nvSpPr>
        <p:spPr>
          <a:xfrm>
            <a:off x="190440" y="1219320"/>
            <a:ext cx="8572680" cy="5456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re was nothing Leon, the driver, could do about the impending crash of the car he was driving. Leon knew the car would be completely demolished in the crash.  After the crash Leon didn’t have a scratch on him.  How can that b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251460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s</a:t>
            </a:r>
            <a:endParaRPr b="0" lang="en-US" sz="1800" spc="1" strike="noStrike">
              <a:ln w="25560">
                <a:solidFill>
                  <a:srgbClr val="000000"/>
                </a:solidFill>
                <a:miter/>
              </a:ln>
              <a:solidFill>
                <a:srgbClr val="ffff00"/>
              </a:solidFill>
              <a:latin typeface="Arial Black"/>
              <a:ea typeface="Arial Black"/>
            </a:endParaRPr>
          </a:p>
        </p:txBody>
      </p:sp>
      <p:sp>
        <p:nvSpPr>
          <p:cNvPr id="53" name=""/>
          <p:cNvSpPr/>
          <p:nvPr/>
        </p:nvSpPr>
        <p:spPr>
          <a:xfrm>
            <a:off x="380880" y="2286000"/>
            <a:ext cx="8458200" cy="2531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on was driving a remote control car.</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or </a:t>
            </a:r>
            <a:br>
              <a:rPr sz="3200"/>
            </a:b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was playing a video g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24:49Z</dcterms:modified>
  <cp:revision>65</cp:revision>
  <dc:subject/>
  <dc:title>Slide 1</dc:title>
</cp:coreProperties>
</file>