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BF59-FABA-49CE-8BC3-946136C41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3F78-051A-4765-8981-E17F18AB2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3290-A22C-42D3-8918-8D69FD486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198F-8D59-4CF2-BED3-EBF6948C8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A62-97DD-49BA-99FE-36944D87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B0D-BF95-4C59-9127-1F0BD088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A7E-3526-4FA6-9AB8-03715BCB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840-7BF4-4FEB-96A3-80059E0E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9E9-EB35-4887-9E4F-39223098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0EC-AE53-4C96-A968-278B653A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BD4-E1E5-4E66-B3AB-1020ADEA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571-F5D4-4DE6-8BC9-82E14808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11D-3595-4B45-9D4B-036F99EC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E9B-A0E8-4AEF-B33E-491159F4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18F-4DAD-4674-8DA7-90432F1E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A687-4FF9-44F1-B5BA-59804897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4193-BFB2-42CE-A999-FBB48187B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 Vacanc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7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1"/>
          <a:srcRect l="4093" t="5827" r="48629" b="73932"/>
          <a:stretch/>
        </p:blipFill>
        <p:spPr>
          <a:xfrm>
            <a:off x="33480" y="1371600"/>
            <a:ext cx="9034200" cy="3581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4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1"/>
          <a:srcRect l="4093" t="5827" r="48629" b="73932"/>
          <a:stretch/>
        </p:blipFill>
        <p:spPr>
          <a:xfrm>
            <a:off x="317520" y="1371600"/>
            <a:ext cx="8458200" cy="3352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4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304920" y="1447920"/>
            <a:ext cx="8458200" cy="4635720"/>
            <a:chOff x="304920" y="1447920"/>
            <a:chExt cx="8458200" cy="4635720"/>
          </a:xfrm>
        </p:grpSpPr>
        <p:sp>
          <p:nvSpPr>
            <p:cNvPr id="61" name="Text Box 16"/>
            <p:cNvSpPr/>
            <p:nvPr/>
          </p:nvSpPr>
          <p:spPr>
            <a:xfrm>
              <a:off x="304920" y="571536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 Nail, eyes in cave, bat’s toes, pebble, snowcaps, tree, st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5"/>
            <p:cNvSpPr/>
            <p:nvPr/>
          </p:nvSpPr>
          <p:spPr>
            <a:xfrm>
              <a:off x="2057400" y="396252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"/>
            <p:cNvSpPr/>
            <p:nvPr/>
          </p:nvSpPr>
          <p:spPr>
            <a:xfrm>
              <a:off x="7696440" y="3282480"/>
              <a:ext cx="457200" cy="7617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"/>
            <p:cNvSpPr/>
            <p:nvPr/>
          </p:nvSpPr>
          <p:spPr>
            <a:xfrm>
              <a:off x="3810240" y="3276720"/>
              <a:ext cx="457200" cy="12189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8"/>
            <p:cNvSpPr/>
            <p:nvPr/>
          </p:nvSpPr>
          <p:spPr>
            <a:xfrm>
              <a:off x="1676520" y="1447920"/>
              <a:ext cx="45720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 rot="19281000">
              <a:off x="3198960" y="2489040"/>
              <a:ext cx="83808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>
              <a:off x="2554920" y="4025160"/>
              <a:ext cx="60948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1"/>
            <p:cNvSpPr/>
            <p:nvPr/>
          </p:nvSpPr>
          <p:spPr>
            <a:xfrm>
              <a:off x="8305920" y="3048120"/>
              <a:ext cx="45720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34:41Z</dcterms:modified>
  <cp:revision>66</cp:revision>
  <dc:subject/>
  <dc:title>Slide 1</dc:title>
</cp:coreProperties>
</file>