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133D-EAAC-4E46-B955-A6E7D239F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EB66-2568-499C-A88A-2D3FEB686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16DD-446C-4DD6-B9A8-2B95191B9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711D-BA73-40F1-9711-2E23217C3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50E-2506-4F06-A8A2-87903DC5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3F6-B133-4816-A55D-E94873C7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161-A5E5-43F2-B59F-01101784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858-B04B-49C7-BA00-7AFFEE26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E13-C165-4437-8F04-8881636A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FD9-3087-4BD4-8C85-A63ADA8F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9A7-49B4-4A26-8A25-4C48C0CB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BA9-36C4-4062-B400-74B930E0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04D-021C-4FA2-AD1E-2BF91815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994-BD3A-4430-88B9-65780332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BB6-99A2-44CC-B779-283FA235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DB51-E5EA-459C-8A3E-A3560670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6CF6-EA8D-42F7-8E09-ABBF29C27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 Vacanc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7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1"/>
          <a:srcRect l="4093" t="5827" r="48629" b="73932"/>
          <a:stretch/>
        </p:blipFill>
        <p:spPr>
          <a:xfrm>
            <a:off x="33480" y="1371600"/>
            <a:ext cx="9034200" cy="3581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4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1"/>
          <a:srcRect l="4093" t="5827" r="48629" b="73932"/>
          <a:stretch/>
        </p:blipFill>
        <p:spPr>
          <a:xfrm>
            <a:off x="317520" y="1371600"/>
            <a:ext cx="8458200" cy="3352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4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304920" y="1447920"/>
            <a:ext cx="8458200" cy="4635720"/>
            <a:chOff x="304920" y="1447920"/>
            <a:chExt cx="8458200" cy="4635720"/>
          </a:xfrm>
        </p:grpSpPr>
        <p:sp>
          <p:nvSpPr>
            <p:cNvPr id="61" name="Text Box 16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 Nail, eyes in cave, bat’s toes, pebble, snowcaps, tree, st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>
              <a:off x="2057400" y="396252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>
              <a:off x="7696440" y="3282480"/>
              <a:ext cx="457200" cy="7617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3810240" y="3276720"/>
              <a:ext cx="457200" cy="12189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1676520" y="1447920"/>
              <a:ext cx="4572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 rot="19281000">
              <a:off x="3198960" y="2489040"/>
              <a:ext cx="83808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2554920" y="4025160"/>
              <a:ext cx="6094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1"/>
            <p:cNvSpPr/>
            <p:nvPr/>
          </p:nvSpPr>
          <p:spPr>
            <a:xfrm>
              <a:off x="8305920" y="3048120"/>
              <a:ext cx="4572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34:41Z</dcterms:modified>
  <cp:revision>66</cp:revision>
  <dc:subject/>
  <dc:title>Slide 1</dc:title>
</cp:coreProperties>
</file>