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1003-7696-43E8-8DA1-A265BC757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257F-AB91-416F-9E3D-A0F1785D7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026A-A301-4B17-B60B-B837069A1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7018-5259-4FE7-BC5B-B1585F526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5AC-C567-4D30-8B4D-79E1B16A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A93-DF15-45AF-8895-AFE006C1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BD9-4943-4C5A-B489-4C5A52E0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C7B-C01A-4357-BD57-2FA53F39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E14-E8DA-4F28-BBFD-6498A2D4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F15-7143-437D-9A0D-4E06BA25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F7D-90E5-4A3E-868F-8C0D24B5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C5B0-F0E0-4078-B5B0-6B76B5A2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2E9-9578-4F81-94F7-2988B33B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91A-2EBF-4499-A09F-41948AA3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063-553A-441B-909D-92C1A6B0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903-2160-4619-99AE-72CD7FF9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678F-E9E0-4DFA-9E4F-90D90411B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olden Trea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rcRect l="4780" t="20000" r="48629" b="57013"/>
          <a:stretch/>
        </p:blipFill>
        <p:spPr>
          <a:xfrm>
            <a:off x="0" y="129528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317520" y="6400800"/>
            <a:ext cx="41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1"/>
          <a:srcRect l="4780" t="20000" r="48629" b="57013"/>
          <a:stretch/>
        </p:blipFill>
        <p:spPr>
          <a:xfrm>
            <a:off x="0" y="129528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317520" y="6400800"/>
            <a:ext cx="41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304920" y="1676520"/>
            <a:ext cx="8458200" cy="4300200"/>
            <a:chOff x="304920" y="1676520"/>
            <a:chExt cx="8458200" cy="4300200"/>
          </a:xfrm>
        </p:grpSpPr>
        <p:sp>
          <p:nvSpPr>
            <p:cNvPr id="61" name="Text Box 3"/>
            <p:cNvSpPr/>
            <p:nvPr/>
          </p:nvSpPr>
          <p:spPr>
            <a:xfrm>
              <a:off x="304920" y="5334120"/>
              <a:ext cx="845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s: Missing coin, belly button, tooth,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irt hem, sword, missing polka d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5"/>
            <p:cNvSpPr/>
            <p:nvPr/>
          </p:nvSpPr>
          <p:spPr>
            <a:xfrm>
              <a:off x="2209680" y="388620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>
              <a:off x="6553440" y="373392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>
              <a:off x="5562720" y="243828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>
              <a:off x="1828800" y="320040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>
              <a:off x="7848720" y="167652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7544160" y="297180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7:37Z</dcterms:modified>
  <cp:revision>63</cp:revision>
  <dc:subject/>
  <dc:title>Slide 1</dc:title>
</cp:coreProperties>
</file>