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F028-BDEA-4B6F-8359-9CAA7088C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C7D6-5017-4493-ADA1-35B3B8E9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785E-D7D4-4665-B916-90407A2B0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A81A-CC63-4E78-983F-43E889C57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140-6528-4293-B0D3-1C7B7983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C16-817F-4FC0-AEE7-77502E1F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F0B-1384-4B73-AED4-325226F3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678-1713-4D54-9746-D97E4152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92A-C5D4-44D9-AD0E-558372FB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B5D-5DF5-48A8-A34A-2200B592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B3E-7179-473D-A220-F60F8A3A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D01-AE33-4E20-B6E0-BBC84263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1DF-3194-4121-B38B-C806A91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A9F-10B8-4C13-92CB-A7DEE70C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EFA-EA39-4F10-A7E6-A4CD1A4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EB2C-3344-445D-9A7D-942D1E67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8318-E480-4E9E-8613-14C45AA7F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lden Treas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rcRect l="4780" t="20000" r="48629" b="57013"/>
          <a:stretch/>
        </p:blipFill>
        <p:spPr>
          <a:xfrm>
            <a:off x="0" y="12952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317520" y="64008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rcRect l="4780" t="20000" r="48629" b="57013"/>
          <a:stretch/>
        </p:blipFill>
        <p:spPr>
          <a:xfrm>
            <a:off x="0" y="12952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317520" y="64008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676520"/>
            <a:ext cx="8458200" cy="4300200"/>
            <a:chOff x="304920" y="1676520"/>
            <a:chExt cx="8458200" cy="4300200"/>
          </a:xfrm>
        </p:grpSpPr>
        <p:sp>
          <p:nvSpPr>
            <p:cNvPr id="61" name="Text Box 3"/>
            <p:cNvSpPr/>
            <p:nvPr/>
          </p:nvSpPr>
          <p:spPr>
            <a:xfrm>
              <a:off x="304920" y="5334120"/>
              <a:ext cx="84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s: Missing coin, belly button, tooth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irt hem, sword, missing polka d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2209680" y="388620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6553440" y="37339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5562720" y="243828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7848720" y="16765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7544160" y="297180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7:37Z</dcterms:modified>
  <cp:revision>63</cp:revision>
  <dc:subject/>
  <dc:title>Slide 1</dc:title>
</cp:coreProperties>
</file>