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E31-3351-4D79-A603-C7188CCD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A6F-7CDD-4989-AD57-1D50E198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8FD-ECC4-46C8-8E5C-739EE284A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6541-AD5B-48B2-BC44-90BB54DC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1AF-46D5-499A-822E-9C305475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70C-4335-4064-8D91-67C643FF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109-4080-4342-85C0-DB0D26E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B36-5CB7-486C-88DC-70152938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C42-0092-438B-AC11-694C8830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470-0F39-4D86-BE7B-6AD3413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B11-8F64-4698-808E-D365B4AC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8E9-1D11-49A8-A8E1-D671E0FC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D29-C4FA-4BAF-8ABE-0A698614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CCE-CC82-4BAB-B55A-7A6D31D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2FB-0ADA-476F-BC81-0C74454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394-29E1-4ED5-9925-64DA1B9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6B94-B971-4C88-BB54-BDA08694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Tied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rcRect l="29805" t="6535" r="49459" b="73204"/>
          <a:stretch/>
        </p:blipFill>
        <p:spPr>
          <a:xfrm>
            <a:off x="4541760" y="1503360"/>
            <a:ext cx="4473720" cy="32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0"/>
          <p:cNvSpPr/>
          <p:nvPr/>
        </p:nvSpPr>
        <p:spPr>
          <a:xfrm>
            <a:off x="190440" y="6400800"/>
            <a:ext cx="39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2"/>
          <a:srcRect l="4920" t="6535" r="74344" b="73204"/>
          <a:stretch/>
        </p:blipFill>
        <p:spPr>
          <a:xfrm>
            <a:off x="100080" y="1503360"/>
            <a:ext cx="4471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"/>
          <p:cNvPicPr/>
          <p:nvPr/>
        </p:nvPicPr>
        <p:blipFill>
          <a:blip r:embed="rId1"/>
          <a:srcRect l="29805" t="6535" r="49459" b="73204"/>
          <a:stretch/>
        </p:blipFill>
        <p:spPr>
          <a:xfrm>
            <a:off x="4541760" y="1503360"/>
            <a:ext cx="447372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0"/>
          <p:cNvSpPr/>
          <p:nvPr/>
        </p:nvSpPr>
        <p:spPr>
          <a:xfrm>
            <a:off x="190440" y="6400800"/>
            <a:ext cx="39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4920" t="6535" r="74344" b="73204"/>
          <a:stretch/>
        </p:blipFill>
        <p:spPr>
          <a:xfrm>
            <a:off x="100080" y="1503360"/>
            <a:ext cx="44719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3"/>
          <p:cNvGrpSpPr/>
          <p:nvPr/>
        </p:nvGrpSpPr>
        <p:grpSpPr>
          <a:xfrm>
            <a:off x="228600" y="1371600"/>
            <a:ext cx="8534520" cy="4712040"/>
            <a:chOff x="228600" y="1371600"/>
            <a:chExt cx="8534520" cy="4712040"/>
          </a:xfrm>
        </p:grpSpPr>
        <p:sp>
          <p:nvSpPr>
            <p:cNvPr id="64" name="Text Box 16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Tail feathers, snake’s tail, branch, ape’s finger, croc’s nostril, 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"/>
            <p:cNvSpPr/>
            <p:nvPr/>
          </p:nvSpPr>
          <p:spPr>
            <a:xfrm>
              <a:off x="304560" y="3124080"/>
              <a:ext cx="761760" cy="83808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228600" y="1371600"/>
              <a:ext cx="1066680" cy="11430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3657600" y="3352680"/>
              <a:ext cx="609480" cy="53316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867640" y="3124080"/>
              <a:ext cx="60948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1"/>
            <p:cNvSpPr/>
            <p:nvPr/>
          </p:nvSpPr>
          <p:spPr>
            <a:xfrm>
              <a:off x="6782040" y="3886200"/>
              <a:ext cx="990360" cy="6858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2"/>
            <p:cNvSpPr/>
            <p:nvPr/>
          </p:nvSpPr>
          <p:spPr>
            <a:xfrm>
              <a:off x="7010640" y="1752480"/>
              <a:ext cx="609480" cy="53316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7:41Z</dcterms:modified>
  <cp:revision>53</cp:revision>
  <dc:subject/>
  <dc:title>Slide 1</dc:title>
</cp:coreProperties>
</file>