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2F5F-705D-4E75-8F1F-9F9F2701F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7091-753C-4322-BD2C-4E0392FD5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5C59-CCC4-49C8-BD56-84D4D658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9D31-C68A-4D8F-B444-1F702143D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8A3-BD72-4A82-8F2C-D3DFBD30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224-067F-4F2C-97E0-AE6BA9BD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F00-BEF5-462D-842A-3CFD42F1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1CE-ADC3-4B41-9C2A-81736CDC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4F2-F730-463E-9F6F-6FB860D7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51E-5720-4394-AAC3-C436CC76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858-234D-47E9-87F5-ECA4CF0D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F9E-3478-4E86-851E-230DCE80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B8B-52BD-42D2-9AC6-CE22A8BE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12F-9D4F-4FB2-A909-5D6D8459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F7F-BB4E-40E7-9BCD-38B8BA33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842-F463-444B-8FE5-A35AC1D5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D688-0A33-413B-93AA-DEA20C84F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l Tied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1"/>
          <a:srcRect l="29805" t="6535" r="49459" b="73204"/>
          <a:stretch/>
        </p:blipFill>
        <p:spPr>
          <a:xfrm>
            <a:off x="4541760" y="1503360"/>
            <a:ext cx="4473720" cy="32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0"/>
          <p:cNvSpPr/>
          <p:nvPr/>
        </p:nvSpPr>
        <p:spPr>
          <a:xfrm>
            <a:off x="190440" y="6400800"/>
            <a:ext cx="39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"/>
          <p:cNvPicPr/>
          <p:nvPr/>
        </p:nvPicPr>
        <p:blipFill>
          <a:blip r:embed="rId2"/>
          <a:srcRect l="4920" t="6535" r="74344" b="73204"/>
          <a:stretch/>
        </p:blipFill>
        <p:spPr>
          <a:xfrm>
            <a:off x="100080" y="1503360"/>
            <a:ext cx="4471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"/>
          <p:cNvPicPr/>
          <p:nvPr/>
        </p:nvPicPr>
        <p:blipFill>
          <a:blip r:embed="rId1"/>
          <a:srcRect l="29805" t="6535" r="49459" b="73204"/>
          <a:stretch/>
        </p:blipFill>
        <p:spPr>
          <a:xfrm>
            <a:off x="4541760" y="1503360"/>
            <a:ext cx="4473720" cy="327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0"/>
          <p:cNvSpPr/>
          <p:nvPr/>
        </p:nvSpPr>
        <p:spPr>
          <a:xfrm>
            <a:off x="190440" y="6400800"/>
            <a:ext cx="39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4920" t="6535" r="74344" b="73204"/>
          <a:stretch/>
        </p:blipFill>
        <p:spPr>
          <a:xfrm>
            <a:off x="100080" y="1503360"/>
            <a:ext cx="447192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13"/>
          <p:cNvGrpSpPr/>
          <p:nvPr/>
        </p:nvGrpSpPr>
        <p:grpSpPr>
          <a:xfrm>
            <a:off x="228600" y="1371600"/>
            <a:ext cx="8534520" cy="4712040"/>
            <a:chOff x="228600" y="1371600"/>
            <a:chExt cx="8534520" cy="4712040"/>
          </a:xfrm>
        </p:grpSpPr>
        <p:sp>
          <p:nvSpPr>
            <p:cNvPr id="64" name="Text Box 16"/>
            <p:cNvSpPr/>
            <p:nvPr/>
          </p:nvSpPr>
          <p:spPr>
            <a:xfrm>
              <a:off x="304560" y="571536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Tail feathers, snake’s tail, branch, ape’s finger, croc’s nostril, 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"/>
            <p:cNvSpPr/>
            <p:nvPr/>
          </p:nvSpPr>
          <p:spPr>
            <a:xfrm>
              <a:off x="304560" y="3124080"/>
              <a:ext cx="761760" cy="83808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228600" y="1371600"/>
              <a:ext cx="1066680" cy="11430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3657600" y="3352680"/>
              <a:ext cx="609480" cy="53316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5867640" y="3124080"/>
              <a:ext cx="60948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1"/>
            <p:cNvSpPr/>
            <p:nvPr/>
          </p:nvSpPr>
          <p:spPr>
            <a:xfrm>
              <a:off x="6782040" y="3886200"/>
              <a:ext cx="990360" cy="6858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2"/>
            <p:cNvSpPr/>
            <p:nvPr/>
          </p:nvSpPr>
          <p:spPr>
            <a:xfrm>
              <a:off x="7010640" y="1752480"/>
              <a:ext cx="609480" cy="53316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7:41Z</dcterms:modified>
  <cp:revision>53</cp:revision>
  <dc:subject/>
  <dc:title>Slide 1</dc:title>
</cp:coreProperties>
</file>