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988-C2C7-41D6-B0A8-B0EA49B4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957E-6DFD-4326-9769-72FE8A50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9F53-A477-489F-B2FE-472039F7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9D87-0A5C-44A7-A664-48BD412C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9EB-A9DB-4B7B-B9BF-8DE70F9D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977-B975-41FB-85B0-15E9FEA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591-3BAE-4A6C-A83A-8040B080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7F0-48C7-445A-B210-E7CE317F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07B-5070-45B2-9BBA-5B3C0F8D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A39-6757-41A7-9C79-91475DE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520-A2F3-46B4-A940-B1816661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73F-F692-4F5B-8A09-E0D852B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655-12F1-48A1-807F-E5AC6E7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EA6-1809-4841-8938-B30C726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8D1-9C30-4BA6-9D67-37D52F2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29F-40DA-454B-AAEA-96E2F66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66D6-CFE5-4003-B4D9-754E3CBB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st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1"/>
          <a:srcRect l="4496" t="18971" r="48629" b="58022"/>
          <a:stretch/>
        </p:blipFill>
        <p:spPr>
          <a:xfrm>
            <a:off x="228600" y="1295280"/>
            <a:ext cx="853596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317520" y="6400800"/>
            <a:ext cx="43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rcRect l="4496" t="18971" r="48629" b="58022"/>
          <a:stretch/>
        </p:blipFill>
        <p:spPr>
          <a:xfrm>
            <a:off x="228600" y="1295280"/>
            <a:ext cx="853596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317520" y="6400800"/>
            <a:ext cx="43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828800"/>
            <a:ext cx="8458200" cy="4254840"/>
            <a:chOff x="304920" y="1828800"/>
            <a:chExt cx="8458200" cy="4254840"/>
          </a:xfrm>
        </p:grpSpPr>
        <p:sp>
          <p:nvSpPr>
            <p:cNvPr id="61" name="Text Box 3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s: Apple stem, exclamation point, keyhole, girl’s paper, clock, pe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3353040" y="1828800"/>
              <a:ext cx="457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1905120" y="213336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457200" y="28954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2362320" y="3886200"/>
              <a:ext cx="7617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3733920" y="3886200"/>
              <a:ext cx="7617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4800600" y="3124080"/>
              <a:ext cx="7617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7:09Z</dcterms:modified>
  <cp:revision>65</cp:revision>
  <dc:subject/>
  <dc:title>Slide 1</dc:title>
</cp:coreProperties>
</file>