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53EC-0A6D-400E-B98F-DFE2DF840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246C-FA17-4DCF-9C9A-3825D8147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BC5D-A0E5-43C2-8D2C-CFAB7C81D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C84C-9A90-45A7-BAA0-27A94D21C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E1C-F8F1-46F5-890B-7FED28A9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375-4916-4122-901C-98BA0786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AEA-B427-41F7-896E-0C051AB2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A9D-996B-44F4-9460-75E8905F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80E-B06C-4C53-BF9D-1E3E781E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ED0-1F7C-404E-8083-473B7B66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0AC-E942-4C9F-8432-74C66C48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CDF-68B6-4D22-8AE0-A47E7E7C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947-07B2-443E-B06C-507C32D5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6FE-E449-4C4E-B23C-476450B4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9C0-735B-420A-B90B-6E784ADB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540-07E2-4151-A9AE-E0C38066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F6BE-1911-416A-80CD-5530311B9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st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"/>
          <p:cNvPicPr/>
          <p:nvPr/>
        </p:nvPicPr>
        <p:blipFill>
          <a:blip r:embed="rId1"/>
          <a:srcRect l="4496" t="18971" r="48629" b="58022"/>
          <a:stretch/>
        </p:blipFill>
        <p:spPr>
          <a:xfrm>
            <a:off x="228600" y="1295280"/>
            <a:ext cx="8535960" cy="3505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2"/>
          <p:cNvSpPr/>
          <p:nvPr/>
        </p:nvSpPr>
        <p:spPr>
          <a:xfrm>
            <a:off x="317520" y="6400800"/>
            <a:ext cx="43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1"/>
          <a:srcRect l="4496" t="18971" r="48629" b="58022"/>
          <a:stretch/>
        </p:blipFill>
        <p:spPr>
          <a:xfrm>
            <a:off x="228600" y="1295280"/>
            <a:ext cx="8535960" cy="3505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317520" y="6400800"/>
            <a:ext cx="43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1828800"/>
            <a:ext cx="8458200" cy="4254840"/>
            <a:chOff x="304920" y="1828800"/>
            <a:chExt cx="8458200" cy="4254840"/>
          </a:xfrm>
        </p:grpSpPr>
        <p:sp>
          <p:nvSpPr>
            <p:cNvPr id="61" name="Text Box 3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s: Apple stem, exclamation point, keyhole, girl’s paper, clock, penc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>
              <a:off x="3353040" y="1828800"/>
              <a:ext cx="4572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>
              <a:off x="1905120" y="213336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457200" y="289548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2362320" y="3886200"/>
              <a:ext cx="7617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3733920" y="3886200"/>
              <a:ext cx="7617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4800600" y="3124080"/>
              <a:ext cx="7617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7:09Z</dcterms:modified>
  <cp:revision>65</cp:revision>
  <dc:subject/>
  <dc:title>Slide 1</dc:title>
</cp:coreProperties>
</file>