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DBEE-4B02-41FE-AF25-53246CFF8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5F31-8B1D-4E1C-898A-C3168DB14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D14F-4974-44DC-B05B-76E548DE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3601-F59B-4650-A282-7BCF7A65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C63-5945-4DEF-960B-B443F70E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56A6-1446-4A93-A717-42617129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3CEF-60FA-46C5-AB9C-F915E024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8D0-FFB5-4F46-9354-FEAE1EFB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EDD7-C62E-46B0-B28B-CAADA99F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239F-D913-4F58-8242-F1C235E8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E476-F244-4DD9-8FB4-D9FB23AA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59CE-9A15-49AB-BD0D-7F9971AC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93D-0D4A-444F-8AF1-DC21EB42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A3C-B834-4FC7-930A-76110494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9E03-1CE0-40EA-A3F9-E9EEEAFC0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alk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5" descr=""/>
          <p:cNvPicPr/>
          <p:nvPr/>
        </p:nvPicPr>
        <p:blipFill>
          <a:blip r:embed="rId1"/>
          <a:srcRect l="4093" t="19508" r="48629" b="56767"/>
          <a:stretch/>
        </p:blipFill>
        <p:spPr>
          <a:xfrm>
            <a:off x="141120" y="1295280"/>
            <a:ext cx="8836200" cy="38102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6"/>
          <p:cNvSpPr/>
          <p:nvPr/>
        </p:nvSpPr>
        <p:spPr>
          <a:xfrm>
            <a:off x="317520" y="6400800"/>
            <a:ext cx="39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5" descr=""/>
          <p:cNvPicPr/>
          <p:nvPr/>
        </p:nvPicPr>
        <p:blipFill>
          <a:blip r:embed="rId1"/>
          <a:srcRect l="4093" t="19508" r="48629" b="56767"/>
          <a:stretch/>
        </p:blipFill>
        <p:spPr>
          <a:xfrm>
            <a:off x="141120" y="1295280"/>
            <a:ext cx="8836200" cy="38102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6"/>
          <p:cNvSpPr/>
          <p:nvPr/>
        </p:nvSpPr>
        <p:spPr>
          <a:xfrm>
            <a:off x="317520" y="6400800"/>
            <a:ext cx="39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304920" y="1523880"/>
            <a:ext cx="8458200" cy="4559760"/>
            <a:chOff x="304920" y="1523880"/>
            <a:chExt cx="8458200" cy="4559760"/>
          </a:xfrm>
        </p:grpSpPr>
        <p:sp>
          <p:nvSpPr>
            <p:cNvPr id="61" name="Text Box 16"/>
            <p:cNvSpPr/>
            <p:nvPr/>
          </p:nvSpPr>
          <p:spPr>
            <a:xfrm>
              <a:off x="304920" y="571536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Hair tie, mouse hole, table leg, phone, phone cord, missing watch b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5"/>
            <p:cNvSpPr/>
            <p:nvPr/>
          </p:nvSpPr>
          <p:spPr>
            <a:xfrm rot="19281000">
              <a:off x="2928960" y="3912840"/>
              <a:ext cx="51732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"/>
            <p:cNvSpPr/>
            <p:nvPr/>
          </p:nvSpPr>
          <p:spPr>
            <a:xfrm rot="19281000">
              <a:off x="3386160" y="4446360"/>
              <a:ext cx="51732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7"/>
            <p:cNvSpPr/>
            <p:nvPr/>
          </p:nvSpPr>
          <p:spPr>
            <a:xfrm rot="19281000">
              <a:off x="871560" y="1626840"/>
              <a:ext cx="51732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8"/>
            <p:cNvSpPr/>
            <p:nvPr/>
          </p:nvSpPr>
          <p:spPr>
            <a:xfrm rot="19281000">
              <a:off x="947880" y="4141440"/>
              <a:ext cx="51732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9"/>
            <p:cNvSpPr/>
            <p:nvPr/>
          </p:nvSpPr>
          <p:spPr>
            <a:xfrm rot="313800">
              <a:off x="7488000" y="2852280"/>
              <a:ext cx="738000" cy="4982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0"/>
            <p:cNvSpPr/>
            <p:nvPr/>
          </p:nvSpPr>
          <p:spPr>
            <a:xfrm rot="313800">
              <a:off x="5578200" y="2917800"/>
              <a:ext cx="514080" cy="5000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26:53Z</dcterms:modified>
  <cp:revision>59</cp:revision>
  <dc:subject/>
  <dc:title>Slide 1</dc:title>
</cp:coreProperties>
</file>