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2F16-1B57-4251-8342-6431D7A6C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A597-4590-47DC-8E98-533CEBC11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1CF3-7D2D-485E-BDBD-B55633F3B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5BAC-3EA0-4A34-8FD0-61518D09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2EB1-975A-4D15-B6A9-F6D29F634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7D0D-2BA2-417D-B1E3-E012BF83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29E6-B54C-43C8-82B1-9072FF6A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071F-5C80-49E1-8AAE-4DD1B5E9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9439-4437-4987-A7D1-1967E422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0E05-6D86-4BC8-B240-FB0B2C8A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D997-FD95-4B27-96A8-8B90F7E8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667A-B042-4B3B-AE26-CA8129D3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0915-C422-45D7-B5EB-27EDC787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5CD7-CC5F-4BA6-9810-A3750EA3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AB82-DEE5-4E28-B681-4BD87E011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304920" y="304920"/>
            <a:ext cx="2425680" cy="2361600"/>
            <a:chOff x="304920" y="304920"/>
            <a:chExt cx="2425680" cy="2361600"/>
          </a:xfrm>
        </p:grpSpPr>
        <p:pic>
          <p:nvPicPr>
            <p:cNvPr id="49" name="Picture 3" descr="j0308091"/>
            <p:cNvPicPr/>
            <p:nvPr/>
          </p:nvPicPr>
          <p:blipFill>
            <a:blip r:embed="rId1"/>
            <a:stretch/>
          </p:blipFill>
          <p:spPr>
            <a:xfrm>
              <a:off x="466560" y="304920"/>
              <a:ext cx="160884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4"/>
            <p:cNvSpPr txBox="1"/>
            <p:nvPr/>
          </p:nvSpPr>
          <p:spPr>
            <a:xfrm>
              <a:off x="304920" y="911520"/>
              <a:ext cx="2425680" cy="17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5"/>
          <p:cNvSpPr/>
          <p:nvPr/>
        </p:nvSpPr>
        <p:spPr>
          <a:xfrm>
            <a:off x="838080" y="4952880"/>
            <a:ext cx="7239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alk 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th Grade Forensic Sci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7"/>
          <p:cNvSpPr txBox="1"/>
          <p:nvPr/>
        </p:nvSpPr>
        <p:spPr>
          <a:xfrm>
            <a:off x="990720" y="2438280"/>
            <a:ext cx="7315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Spot the Differences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pic>
        <p:nvPicPr>
          <p:cNvPr id="53" name="Picture 8" descr="MCj04377970000[1]"/>
          <p:cNvPicPr/>
          <p:nvPr/>
        </p:nvPicPr>
        <p:blipFill>
          <a:blip r:embed="rId2"/>
          <a:stretch/>
        </p:blipFill>
        <p:spPr>
          <a:xfrm>
            <a:off x="6019920" y="1523880"/>
            <a:ext cx="18540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5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6 differences between the two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5" descr=""/>
          <p:cNvPicPr/>
          <p:nvPr/>
        </p:nvPicPr>
        <p:blipFill>
          <a:blip r:embed="rId1"/>
          <a:srcRect l="4093" t="19508" r="48629" b="56767"/>
          <a:stretch/>
        </p:blipFill>
        <p:spPr>
          <a:xfrm>
            <a:off x="141120" y="1295280"/>
            <a:ext cx="8836200" cy="38102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6"/>
          <p:cNvSpPr/>
          <p:nvPr/>
        </p:nvSpPr>
        <p:spPr>
          <a:xfrm>
            <a:off x="317520" y="6400800"/>
            <a:ext cx="39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5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5" descr=""/>
          <p:cNvPicPr/>
          <p:nvPr/>
        </p:nvPicPr>
        <p:blipFill>
          <a:blip r:embed="rId1"/>
          <a:srcRect l="4093" t="19508" r="48629" b="56767"/>
          <a:stretch/>
        </p:blipFill>
        <p:spPr>
          <a:xfrm>
            <a:off x="141120" y="1295280"/>
            <a:ext cx="8836200" cy="38102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6"/>
          <p:cNvSpPr/>
          <p:nvPr/>
        </p:nvSpPr>
        <p:spPr>
          <a:xfrm>
            <a:off x="317520" y="6400800"/>
            <a:ext cx="39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1"/>
          <p:cNvGrpSpPr/>
          <p:nvPr/>
        </p:nvGrpSpPr>
        <p:grpSpPr>
          <a:xfrm>
            <a:off x="304920" y="1523880"/>
            <a:ext cx="8458200" cy="4559760"/>
            <a:chOff x="304920" y="1523880"/>
            <a:chExt cx="8458200" cy="4559760"/>
          </a:xfrm>
        </p:grpSpPr>
        <p:sp>
          <p:nvSpPr>
            <p:cNvPr id="61" name="Text Box 16"/>
            <p:cNvSpPr/>
            <p:nvPr/>
          </p:nvSpPr>
          <p:spPr>
            <a:xfrm>
              <a:off x="304920" y="5715360"/>
              <a:ext cx="84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s: Hair tie, mouse hole, table leg, phone, phone cord, missing watch b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5"/>
            <p:cNvSpPr/>
            <p:nvPr/>
          </p:nvSpPr>
          <p:spPr>
            <a:xfrm rot="19281000">
              <a:off x="2928960" y="3912840"/>
              <a:ext cx="517320" cy="5331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"/>
            <p:cNvSpPr/>
            <p:nvPr/>
          </p:nvSpPr>
          <p:spPr>
            <a:xfrm rot="19281000">
              <a:off x="3386160" y="4446360"/>
              <a:ext cx="517320" cy="5331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7"/>
            <p:cNvSpPr/>
            <p:nvPr/>
          </p:nvSpPr>
          <p:spPr>
            <a:xfrm rot="19281000">
              <a:off x="871560" y="1626840"/>
              <a:ext cx="517320" cy="5331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8"/>
            <p:cNvSpPr/>
            <p:nvPr/>
          </p:nvSpPr>
          <p:spPr>
            <a:xfrm rot="19281000">
              <a:off x="947880" y="4141440"/>
              <a:ext cx="517320" cy="5331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9"/>
            <p:cNvSpPr/>
            <p:nvPr/>
          </p:nvSpPr>
          <p:spPr>
            <a:xfrm rot="313800">
              <a:off x="7488000" y="2852280"/>
              <a:ext cx="738000" cy="4982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0"/>
            <p:cNvSpPr/>
            <p:nvPr/>
          </p:nvSpPr>
          <p:spPr>
            <a:xfrm rot="313800">
              <a:off x="5578200" y="2917800"/>
              <a:ext cx="514080" cy="5000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08-22T21:26:53Z</dcterms:modified>
  <cp:revision>59</cp:revision>
  <dc:subject/>
  <dc:title>Slide 1</dc:title>
</cp:coreProperties>
</file>