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86B1-3FFD-4D0E-BAE5-6A36CE8D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3BD-8021-47C0-9234-FFD18A4F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BA8-2C08-42AE-A604-9EAB6E74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38E-E50F-4FD3-B276-F5A72F87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AA6-943D-4005-B88C-9C70FD3C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644-7A7F-4AE2-9221-C513BCA1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6DA-4775-4446-9028-4D3B0329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42C-AFCB-419E-9063-62B094F1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0A0-ECC8-417D-AB03-817DB61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30D-4D28-4E82-8C25-86E12474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537-3274-4A12-8346-E5F21C33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F27-249E-4A6A-B64B-D894792E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BE2-37DC-43B7-9230-938D794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387-A897-4744-982C-EEEB663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3E9-1947-40E4-967E-2FC4E71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EE3-37BF-4C6D-B2F0-4C86CFA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7051-B78D-4455-AC78-6701584F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-Rex Terr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4983" t="5979" r="49323" b="70915"/>
          <a:stretch/>
        </p:blipFill>
        <p:spPr>
          <a:xfrm>
            <a:off x="152280" y="1523880"/>
            <a:ext cx="883944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4983" t="5979" r="49323" b="70915"/>
          <a:stretch/>
        </p:blipFill>
        <p:spPr>
          <a:xfrm>
            <a:off x="152280" y="1523880"/>
            <a:ext cx="883944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152280" y="1523880"/>
            <a:ext cx="8610840" cy="4559760"/>
            <a:chOff x="152280" y="1523880"/>
            <a:chExt cx="8610840" cy="4559760"/>
          </a:xfrm>
        </p:grpSpPr>
        <p:sp>
          <p:nvSpPr>
            <p:cNvPr id="62" name="Text Box 3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Button, step, window, tail bones, girl’s eyes, claw 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077840" y="3919680"/>
              <a:ext cx="457200" cy="3808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568160" y="3581280"/>
              <a:ext cx="457200" cy="3808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52280" y="2895480"/>
              <a:ext cx="457200" cy="6094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7239240" y="1523880"/>
              <a:ext cx="457200" cy="6094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4572000" y="1981080"/>
              <a:ext cx="457200" cy="10666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8153640" y="1676160"/>
              <a:ext cx="609480" cy="6094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8:00Z</dcterms:modified>
  <cp:revision>59</cp:revision>
  <dc:subject/>
  <dc:title>Slide 1</dc:title>
</cp:coreProperties>
</file>