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F106-2FE2-400D-9EAF-E3184E955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4205-A46F-4A51-8C5E-A0B8C5575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0FFD-5872-4C61-9227-C9222F161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1BE1-75BF-4F89-8D83-EABAC6B5D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E50-16BE-48C6-B371-0E5B83E3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A4A-95CB-4F6E-AED8-92339338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69D8-57B1-4CD6-8017-4350A583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200-AA94-45A7-8991-73B96AD0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176-0469-4086-8E52-01CD1F47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1BD5-5F06-43F0-83AA-EE14B724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2C99-D31C-4D2A-8E25-E7B9B9A4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755-D443-4970-AA7D-1D87B3B9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6817-217D-48C3-A940-04170A17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7ED4-1482-49DF-98D0-1A903358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CC7E-E837-4A12-AB8F-DE061EC9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C287-B480-43F7-BAA1-88A90BEF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009D-4BFE-45A8-94F1-CB153C3A2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cary Mov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rcRect l="4093" t="19316" r="48629" b="58858"/>
          <a:stretch/>
        </p:blipFill>
        <p:spPr>
          <a:xfrm>
            <a:off x="0" y="1219320"/>
            <a:ext cx="9012240" cy="3886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1"/>
          <a:srcRect l="4093" t="19316" r="48629" b="58858"/>
          <a:stretch/>
        </p:blipFill>
        <p:spPr>
          <a:xfrm>
            <a:off x="0" y="1219320"/>
            <a:ext cx="9012240" cy="38862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1"/>
          <p:cNvSpPr/>
          <p:nvPr/>
        </p:nvSpPr>
        <p:spPr>
          <a:xfrm>
            <a:off x="317520" y="6400800"/>
            <a:ext cx="41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304920" y="1371600"/>
            <a:ext cx="8458200" cy="4681440"/>
            <a:chOff x="304920" y="1371600"/>
            <a:chExt cx="8458200" cy="4681440"/>
          </a:xfrm>
        </p:grpSpPr>
        <p:sp>
          <p:nvSpPr>
            <p:cNvPr id="61" name="Text Box 3"/>
            <p:cNvSpPr/>
            <p:nvPr/>
          </p:nvSpPr>
          <p:spPr>
            <a:xfrm>
              <a:off x="304920" y="5410440"/>
              <a:ext cx="845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s: Man’s shirt, movie projector, missing popcorn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ssing girl’s tooth, woman’s hair, missing chair 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5"/>
            <p:cNvSpPr/>
            <p:nvPr/>
          </p:nvSpPr>
          <p:spPr>
            <a:xfrm>
              <a:off x="1523880" y="1371600"/>
              <a:ext cx="838080" cy="8380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"/>
            <p:cNvSpPr/>
            <p:nvPr/>
          </p:nvSpPr>
          <p:spPr>
            <a:xfrm>
              <a:off x="533520" y="3048120"/>
              <a:ext cx="83808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7"/>
            <p:cNvSpPr/>
            <p:nvPr/>
          </p:nvSpPr>
          <p:spPr>
            <a:xfrm>
              <a:off x="1600200" y="3733920"/>
              <a:ext cx="83808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8"/>
            <p:cNvSpPr/>
            <p:nvPr/>
          </p:nvSpPr>
          <p:spPr>
            <a:xfrm>
              <a:off x="7010640" y="3200400"/>
              <a:ext cx="53316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9"/>
            <p:cNvSpPr/>
            <p:nvPr/>
          </p:nvSpPr>
          <p:spPr>
            <a:xfrm>
              <a:off x="7239240" y="2361960"/>
              <a:ext cx="76176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"/>
            <p:cNvSpPr/>
            <p:nvPr/>
          </p:nvSpPr>
          <p:spPr>
            <a:xfrm>
              <a:off x="2438280" y="2514600"/>
              <a:ext cx="76176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6:35Z</dcterms:modified>
  <cp:revision>64</cp:revision>
  <dc:subject/>
  <dc:title>Slide 1</dc:title>
</cp:coreProperties>
</file>