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80F2-3A6C-4D24-BD8C-998DC0A2C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828C-F633-440E-9DF1-7D8B88F8B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6E8E-9B1D-4464-B6AB-0B82D5B79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563D-6BBF-4AED-8AD8-A955EE3A7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90C-3B29-4A93-BA75-87E7CBCF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920-3D9F-4704-9F61-3292EF21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4365-498B-4247-9263-BC171B79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63A-65F4-4BC0-B1BD-F5D84C18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5D0-4D85-42CF-8555-34C9B116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8C58-A627-454A-BF11-2B15BB3F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CF3-A087-4E50-9D50-47B2B0F7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E18C-0CCB-47F5-9B22-4D7B1EE1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DC8D-9251-418B-9A51-F3D1ECC3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4522-5937-4E0B-99CC-9BE9F857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7D72-3DF0-441B-8E34-7F6F5E58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93C-58BD-42CA-8FCC-8D807841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D671-10A5-4567-BBAB-1A290A848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cary Mov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rcRect l="4093" t="19316" r="48629" b="58858"/>
          <a:stretch/>
        </p:blipFill>
        <p:spPr>
          <a:xfrm>
            <a:off x="0" y="1219320"/>
            <a:ext cx="9012240" cy="3886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317520" y="6400800"/>
            <a:ext cx="41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1"/>
          <a:srcRect l="4093" t="19316" r="48629" b="58858"/>
          <a:stretch/>
        </p:blipFill>
        <p:spPr>
          <a:xfrm>
            <a:off x="0" y="1219320"/>
            <a:ext cx="9012240" cy="38862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1"/>
          <p:cNvSpPr/>
          <p:nvPr/>
        </p:nvSpPr>
        <p:spPr>
          <a:xfrm>
            <a:off x="317520" y="6400800"/>
            <a:ext cx="41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304920" y="1371600"/>
            <a:ext cx="8458200" cy="4681440"/>
            <a:chOff x="304920" y="1371600"/>
            <a:chExt cx="8458200" cy="4681440"/>
          </a:xfrm>
        </p:grpSpPr>
        <p:sp>
          <p:nvSpPr>
            <p:cNvPr id="61" name="Text Box 3"/>
            <p:cNvSpPr/>
            <p:nvPr/>
          </p:nvSpPr>
          <p:spPr>
            <a:xfrm>
              <a:off x="304920" y="5410440"/>
              <a:ext cx="845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s: Man’s shirt, movie projector, missing popcorn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ssing girl’s tooth, woman’s hair, missing chair 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5"/>
            <p:cNvSpPr/>
            <p:nvPr/>
          </p:nvSpPr>
          <p:spPr>
            <a:xfrm>
              <a:off x="1523880" y="1371600"/>
              <a:ext cx="838080" cy="8380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"/>
            <p:cNvSpPr/>
            <p:nvPr/>
          </p:nvSpPr>
          <p:spPr>
            <a:xfrm>
              <a:off x="533520" y="3048120"/>
              <a:ext cx="83808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7"/>
            <p:cNvSpPr/>
            <p:nvPr/>
          </p:nvSpPr>
          <p:spPr>
            <a:xfrm>
              <a:off x="1600200" y="3733920"/>
              <a:ext cx="83808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8"/>
            <p:cNvSpPr/>
            <p:nvPr/>
          </p:nvSpPr>
          <p:spPr>
            <a:xfrm>
              <a:off x="7010640" y="3200400"/>
              <a:ext cx="53316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9"/>
            <p:cNvSpPr/>
            <p:nvPr/>
          </p:nvSpPr>
          <p:spPr>
            <a:xfrm>
              <a:off x="7239240" y="2361960"/>
              <a:ext cx="76176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"/>
            <p:cNvSpPr/>
            <p:nvPr/>
          </p:nvSpPr>
          <p:spPr>
            <a:xfrm>
              <a:off x="2438280" y="2514600"/>
              <a:ext cx="76176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6:35Z</dcterms:modified>
  <cp:revision>64</cp:revision>
  <dc:subject/>
  <dc:title>Slide 1</dc:title>
</cp:coreProperties>
</file>