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64F6-6799-49D4-AE35-088A3AE69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1000-E98D-4CD0-BFE1-4618FE066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16B6-1B7B-44AE-B3A7-244212468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34D4-C07F-4972-A402-FCBBF5B50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3D4-1015-4249-AC22-2F4EDADC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45F-01DF-4B63-81BE-EDB0BCA3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3014-C2B0-485E-9BCC-977F294B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310-54A2-49C4-9A83-DE740E1B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7141-0CA9-491A-A2BC-62F81CA5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BDFD-067F-4DDA-9739-0FC7B68A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8EB-2130-448B-B11A-FB0A8F15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0AE-6FA3-4C2D-B520-4DA980EB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4872-A71B-4113-895A-D7006C4B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B03-568C-435B-B1D8-7C512D33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3D54-9AD8-464E-A4A1-CB36ADDA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4033-F1E8-4CCC-BD83-B18B3A1A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9665-2BC5-4F14-96CC-822FB4B90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lay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rcRect l="5075" t="18209" r="48673" b="58991"/>
          <a:stretch/>
        </p:blipFill>
        <p:spPr>
          <a:xfrm>
            <a:off x="76320" y="1371600"/>
            <a:ext cx="8956440" cy="3292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317520" y="6400800"/>
            <a:ext cx="39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rcRect l="5075" t="18209" r="48673" b="58991"/>
          <a:stretch/>
        </p:blipFill>
        <p:spPr>
          <a:xfrm>
            <a:off x="76320" y="1371600"/>
            <a:ext cx="8956440" cy="32925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317520" y="6400800"/>
            <a:ext cx="39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228600" y="2057400"/>
            <a:ext cx="8534520" cy="4026240"/>
            <a:chOff x="228600" y="2057400"/>
            <a:chExt cx="8534520" cy="4026240"/>
          </a:xfrm>
        </p:grpSpPr>
        <p:sp>
          <p:nvSpPr>
            <p:cNvPr id="62" name="Text Box 3"/>
            <p:cNvSpPr/>
            <p:nvPr/>
          </p:nvSpPr>
          <p:spPr>
            <a:xfrm>
              <a:off x="304560" y="5715360"/>
              <a:ext cx="84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Root, dog’s teeth, leaves, ladder rung, nozzle, rabbit’s h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3429000" y="4191120"/>
              <a:ext cx="761760" cy="609480"/>
            </a:xfrm>
            <a:prstGeom prst="ellipse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7743960" y="2176200"/>
              <a:ext cx="685800" cy="457200"/>
            </a:xfrm>
            <a:prstGeom prst="ellipse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7"/>
            <p:cNvSpPr/>
            <p:nvPr/>
          </p:nvSpPr>
          <p:spPr>
            <a:xfrm>
              <a:off x="3809880" y="2057400"/>
              <a:ext cx="685800" cy="457200"/>
            </a:xfrm>
            <a:prstGeom prst="ellipse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8"/>
            <p:cNvSpPr/>
            <p:nvPr/>
          </p:nvSpPr>
          <p:spPr>
            <a:xfrm>
              <a:off x="2895480" y="2971800"/>
              <a:ext cx="685800" cy="457200"/>
            </a:xfrm>
            <a:prstGeom prst="ellipse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9"/>
            <p:cNvSpPr/>
            <p:nvPr/>
          </p:nvSpPr>
          <p:spPr>
            <a:xfrm>
              <a:off x="5257800" y="2819160"/>
              <a:ext cx="457200" cy="457200"/>
            </a:xfrm>
            <a:prstGeom prst="ellipse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0"/>
            <p:cNvSpPr/>
            <p:nvPr/>
          </p:nvSpPr>
          <p:spPr>
            <a:xfrm>
              <a:off x="228600" y="2438280"/>
              <a:ext cx="457200" cy="457200"/>
            </a:xfrm>
            <a:prstGeom prst="ellipse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6:20Z</dcterms:modified>
  <cp:revision>58</cp:revision>
  <dc:subject/>
  <dc:title>Slide 1</dc:title>
</cp:coreProperties>
</file>