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4240-167E-4D77-8869-E6C58CC1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BBAA-A848-4A10-9F60-6A11919A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854B-EF3E-48EF-8E97-812E8175E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C0EF-7BBD-4401-B9DB-6EC7C9902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111-0924-4FF6-B308-A47503BE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D1A-5012-4191-99F7-02B6B25A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A19-AA43-4D0A-9FE0-169A9F1F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9B4-3CFF-462B-A0EC-FD5C914C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1F0-7BA4-48EE-99EB-7C95427C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E75-2CBE-4AB3-82DC-59751808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995-AE3E-4A6F-8754-AC1ED51D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68A-C001-4D30-BDE1-5AF43C8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9F2-46CA-4F97-A445-A5608690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B9B-F28D-48FF-BD53-1487B5E8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DC2-95A9-4D96-AC46-02E8BA6C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2B0-A4A8-4CEE-AECA-E9EB7A5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7F7D-F9B2-43E5-8793-3247097EE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y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rcRect l="5075" t="18209" r="48673" b="58991"/>
          <a:stretch/>
        </p:blipFill>
        <p:spPr>
          <a:xfrm>
            <a:off x="76320" y="1371600"/>
            <a:ext cx="8956440" cy="3292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rcRect l="5075" t="18209" r="48673" b="58991"/>
          <a:stretch/>
        </p:blipFill>
        <p:spPr>
          <a:xfrm>
            <a:off x="76320" y="1371600"/>
            <a:ext cx="8956440" cy="3292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28600" y="2057400"/>
            <a:ext cx="8534520" cy="4026240"/>
            <a:chOff x="228600" y="2057400"/>
            <a:chExt cx="8534520" cy="4026240"/>
          </a:xfrm>
        </p:grpSpPr>
        <p:sp>
          <p:nvSpPr>
            <p:cNvPr id="62" name="Text Box 3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Root, dog’s teeth, leaves, ladder rung, nozzle, rabbit’s h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3429000" y="4191120"/>
              <a:ext cx="761760" cy="60948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7743960" y="2176200"/>
              <a:ext cx="6858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3809880" y="2057400"/>
              <a:ext cx="6858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2895480" y="2971800"/>
              <a:ext cx="6858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5257800" y="2819160"/>
              <a:ext cx="4572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228600" y="2438280"/>
              <a:ext cx="4572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6:20Z</dcterms:modified>
  <cp:revision>58</cp:revision>
  <dc:subject/>
  <dc:title>Slide 1</dc:title>
</cp:coreProperties>
</file>